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28C-0F36-42C3-8F27-202B540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65E-4498-4DCA-8AFA-B72A772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A8B-5D12-44D0-B592-85E3DF0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256-2E63-4C4B-8915-C7A93809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14E-C247-43CD-A760-86925E6B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938-80F2-4EFD-9D5B-205C099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C1B-36A6-40C3-8D34-9FE65DC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C85-209E-4475-899A-9753316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479-BFEA-40E2-A2DF-092198E8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703-6B38-4D25-951F-49F2892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7F4-8FB3-4BE5-9531-0B5CDDE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394-8241-42FB-81A7-DD0F700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838-A450-4C43-A908-E0B31F25B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dimensional index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index regions in sp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colle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dimensional sale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support nearest neighbor quer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dexing is still a hot and unsolved probl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Exercis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chase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, buyer, seller, store,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are generated once a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best file-organization/indexing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Exercis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line database: Reservations table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#, seat#, date#, occupied, customer-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ing Exercis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log application: load all the logs every night into a data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reports every day (for curious professo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1430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1440" y="1219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36640" y="240336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42670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209680"/>
            <a:ext cx="297180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22920" y="153180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0040" y="153180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1520" y="1515960"/>
            <a:ext cx="174600" cy="180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40280" y="35290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88040" y="35290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40280" y="35290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40280" y="35290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4840" y="404028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61040" y="404028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6680" y="2816280"/>
            <a:ext cx="144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88928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2040" y="2529000"/>
            <a:ext cx="8748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0" y="99"/>
                </a:moveTo>
                <a:lnTo>
                  <a:pt x="54" y="0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57720" y="2541600"/>
            <a:ext cx="76320" cy="146160"/>
          </a:xfrm>
          <a:custGeom>
            <a:avLst/>
            <a:gdLst/>
            <a:ahLst/>
            <a:rect l="l" t="t" r="r" b="b"/>
            <a:pathLst>
              <a:path w="48" h="92">
                <a:moveTo>
                  <a:pt x="0" y="0"/>
                </a:moveTo>
                <a:lnTo>
                  <a:pt x="47" y="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7200" y="447984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72800" y="446400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59200" y="3738600"/>
            <a:ext cx="125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8840" y="2509920"/>
            <a:ext cx="129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‘seattl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53760" y="2509920"/>
            <a:ext cx="171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&gt;’5430000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5480" y="1600200"/>
            <a:ext cx="66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8480" y="3733920"/>
            <a:ext cx="2529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(Simple Nested Loop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3960" y="24494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2280" y="1442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15200" y="1447920"/>
            <a:ext cx="373428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13040" y="2205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480" y="3448080"/>
            <a:ext cx="3292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67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Table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188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 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4240" y="560232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,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able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e through the records of th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 to the index, from there get the records in the file (when would this be better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rted sca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e the relation in order. Implementation depends on relation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them all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iterator mode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operation is implemented by 3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: sets up the data structures and performs init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Next: returns the the next tuple of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: ends the operations. Cleans up the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pipeli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with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ata-driven materializ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’s the same (e.g., sorted s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 Levy</dc:creator>
  <dc:description/>
  <dc:language>en-US</dc:language>
  <cp:lastModifiedBy>Rachel Pottinger</cp:lastModifiedBy>
  <cp:lastPrinted>1999-11-19T18:19:22Z</cp:lastPrinted>
  <dcterms:modified xsi:type="dcterms:W3CDTF">1999-11-19T18:53:55Z</dcterms:modified>
  <cp:revision>39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