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3F9-FFFD-426B-92F9-57C7CE0E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35C-6472-4E69-A55D-68EEAA02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A95-C67C-4A3F-B404-4785C0D0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FB5-F1FE-4705-BA8B-D28D5234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0713-54F3-4199-8E24-02D5A4D8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86D-29B8-47E5-B5CD-763C63B3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9C4-2663-4B3A-AD06-CB69E559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CC9-470A-4333-AB55-CAAEE5DC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E4F-4FA4-4B34-95A2-7D543852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405-C92F-4EDA-8A53-28AA4D55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BAB-4EC9-418A-A537-B819BB09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FEA-17E8-47D5-81E2-57BE32BE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FFEA-60CC-460E-A7E8-02586D05D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175248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92760" y="1954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49960" y="1954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88040" y="1954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9640" y="17175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rel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200" y="263196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wo relation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42900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1112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6832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0676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342900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, C , …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0204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924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9732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8720" y="407988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44197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1112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832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0676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44197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, C , …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0204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924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9732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82040" y="437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10880" y="437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44197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8804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4524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8332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520" y="5603760"/>
            <a:ext cx="81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n we always decompose a relation with no dire conseque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n we see a BCNF violation, how do we decomp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This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: basic defin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of functional dependen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ailment and equivalence of FD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what FD’s say about sets of datab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or finding the closure of a set of attributes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, and add attributes implied by the F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or entailment: Does the set of FDs S entail the dependency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&gt; 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closure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If it includes the attribute B, return Yes. Otherwise, return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or entailment of a set of FDs: does S entail S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the previous algorithm for each FD in S1. Return Yes only if it’s Yes for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or equivalence: apply entailment in both dir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e a relation by identifying BCNF vio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weaken BCNF by considering 3rd normal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ulti-valued dependencies are present, consider 4th normal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relational schema and a set of dependencies, we now know how to put it into normalized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o we always want to do that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Beyond This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built a conceptual model (in E/R or OD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hose entities,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ticulated the constraints on the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translated it into a relational schema in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we do with the data now that it’s in table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query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ombine data from multiple tab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specify what we want from our datab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nd all the employees who earn more than $50,000 and pay taxes in New Jers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esig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gh-level query langu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(used every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log (used by database theoreticians, their students, friends and fami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ational algebra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asic set of operations on relations that provid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sic princip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 at a G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: sets as input, new set as outp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Set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, intersection, difference, but no comple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s table(set) with sam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ch out for naming of attributes in resulting 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: all tuples in R1 or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ection: all tuples in R1 and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:  all tuples in R1 and not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mplement.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gs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 a subset of the tuples in a relation which satisfy a given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ry operation… returns set with same attributes, but ‘selects’ 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d, or, not, &gt;, &lt;… to build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employees with salary more than $40,000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57200" y="582480"/>
          <a:ext cx="8077320" cy="55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82480"/>
                    <a:ext cx="807732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16600" y="3800520"/>
            <a:ext cx="739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nd all employees with salary more than $4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ry operation, selects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duplicate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project social-security number and n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d 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3040" y="2244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040" y="23972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175248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Address                 Move-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6880" y="3581280"/>
            <a:ext cx="35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72428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Move-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962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038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105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5181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400" y="6213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609480" y="584280"/>
          <a:ext cx="7391520" cy="53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84280"/>
                    <a:ext cx="7391520" cy="53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s tuples combining any element of R1 with any element of R2, for R1 X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is union of Schema(R1) &amp; Schema(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374840" y="274680"/>
          <a:ext cx="6357960" cy="627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74680"/>
                    <a:ext cx="6357960" cy="62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(Natu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important, expensive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two relations, selecting only related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to a cross product followed by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ing schema has all attributes of the two relations, but one copy of join condition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143000" y="404640"/>
          <a:ext cx="6629400" cy="58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04640"/>
                    <a:ext cx="662940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Joins and 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ta join: the join involves a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   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-join: the attributes of one relation are included in the 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ing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8080" y="1870200"/>
            <a:ext cx="513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657600"/>
            <a:ext cx="76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hone numbers of people who bought gizmos from F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elephony products that somebody b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6640" y="187020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telephony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uy French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in Seat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stuff from Joe or bough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mpany whose stock prices is more than $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 (and why we ca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5120" y="2590920"/>
            <a:ext cx="3897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(natural join, theta 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This Example, Aga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7960" y="23972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960" y="2549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2000" y="1905120"/>
            <a:ext cx="58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          Name       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19520"/>
            <a:ext cx="58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Fred                 (201)  555-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327672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Fred                 (206)  572-4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Joe                   (908)  464-00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Joe                   (212)  555-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2057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2057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Careful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960" y="1870200"/>
            <a:ext cx="68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iven a dependency that violates the BCNF cond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243828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6832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2552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6396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35560" y="26258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2760" y="26258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30840" y="26258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4956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7120" y="4073400"/>
            <a:ext cx="2286000" cy="2210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6080" y="4952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55200" y="49118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3800" y="49528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920" y="62485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6440" y="62485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8080" y="324180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compose the relatio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13920" y="4537080"/>
            <a:ext cx="225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tinue u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re are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CNF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840" y="5222880"/>
            <a:ext cx="193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d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8240" y="217476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Social-security-number   Age   Eye Color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6668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74320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8240" y="3622680"/>
            <a:ext cx="791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dependenci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+ Social-security-number             Age, Eye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440" y="4917960"/>
            <a:ext cx="736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if we also had an attribute Draft-worthy, and the F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     Draft-wor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5867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2244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3040" y="23972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4920" y="175248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 Company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6160" y="35812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72428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962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038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5105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5181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7520" y="270828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:  unit -&gt; company;      company, product -&gt;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BCNF violation, and we decom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’s the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9360" y="4835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9360" y="498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240" y="434340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 Company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560" y="16002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600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057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981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2057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5160" y="209880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ga99            UW                  Galaga99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Value           UW                  NullValue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1600" y="3013200"/>
            <a:ext cx="64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 so far. All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D’s are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put all the data back into a single table ag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26080" y="5070600"/>
            <a:ext cx="610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ga99                  UW         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Value                 UW         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4680" y="6137280"/>
            <a:ext cx="70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olates the dependency:   company, product -&gt; un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3r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5280" y="1946160"/>
            <a:ext cx="740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3rd normal form if and only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it is the case that  {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per-key for R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B is part of a ke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380988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54320" y="40114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11520" y="40114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49960" y="40114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7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72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3600" y="342900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1172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6892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0736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920" y="4917960"/>
            <a:ext cx="62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happened to first and second normal for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ill we have more normal for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valued Dependenc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7960" y="23972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960" y="2549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1640" y="1905120"/>
            <a:ext cx="70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SSN              Phone Number    Cou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057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2057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3800" y="21337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25909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6)  572-4312   CSE-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6)  572-4312   CSE-3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6)  432-8954   CSE-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6)  432-8954   CSE-3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6840" y="4384800"/>
            <a:ext cx="635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lti-valued dependenci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SSN                  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SSN                         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th Normal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lace FD by MV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5410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5410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571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571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5T06:46:05Z</dcterms:created>
  <dc:creator>Administrator</dc:creator>
  <dc:description/>
  <dc:language>en-US</dc:language>
  <cp:lastModifiedBy>Rachel Pottinger</cp:lastModifiedBy>
  <cp:lastPrinted>1998-10-14T18:02:13Z</cp:lastPrinted>
  <dcterms:modified xsi:type="dcterms:W3CDTF">1999-10-11T23:20:44Z</dcterms:modified>
  <cp:revision>53</cp:revision>
  <dc:subject/>
  <dc:title>Functional Dependenc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