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681-FD42-4FB1-9287-49707783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E2D-C173-495C-81D5-199301BE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19D-3EA4-4745-9A94-01A45AA6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65F-6272-4000-804F-1B70388C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A20-E4DE-4293-BCAB-102C1D0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FB0-4F2E-498C-A5F6-4A2C38B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A44-9D36-496E-B5C7-BB20512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199-5C3D-48A6-A753-78B29D86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509-28EA-4EA7-BC8D-6C699F2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154-C249-43B3-B37B-9902674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901-C9E4-4B19-8523-75A6C42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395-6D84-432E-80C4-2EDBF79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E550-36DF-468C-A923-C6F3ECB3C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64832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95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676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44840" y="4849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038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83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5520" y="4226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3960" y="4226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0481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83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552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63960" y="3249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6483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164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3640" y="4835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1720" y="483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600" y="522288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otivating example for the study of functional dependen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99880" y="5832360"/>
            <a:ext cx="69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Social Security Number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24852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63244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019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6019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040" y="1641600"/>
            <a:ext cx="253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D   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F        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{A,B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of  {A, F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in Designing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96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96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2000" y="19051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81952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2767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9160" y="4562640"/>
            <a:ext cx="2963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pdat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letion anoma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2360" y="19051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8640" y="2819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2767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438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6400" y="4038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572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560" y="4572000"/>
            <a:ext cx="47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50292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191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9276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4996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804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560" y="1717560"/>
            <a:ext cx="43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relation with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200" y="263196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wo relation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111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683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067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020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592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973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720" y="40798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111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8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0676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020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592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97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82040" y="437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10880" y="437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880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524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83320" y="4621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20" y="5146560"/>
            <a:ext cx="44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oj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proj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562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16440" y="5764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73640" y="5764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1720" y="57643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628956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, C , …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16440" y="64911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73640" y="64911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1720" y="64911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5280" y="1946160"/>
            <a:ext cx="740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 and only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it is the case that  {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per-key for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38098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5432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1152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9960" y="40114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7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72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4290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17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6892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07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9360" y="21686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9360" y="232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3400" y="16765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59092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04812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                   909-438-44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7400" y="4384800"/>
            <a:ext cx="359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2360" y="19051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8640" y="2819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327672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438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6400" y="4038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4572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0560" y="4572000"/>
            <a:ext cx="47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1)  555-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50292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-321-99               (206)  572-4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908)  464-0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9-438-44               (212)  555-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4191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164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40" y="2701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440" y="20574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Price                      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240" y="297180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$19.99                        ga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63960" y="21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59440" y="2168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9360" y="4232160"/>
            <a:ext cx="804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xample of a 2-attribute relation that is not in BC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7524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Address                 Move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6880" y="358128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Move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400" y="6213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arefu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96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683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639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92760" y="26258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2625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35053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3581280"/>
            <a:ext cx="228600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76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080" y="4419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05320" y="44607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81800" y="575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57960" y="575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250668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5440" y="1793880"/>
            <a:ext cx="54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     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     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      stock price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600" y="3241800"/>
            <a:ext cx="75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Key of a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attribute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unctionally determines all the attributes of th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ne of its subsets determines all th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uperke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that contains a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8240" y="217476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Social-security-number   Age   Eye Color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6668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27432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8240" y="3622680"/>
            <a:ext cx="79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+ Social-security-number             Age, Ey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440" y="4917960"/>
            <a:ext cx="73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f we also had an attribute Draft-worthy, and the F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Draft-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5867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 Based on BCNF is Necessarily Corr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6680" y="2251080"/>
            <a:ext cx="630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  A, B, C.             FD:   A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  R1[A,B]           R2[A,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in R1:  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in R2:   (a,c),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in the join of R1 and R2:    (a,b,c),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,b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 (a,b,d) be a bogus tu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valued Dependenc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96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7960" y="254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1640" y="190512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SSN              Phone Number    Cou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43800" y="2133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2590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   CSE-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572-4312   CSE-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432-8954   CSE-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                  123-321-99      (206)  432-8954   CSE-3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6840" y="4384800"/>
            <a:ext cx="635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ltivalued dependenc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SSN                          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SSN                         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th Normal form: replace FD by M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Attributes of a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1600" y="2708280"/>
            <a:ext cx="79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6477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486400"/>
            <a:ext cx="2438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Binar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8560" y="3114720"/>
            <a:ext cx="813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ases are possible for a binary relationship  E1 - E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any-many: the key includes the key of E1 together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E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any-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One-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5238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2952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676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9072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14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2514600"/>
            <a:ext cx="144756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25146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2952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71600" y="24382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981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0866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960" y="1371600"/>
            <a:ext cx="772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ne, re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913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09320" y="4495680"/>
            <a:ext cx="1143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roperties of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7524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304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024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8320" y="195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, B , …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9920" y="1940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7120" y="19400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35560" y="19400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2438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255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272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1160" y="2639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25909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87880" y="17938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34280" y="240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97180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25520" y="3173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2720" y="3173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1160" y="3173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124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4280" y="293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0384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0184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904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712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191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0240" y="40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7400" y="3546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5320" y="6068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82520" y="6068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20960" y="6068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6095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60958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867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76360" y="590868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ways ho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32320" y="27082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46160"/>
            <a:ext cx="927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ctional dependenci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tatement about the set of allo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tailment and equivale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ring sets of functional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tail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et of functional dependencies S1 entails a set S2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 database that satisfies S1 much also satisfy S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A     B,     B    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0800" y="571500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quivale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wo sets of FD’s are equivalent if each entail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5440" y="640080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     B,    B      C }       is equivalent to    {A    B,   A    C,   B   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458200" y="6629040"/>
            <a:ext cx="22860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320" y="1981080"/>
            <a:ext cx="75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n a set of attributes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a set of dependencies 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 want to find all the other attributes that are funct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d by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3760" y="3394080"/>
            <a:ext cx="808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we want to find the maximal set of attribut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for every B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 entails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000" y="1946160"/>
            <a:ext cx="582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Closure=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ti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doesn’t change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              is in C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is not in 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 to clo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4290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51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9236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0440" y="36306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43560" y="33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03848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, A , …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065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6376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01840" y="42400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52720" y="400356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in the closur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5T06:46:05Z</dcterms:created>
  <dc:creator>Administrator</dc:creator>
  <dc:description/>
  <dc:language>en-US</dc:language>
  <cp:lastModifiedBy>Rachel Pottinger</cp:lastModifiedBy>
  <cp:lastPrinted>1999-10-08T16:37:29Z</cp:lastPrinted>
  <dcterms:modified xsi:type="dcterms:W3CDTF">1999-10-08T16:40:57Z</dcterms:modified>
  <cp:revision>32</cp:revision>
  <dc:subject/>
  <dc:title>Functional Depend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