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3CA-0C81-48D0-AC44-E5E06E2E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9D6-F012-4DF3-A747-1ED365D6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6F4-8419-4790-B5CD-557B2A4E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6A5-4DF8-4900-8424-2E7DAC8F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9FE-7EE1-4A68-8CD2-BBDDA27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AD2-49B2-400E-B43F-B30863C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870-F68B-4407-808E-4146092E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875-63D7-4C78-867B-5CC949E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CFA-6CAA-4DCE-8163-4BD15DA1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568-EB1A-40B7-A801-E58F2E7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8CA-7594-4FA8-846F-5884C25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C2F-6637-430C-8931-009829E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B7B4-1485-4423-ADE9-721D7DA8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648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95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67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4484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038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83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55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3960" y="4226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048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83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55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6396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6483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164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1720" y="483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600" y="52228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tivating example for the study of functional dependen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99880" y="5832360"/>
            <a:ext cx="69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Social Security Number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24852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63244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19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6019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250668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5440" y="1793880"/>
            <a:ext cx="54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     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    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     stock 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600" y="3241800"/>
            <a:ext cx="75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ey of a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attribute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unctionally determines all the attributes of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ne of its subsets determines all th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uperke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that contains a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Attribute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1600" y="2708280"/>
            <a:ext cx="79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5486400"/>
            <a:ext cx="2438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Binar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3114720"/>
            <a:ext cx="813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ases are possible for a binary relationship  E1 - E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any-many: the key includes the key of E1 together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E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ny-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ne-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5238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2952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76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907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14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514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2952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600" y="24382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981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866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2860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960" y="1371600"/>
            <a:ext cx="772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ne, re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913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495680"/>
            <a:ext cx="1143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5T10:52:07Z</dcterms:created>
  <dc:creator>alon</dc:creator>
  <dc:description/>
  <dc:language>en-US</dc:language>
  <cp:lastModifiedBy>Rachel Pottinger</cp:lastModifiedBy>
  <cp:lastPrinted>1999-10-06T17:16:05Z</cp:lastPrinted>
  <dcterms:modified xsi:type="dcterms:W3CDTF">1999-10-06T22:22:59Z</dcterms:modified>
  <cp:revision>44</cp:revision>
  <dc:subject/>
  <dc:title>Databas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