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0240" y="680760"/>
            <a:ext cx="454032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0809-18DD-497B-88AF-DF7D75637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B2D8-D42E-4018-87E2-1CCF24F91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449F-BC32-4154-8DDD-3C3FC60AF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E7E1-58A6-4B44-9E1C-A38F96451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14DC-7310-4125-8033-8CF54B158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D450-3D1A-49B7-826F-6AABA01F5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2330-7A91-4A47-AA10-44888397F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5ADD-0595-4E87-AF20-B60ADEBF3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0DC5-E038-4649-A88C-4C49F7C38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1346-C468-4145-A50E-18CE0FDEB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PJoin pi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te Wilschut 91 PD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that we use multithreading to achieve sam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0876-465F-4B02-9E87-43440924B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7D14-A979-43A7-BB45-783F89629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0DDA-616F-4E9D-9D70-AAAA5993B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45A4-6240-409F-9457-294B4414C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9BEC-C79F-4BB7-BD41-B1A82DA17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7CB5-D9D0-49A6-A142-8F66D578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17B8-F7EC-4ECB-AF52-CCA84D95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2849-5137-4A47-B36E-1099D3B5F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44BD-7505-4138-B7B3-6719BA95D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262D-7826-46AD-ACEA-42516CA2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F36F-99E2-44AD-A510-D230FB33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6B35-1A59-4F92-BB82-2B1B437D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B5DF-21D1-41CA-835B-CAD8EE43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ACA2-6196-4E57-AB80-0A4280B2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2568-7FE4-4282-B128-4BC4BB72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F31F-5F4C-46D4-8DC6-43FA1F48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CCAB-4CFB-4132-9D96-A12AF6CF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3318-883A-4799-9E60-645DDFEA3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Exec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1143000"/>
            <a:ext cx="24382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981080"/>
            <a:ext cx="24382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3886200"/>
            <a:ext cx="24382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2895480"/>
            <a:ext cx="24382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6200" y="4876920"/>
            <a:ext cx="24382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5791320"/>
            <a:ext cx="12956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6248520"/>
            <a:ext cx="12956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6019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6019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1440" y="12193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84760" y="205740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ion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68920" y="301320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/record mg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7400" y="39625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1080" y="4952880"/>
            <a:ext cx="22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32480" y="62136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5288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055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39840"/>
            <a:ext cx="1981080" cy="1523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8360" y="68580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360" y="609480"/>
            <a:ext cx="99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181480" y="19051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41800" y="1488960"/>
            <a:ext cx="22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uery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1280" y="27432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36640" y="240336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cord,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81480" y="37339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42160" y="3317760"/>
            <a:ext cx="150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52680" y="4724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99840" y="42670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d/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914400"/>
            <a:ext cx="1981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209680"/>
            <a:ext cx="2971800" cy="0"/>
          </a:xfrm>
          <a:prstGeom prst="line">
            <a:avLst/>
          </a:prstGeom>
          <a:ln w="76320">
            <a:solidFill>
              <a:srgbClr val="008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section of R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00"/>
                </a:solidFill>
                <a:uFillTx/>
                <a:latin typeface="Times New Roman"/>
              </a:rPr>
              <a:t>Second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sets of rids of data records using each matching ind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nters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s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ts of ri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rieve the records and apply any remaining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Pro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wo part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 remove unwanted attribute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 remove duplicates from the resul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finements to duplicate remov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 index on a relation contains all wanted attributes, then we can do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dex-on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c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index contains a subset of the wanted attributes, you can remove duplicat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cal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3600" y="1066680"/>
            <a:ext cx="3000240" cy="19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DISTIN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.name,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.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Person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quality Joins With One Join Colum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2209320"/>
            <a:ext cx="90676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    S is a common operation. The cross product is too large. Hence, performing  R    S and then a selection is too ineffici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: M pages in R,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uples per page, N pages in S,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uples per p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ur examples, R is Person and S is Purch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Cost metr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# of I/Os.  We will ignore output co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55800" y="1066680"/>
            <a:ext cx="4104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ROM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erson R, Purchase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R.name=S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838080" y="2362320"/>
                <a:ext cx="41436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562720" y="2666880"/>
                <a:ext cx="54756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4724280" y="1143000"/>
            <a:ext cx="40388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Nested Loops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2286000"/>
            <a:ext cx="899172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tuple in the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ou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 R, we scan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nti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nn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 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st:  M +  (p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* M) * N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 1000 + 100*1000*500  I/Os: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40 hour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ge-oriented Nested Loops join:  For ea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R, get ea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S, and write out matching pairs of tuples &lt;r, s&gt;, where r is in R-page and S is in S-p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st:  M + M*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000 + 1000*500 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4 hou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46560" y="1143000"/>
            <a:ext cx="6694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Book Antiqua"/>
              </a:rPr>
              <a:t>For each tuple r in R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Book Antiqua"/>
              </a:rPr>
              <a:t>for each tuple s in S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Book Antiqua"/>
              </a:rPr>
              <a:t>if r</a:t>
            </a:r>
            <a:r>
              <a:rPr b="0" lang="en-US" sz="2400" spc="-1" strike="noStrike" baseline="-10000">
                <a:solidFill>
                  <a:srgbClr val="008000"/>
                </a:solidFill>
                <a:latin typeface="Book Antiqua"/>
              </a:rPr>
              <a:t>i</a:t>
            </a:r>
            <a:r>
              <a:rPr b="0" lang="en-US" sz="2400" spc="-1" strike="noStrike">
                <a:solidFill>
                  <a:srgbClr val="008000"/>
                </a:solidFill>
                <a:latin typeface="Book Antiqua"/>
              </a:rPr>
              <a:t> == s</a:t>
            </a:r>
            <a:r>
              <a:rPr b="0" lang="en-US" sz="2400" spc="-1" strike="noStrike" baseline="-10000">
                <a:solidFill>
                  <a:srgbClr val="008000"/>
                </a:solidFill>
                <a:latin typeface="Book Antiqua"/>
              </a:rPr>
              <a:t>j </a:t>
            </a:r>
            <a:r>
              <a:rPr b="0" lang="en-US" sz="2400" spc="-1" strike="noStrike">
                <a:solidFill>
                  <a:srgbClr val="008000"/>
                </a:solidFill>
                <a:latin typeface="Book Antiqua"/>
              </a:rPr>
              <a:t> then add &lt;r, s&gt; to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Nested Loops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an index on the join column of one relation (say S), can make it the inn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st:  M + ( (M*p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 * cost of finding matching S tupl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R tuple, cost of probing S index is about 1.2 for hash index, 2-4 for B+ tree.  Cost of then finding S tuples depends on cluste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ustered index:  1 I/O (typical), unclustered: up to 1 I/O per matching S tu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09840" y="914400"/>
            <a:ext cx="62215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Book Antiqua"/>
              </a:rPr>
              <a:t>foreach tuple r in R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Book Antiqua"/>
              </a:rPr>
              <a:t>foreach tuple s in S where r</a:t>
            </a:r>
            <a:r>
              <a:rPr b="0" lang="en-US" sz="2400" spc="-1" strike="noStrike" baseline="-10000">
                <a:solidFill>
                  <a:srgbClr val="008000"/>
                </a:solidFill>
                <a:latin typeface="Book Antiqua"/>
              </a:rPr>
              <a:t>i</a:t>
            </a:r>
            <a:r>
              <a:rPr b="0" lang="en-US" sz="2400" spc="-1" strike="noStrike">
                <a:solidFill>
                  <a:srgbClr val="008000"/>
                </a:solidFill>
                <a:latin typeface="Book Antiqua"/>
              </a:rPr>
              <a:t> == s</a:t>
            </a:r>
            <a:r>
              <a:rPr b="0" lang="en-US" sz="2400" spc="-1" strike="noStrike" baseline="-10000">
                <a:solidFill>
                  <a:srgbClr val="008000"/>
                </a:solidFill>
                <a:latin typeface="Book Antiqua"/>
              </a:rPr>
              <a:t>j  </a:t>
            </a:r>
            <a:r>
              <a:rPr b="0" lang="en-US" sz="2400" spc="-1" strike="noStrike">
                <a:solidFill>
                  <a:srgbClr val="008000"/>
                </a:solidFill>
                <a:latin typeface="Book Antiqua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Book Antiqua"/>
              </a:rPr>
              <a:t>add &lt;r, s&gt; to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Index Nested Loo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ash-index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of Person (as inner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n Purchase:  1000 page I/Os, 100*1000 tu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Person tuple:  1.2 I/Os to get data entry in index, plus 1 I/O to get (the exactly one) matching Person tuple.  Total:  220,000 I/Os. 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6 minu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ash-index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uyer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of  Purchase (as inner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n Person:  500 page I/Os, 80*500 tu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Person tuple:  1.2 I/Os to find index page with data entries, plus cost of retrieving matching Purchase tuples.  Assuming uniform distribution, 2.5 purchases per buyer (100,000 / 40,000).  Cost of retrieving them  is 1 or 2.5 I/Os depending on clus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ck Nested Loops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15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ne page as an input buffer for scanning the inner S, one page as the output buffer, and use all remaining pages to hold ``block’’ of outer 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For each matching tuple r in R-block, s in S-page, add      &lt;r, s&gt; to result.  Then read next R-block, scan 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822320" y="4197240"/>
            <a:ext cx="844560" cy="2027160"/>
            <a:chOff x="1822320" y="4197240"/>
            <a:chExt cx="844560" cy="2027160"/>
          </a:xfrm>
        </p:grpSpPr>
        <p:sp>
          <p:nvSpPr>
            <p:cNvPr id="175" name=""/>
            <p:cNvSpPr/>
            <p:nvPr/>
          </p:nvSpPr>
          <p:spPr>
            <a:xfrm>
              <a:off x="1835280" y="4197240"/>
              <a:ext cx="8254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28800" y="426708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66880" y="426708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22320" y="5983560"/>
              <a:ext cx="838080" cy="24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6" y="10515"/>
                  </a:moveTo>
                  <a:arcTo wR="10800" hR="10800" stAng="-90790" swAng="1089079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6" y="10515"/>
                  </a:moveTo>
                  <a:arcTo wR="10800" hR="10800" stAng="-90790" swAng="1089079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901960" y="4044960"/>
            <a:ext cx="3416400" cy="219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63880" y="4502160"/>
            <a:ext cx="291960" cy="291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63880" y="4959360"/>
            <a:ext cx="291960" cy="29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63880" y="5721480"/>
            <a:ext cx="291960" cy="291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62280" y="5153040"/>
            <a:ext cx="74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11440" y="4578480"/>
            <a:ext cx="21970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7760" y="4654440"/>
            <a:ext cx="29196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44960" y="4654440"/>
            <a:ext cx="29196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53200" y="4465800"/>
            <a:ext cx="74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87960" y="4654440"/>
            <a:ext cx="29196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11440" y="5568840"/>
            <a:ext cx="29232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6560" y="5568840"/>
            <a:ext cx="29196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66880" y="48006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57150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57150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16560" y="3843360"/>
            <a:ext cx="800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 &amp;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67600" y="4037040"/>
            <a:ext cx="2364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h table for block of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k &lt; B-1 pag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34440" y="5869080"/>
            <a:ext cx="1731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put buffer for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39560" y="586584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81280" y="5029200"/>
            <a:ext cx="306360" cy="534960"/>
          </a:xfrm>
          <a:custGeom>
            <a:avLst/>
            <a:gdLst/>
            <a:ahLst/>
            <a:rect l="l" t="t" r="r" b="b"/>
            <a:pathLst>
              <a:path w="193" h="337">
                <a:moveTo>
                  <a:pt x="48" y="336"/>
                </a:moveTo>
                <a:lnTo>
                  <a:pt x="144" y="144"/>
                </a:lnTo>
                <a:lnTo>
                  <a:pt x="0" y="192"/>
                </a:lnTo>
                <a:lnTo>
                  <a:pt x="2" y="166"/>
                </a:lnTo>
                <a:lnTo>
                  <a:pt x="19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699240" y="4197240"/>
            <a:ext cx="858600" cy="2027160"/>
            <a:chOff x="6699240" y="4197240"/>
            <a:chExt cx="858600" cy="2027160"/>
          </a:xfrm>
        </p:grpSpPr>
        <p:grpSp>
          <p:nvGrpSpPr>
            <p:cNvPr id="200" name=""/>
            <p:cNvGrpSpPr/>
            <p:nvPr/>
          </p:nvGrpSpPr>
          <p:grpSpPr>
            <a:xfrm>
              <a:off x="6699240" y="4197240"/>
              <a:ext cx="844560" cy="2027160"/>
              <a:chOff x="6699240" y="4197240"/>
              <a:chExt cx="844560" cy="2027160"/>
            </a:xfrm>
          </p:grpSpPr>
          <p:sp>
            <p:nvSpPr>
              <p:cNvPr id="201" name=""/>
              <p:cNvSpPr/>
              <p:nvPr/>
            </p:nvSpPr>
            <p:spPr>
              <a:xfrm>
                <a:off x="6711840" y="4197240"/>
                <a:ext cx="825480" cy="139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0572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54380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699240" y="5983560"/>
                <a:ext cx="837720" cy="240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15"/>
                    </a:moveTo>
                    <a:arcTo wR="10800" hR="10800" stAng="-90790" swAng="108907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15"/>
                    </a:moveTo>
                    <a:arcTo wR="10800" hR="10800" stAng="-90790" swAng="1089079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7016760" y="4502160"/>
              <a:ext cx="291960" cy="2919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16760" y="4959360"/>
              <a:ext cx="291960" cy="2919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016760" y="5721480"/>
              <a:ext cx="291960" cy="2919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15160" y="515160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6366960" y="3841920"/>
            <a:ext cx="1434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Join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-Merge Join  (R     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9067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R and S on the join column, then scan them to do a ``merge’’  on the join colum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Advance scan of R until current R-tuple &gt;= current S tuple, then advance scan of S until current S-tuple &gt;= current R tuple; do this until current R tuple = current S tu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At this point, all R tuples with same value and all S tuples with same value 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Times New Roman"/>
              </a:rPr>
              <a:t>match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;  output &lt;r, s&gt; for all pairs of such tu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Then resume scanning R and 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248520" y="380880"/>
                <a:ext cx="5760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6251760" y="609480"/>
            <a:ext cx="51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=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of Sort-Merge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is scanned once; each S group is scanned once per matching R tup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st:  M log M + N log N + (M+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st of scanning, M+N, could be M*N (unlikely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35, 100 or 300 buffer pages, both Person and Purchase can be sorted in 2 passes;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otal: 7500.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5 seconds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35053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both relations using hash fn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R tuples in partition i will only match S tuples in partition 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411480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ad in a partition of R, hash it using </a:t>
            </a:r>
            <a:r>
              <a:rPr b="1" lang="en-US" sz="2800" spc="-1" strike="noStrike">
                <a:solidFill>
                  <a:srgbClr val="3365fb"/>
                </a:solidFill>
                <a:latin typeface="Book Antiqua"/>
              </a:rPr>
              <a:t>h2 (&lt;&gt; </a:t>
            </a:r>
            <a:r>
              <a:rPr b="1" lang="en-US" sz="2800" spc="-1" strike="noStrike">
                <a:solidFill>
                  <a:srgbClr val="3333cc"/>
                </a:solidFill>
                <a:latin typeface="Book Antiqua"/>
              </a:rPr>
              <a:t>h</a:t>
            </a:r>
            <a:r>
              <a:rPr b="1" lang="en-US" sz="2800" spc="-1" strike="noStrike">
                <a:solidFill>
                  <a:srgbClr val="3365fb"/>
                </a:solidFill>
                <a:latin typeface="Book Antiqua"/>
              </a:rPr>
              <a:t>!)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 Scan matching partition of S, search for matc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3429000"/>
            <a:ext cx="51051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422520" y="3560760"/>
            <a:ext cx="5495040" cy="3030840"/>
            <a:chOff x="3422520" y="3560760"/>
            <a:chExt cx="5495040" cy="3030840"/>
          </a:xfrm>
        </p:grpSpPr>
        <p:sp>
          <p:nvSpPr>
            <p:cNvPr id="225" name=""/>
            <p:cNvSpPr/>
            <p:nvPr/>
          </p:nvSpPr>
          <p:spPr>
            <a:xfrm>
              <a:off x="3447360" y="3560760"/>
              <a:ext cx="1151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f R &amp; 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60240" y="5726160"/>
              <a:ext cx="113148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 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or S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18200" y="4008600"/>
              <a:ext cx="2241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sh table for part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 (k &lt; B-1 pag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76760" y="5419800"/>
              <a:ext cx="23040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4976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8152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2444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521160" y="470232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87920" y="470232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21160" y="5062680"/>
              <a:ext cx="230040" cy="245880"/>
            </a:xfrm>
            <a:custGeom>
              <a:avLst/>
              <a:gdLst/>
              <a:ahLst/>
              <a:rect l="l" t="t" r="r" b="b"/>
              <a:pathLst>
                <a:path w="145" h="155">
                  <a:moveTo>
                    <a:pt x="0" y="15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4"/>
                  </a:lnTo>
                  <a:lnTo>
                    <a:pt x="0" y="154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7280" y="5062680"/>
              <a:ext cx="228600" cy="24588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0" y="154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4"/>
                  </a:lnTo>
                  <a:lnTo>
                    <a:pt x="0" y="154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43360" y="5824440"/>
              <a:ext cx="228600" cy="24624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0" y="154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4"/>
                  </a:lnTo>
                  <a:lnTo>
                    <a:pt x="0" y="154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521160" y="582624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64080" y="469260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84840" y="470232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37480" y="470232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88120" y="4807080"/>
              <a:ext cx="39600" cy="5688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4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21320" y="4807080"/>
              <a:ext cx="38160" cy="5688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23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3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562800" y="4807080"/>
              <a:ext cx="39600" cy="5688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4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10080" y="4648320"/>
              <a:ext cx="1749600" cy="366480"/>
            </a:xfrm>
            <a:custGeom>
              <a:avLst/>
              <a:gdLst/>
              <a:ahLst/>
              <a:rect l="l" t="t" r="r" b="b"/>
              <a:pathLst>
                <a:path w="1102" h="231">
                  <a:moveTo>
                    <a:pt x="0" y="230"/>
                  </a:moveTo>
                  <a:lnTo>
                    <a:pt x="0" y="0"/>
                  </a:lnTo>
                  <a:lnTo>
                    <a:pt x="1101" y="0"/>
                  </a:lnTo>
                  <a:lnTo>
                    <a:pt x="1101" y="230"/>
                  </a:lnTo>
                  <a:lnTo>
                    <a:pt x="0" y="2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770520" y="5419800"/>
              <a:ext cx="23040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22800" y="3962520"/>
              <a:ext cx="2422440" cy="2211120"/>
            </a:xfrm>
            <a:custGeom>
              <a:avLst/>
              <a:gdLst/>
              <a:ahLst/>
              <a:rect l="l" t="t" r="r" b="b"/>
              <a:pathLst>
                <a:path w="1526" h="1393">
                  <a:moveTo>
                    <a:pt x="0" y="1392"/>
                  </a:moveTo>
                  <a:lnTo>
                    <a:pt x="0" y="0"/>
                  </a:lnTo>
                  <a:lnTo>
                    <a:pt x="1525" y="0"/>
                  </a:lnTo>
                  <a:lnTo>
                    <a:pt x="1525" y="1392"/>
                  </a:lnTo>
                  <a:lnTo>
                    <a:pt x="0" y="13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8088480" y="4552920"/>
              <a:ext cx="312480" cy="1368360"/>
              <a:chOff x="8088480" y="4552920"/>
              <a:chExt cx="312480" cy="1368360"/>
            </a:xfrm>
          </p:grpSpPr>
          <p:sp>
            <p:nvSpPr>
              <p:cNvPr id="248" name=""/>
              <p:cNvSpPr/>
              <p:nvPr/>
            </p:nvSpPr>
            <p:spPr>
              <a:xfrm>
                <a:off x="8088480" y="5391000"/>
                <a:ext cx="39600" cy="5904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4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4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220240" y="5391000"/>
                <a:ext cx="39600" cy="5904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4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4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362800" y="5391000"/>
                <a:ext cx="38160" cy="5904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23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3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145360" y="4552920"/>
                <a:ext cx="228600" cy="246240"/>
              </a:xfrm>
              <a:custGeom>
                <a:avLst/>
                <a:gdLst/>
                <a:ahLst/>
                <a:rect l="l" t="t" r="r" b="b"/>
                <a:pathLst>
                  <a:path w="144" h="155">
                    <a:moveTo>
                      <a:pt x="0" y="154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4"/>
                    </a:lnTo>
                    <a:lnTo>
                      <a:pt x="0" y="154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145360" y="4910040"/>
                <a:ext cx="228600" cy="247680"/>
              </a:xfrm>
              <a:custGeom>
                <a:avLst/>
                <a:gdLst/>
                <a:ahLst/>
                <a:rect l="l" t="t" r="r" b="b"/>
                <a:pathLst>
                  <a:path w="144" h="156">
                    <a:moveTo>
                      <a:pt x="0" y="155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5"/>
                    </a:lnTo>
                    <a:lnTo>
                      <a:pt x="0" y="155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145360" y="5675400"/>
                <a:ext cx="228600" cy="245880"/>
              </a:xfrm>
              <a:custGeom>
                <a:avLst/>
                <a:gdLst/>
                <a:ahLst/>
                <a:rect l="l" t="t" r="r" b="b"/>
                <a:pathLst>
                  <a:path w="144" h="155">
                    <a:moveTo>
                      <a:pt x="0" y="154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4"/>
                    </a:lnTo>
                    <a:lnTo>
                      <a:pt x="0" y="154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5074920" y="6167520"/>
              <a:ext cx="251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86040" y="622476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55600" y="5634000"/>
              <a:ext cx="7840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939080" y="616752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33800" y="3738600"/>
              <a:ext cx="1283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oin Resu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01440" y="4300560"/>
              <a:ext cx="591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48240" y="4510080"/>
              <a:ext cx="36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56160" y="4716360"/>
              <a:ext cx="425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5fb"/>
                  </a:solidFill>
                  <a:latin typeface="Times New Roman"/>
                </a:rPr>
                <a:t>h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952240" y="518652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5fb"/>
                  </a:solidFill>
                  <a:latin typeface="Times New Roman"/>
                </a:rPr>
                <a:t>h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3422520" y="4197240"/>
              <a:ext cx="1073160" cy="2027160"/>
              <a:chOff x="3422520" y="4197240"/>
              <a:chExt cx="1073160" cy="2027160"/>
            </a:xfrm>
          </p:grpSpPr>
          <p:sp>
            <p:nvSpPr>
              <p:cNvPr id="264" name=""/>
              <p:cNvSpPr/>
              <p:nvPr/>
            </p:nvSpPr>
            <p:spPr>
              <a:xfrm>
                <a:off x="3436920" y="4197240"/>
                <a:ext cx="1052640" cy="139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43044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49568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422520" y="5983560"/>
                <a:ext cx="1064880" cy="240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15"/>
                    </a:moveTo>
                    <a:arcTo wR="10800" hR="10800" stAng="-90852" swAng="1089085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15"/>
                    </a:moveTo>
                    <a:arcTo wR="10800" hR="10800" stAng="-90852" swAng="1089085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7842240" y="4273560"/>
              <a:ext cx="844560" cy="1875960"/>
              <a:chOff x="7842240" y="4273560"/>
              <a:chExt cx="844560" cy="1875960"/>
            </a:xfrm>
          </p:grpSpPr>
          <p:sp>
            <p:nvSpPr>
              <p:cNvPr id="269" name=""/>
              <p:cNvSpPr/>
              <p:nvPr/>
            </p:nvSpPr>
            <p:spPr>
              <a:xfrm>
                <a:off x="7854840" y="4273560"/>
                <a:ext cx="825480" cy="128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848720" y="4336920"/>
                <a:ext cx="0" cy="169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686800" y="4336920"/>
                <a:ext cx="0" cy="169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842240" y="5924520"/>
                <a:ext cx="837720" cy="22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493"/>
                    </a:moveTo>
                    <a:arcTo wR="10800" hR="10800" stAng="-97869" swAng="109466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493"/>
                    </a:moveTo>
                    <a:arcTo wR="10800" hR="10800" stAng="-97869" swAng="1094662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4495680" y="5029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95680" y="5562720"/>
              <a:ext cx="10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15000" y="5029200"/>
              <a:ext cx="306360" cy="458640"/>
            </a:xfrm>
            <a:custGeom>
              <a:avLst/>
              <a:gdLst/>
              <a:ahLst/>
              <a:rect l="l" t="t" r="r" b="b"/>
              <a:pathLst>
                <a:path w="193" h="289">
                  <a:moveTo>
                    <a:pt x="0" y="288"/>
                  </a:moveTo>
                  <a:lnTo>
                    <a:pt x="192" y="173"/>
                  </a:lnTo>
                  <a:lnTo>
                    <a:pt x="188" y="145"/>
                  </a:lnTo>
                  <a:lnTo>
                    <a:pt x="0" y="115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010280" y="556272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433680" y="328680"/>
            <a:ext cx="5663520" cy="2971800"/>
            <a:chOff x="3433680" y="328680"/>
            <a:chExt cx="5663520" cy="2971800"/>
          </a:xfrm>
        </p:grpSpPr>
        <p:sp>
          <p:nvSpPr>
            <p:cNvPr id="278" name=""/>
            <p:cNvSpPr/>
            <p:nvPr/>
          </p:nvSpPr>
          <p:spPr>
            <a:xfrm>
              <a:off x="4659120" y="2909880"/>
              <a:ext cx="251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794720" y="293220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78120" y="293364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33680" y="328680"/>
              <a:ext cx="1070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rigin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16480" y="63180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0100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15652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495680" y="609480"/>
              <a:ext cx="2671920" cy="2289240"/>
            </a:xfrm>
            <a:custGeom>
              <a:avLst/>
              <a:gdLst/>
              <a:ahLst/>
              <a:rect l="l" t="t" r="r" b="b"/>
              <a:pathLst>
                <a:path w="1683" h="1442">
                  <a:moveTo>
                    <a:pt x="0" y="1441"/>
                  </a:moveTo>
                  <a:lnTo>
                    <a:pt x="0" y="0"/>
                  </a:lnTo>
                  <a:lnTo>
                    <a:pt x="1682" y="0"/>
                  </a:lnTo>
                  <a:lnTo>
                    <a:pt x="1682" y="1441"/>
                  </a:lnTo>
                  <a:lnTo>
                    <a:pt x="0" y="14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48120" y="1928880"/>
              <a:ext cx="335160" cy="269640"/>
            </a:xfrm>
            <a:custGeom>
              <a:avLst/>
              <a:gdLst/>
              <a:ahLst/>
              <a:rect l="l" t="t" r="r" b="b"/>
              <a:pathLst>
                <a:path w="211" h="170">
                  <a:moveTo>
                    <a:pt x="0" y="169"/>
                  </a:moveTo>
                  <a:lnTo>
                    <a:pt x="0" y="0"/>
                  </a:lnTo>
                  <a:lnTo>
                    <a:pt x="210" y="0"/>
                  </a:lnTo>
                  <a:lnTo>
                    <a:pt x="210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6600960" y="2120760"/>
              <a:ext cx="334800" cy="90720"/>
              <a:chOff x="6600960" y="2120760"/>
              <a:chExt cx="334800" cy="90720"/>
            </a:xfrm>
          </p:grpSpPr>
          <p:sp>
            <p:nvSpPr>
              <p:cNvPr id="288" name=""/>
              <p:cNvSpPr/>
              <p:nvPr/>
            </p:nvSpPr>
            <p:spPr>
              <a:xfrm>
                <a:off x="6600960" y="2120760"/>
                <a:ext cx="42840" cy="6372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745320" y="2120760"/>
                <a:ext cx="42840" cy="6372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900840" y="2120760"/>
                <a:ext cx="34920" cy="90720"/>
              </a:xfrm>
              <a:custGeom>
                <a:avLst/>
                <a:gdLst/>
                <a:ahLst/>
                <a:rect l="l" t="t" r="r" b="b"/>
                <a:pathLst>
                  <a:path w="22" h="57">
                    <a:moveTo>
                      <a:pt x="21" y="27"/>
                    </a:moveTo>
                    <a:lnTo>
                      <a:pt x="11" y="0"/>
                    </a:lnTo>
                    <a:lnTo>
                      <a:pt x="0" y="27"/>
                    </a:lnTo>
                    <a:lnTo>
                      <a:pt x="11" y="56"/>
                    </a:lnTo>
                    <a:lnTo>
                      <a:pt x="21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7608960" y="1255680"/>
              <a:ext cx="250920" cy="2700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99480" y="1255680"/>
              <a:ext cx="249120" cy="2700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608960" y="1722600"/>
              <a:ext cx="250920" cy="26964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08840" y="1722600"/>
              <a:ext cx="249480" cy="26964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85808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3" y="0"/>
                  </a:lnTo>
                  <a:lnTo>
                    <a:pt x="0" y="20"/>
                  </a:lnTo>
                  <a:lnTo>
                    <a:pt x="13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09080" y="1722600"/>
              <a:ext cx="249120" cy="26964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587280" y="1444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08960" y="2557440"/>
              <a:ext cx="250920" cy="2700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553080" y="251460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614120" y="1514520"/>
              <a:ext cx="738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87280" y="89676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87240" y="1760400"/>
              <a:ext cx="820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491880" y="2230560"/>
              <a:ext cx="453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455600" y="620640"/>
              <a:ext cx="115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610120" y="123192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600760" y="165564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569080" y="2448000"/>
              <a:ext cx="528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498840" y="996840"/>
              <a:ext cx="920880" cy="1952280"/>
              <a:chOff x="3498840" y="996840"/>
              <a:chExt cx="920880" cy="1952280"/>
            </a:xfrm>
          </p:grpSpPr>
          <p:sp>
            <p:nvSpPr>
              <p:cNvPr id="309" name=""/>
              <p:cNvSpPr/>
              <p:nvPr/>
            </p:nvSpPr>
            <p:spPr>
              <a:xfrm>
                <a:off x="3513240" y="996840"/>
                <a:ext cx="900000" cy="135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506760" y="1063800"/>
                <a:ext cx="0" cy="17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419720" y="1063800"/>
                <a:ext cx="0" cy="17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498840" y="2714760"/>
                <a:ext cx="912600" cy="23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5"/>
                    </a:moveTo>
                    <a:arcTo wR="10800" hR="10800" stAng="-94011" swAng="109406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5"/>
                    </a:moveTo>
                    <a:arcTo wR="10800" hR="10800" stAng="-94011" swAng="1094069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3816360" y="1225440"/>
              <a:ext cx="291960" cy="29232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16360" y="1682640"/>
              <a:ext cx="291960" cy="29232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16360" y="2444760"/>
              <a:ext cx="291960" cy="291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613320" y="187632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7537320" y="996840"/>
              <a:ext cx="1073160" cy="1974600"/>
              <a:chOff x="7537320" y="996840"/>
              <a:chExt cx="1073160" cy="1974600"/>
            </a:xfrm>
          </p:grpSpPr>
          <p:sp>
            <p:nvSpPr>
              <p:cNvPr id="318" name=""/>
              <p:cNvSpPr/>
              <p:nvPr/>
            </p:nvSpPr>
            <p:spPr>
              <a:xfrm>
                <a:off x="7551720" y="996840"/>
                <a:ext cx="1052640" cy="136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545240" y="1065240"/>
                <a:ext cx="0" cy="17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610480" y="1065240"/>
                <a:ext cx="0" cy="17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37320" y="2737080"/>
                <a:ext cx="1064880" cy="23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7"/>
                    </a:moveTo>
                    <a:arcTo wR="10800" hR="10800" stAng="-93306" swAng="108933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7"/>
                    </a:moveTo>
                    <a:arcTo wR="10800" hR="10800" stAng="-93306" swAng="1089330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4419720" y="2057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6019920" y="144756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6019920" y="1904760"/>
              <a:ext cx="5331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19920" y="205740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010280" y="13716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010280" y="18288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010280" y="266688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53080" y="167652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53080" y="114300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0" y="40384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Execution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5240" y="1295280"/>
            <a:ext cx="3734280" cy="179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S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ROM Purchase P, Person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ERE P.buyer=Q.nam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city=‘seattle’ 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phone &gt; ‘5430000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200400"/>
            <a:ext cx="3292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Query Pl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 choice at every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ing of op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105080" y="1447920"/>
            <a:ext cx="5040720" cy="3802320"/>
            <a:chOff x="4105080" y="1447920"/>
            <a:chExt cx="5040720" cy="3802320"/>
          </a:xfrm>
        </p:grpSpPr>
        <p:sp>
          <p:nvSpPr>
            <p:cNvPr id="86" name=""/>
            <p:cNvSpPr/>
            <p:nvPr/>
          </p:nvSpPr>
          <p:spPr>
            <a:xfrm>
              <a:off x="5421240" y="1536840"/>
              <a:ext cx="1440" cy="17316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08360" y="1536840"/>
              <a:ext cx="1800" cy="17316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79840" y="1521000"/>
              <a:ext cx="174600" cy="1800"/>
            </a:xfrm>
            <a:custGeom>
              <a:avLst/>
              <a:gdLst/>
              <a:ahLst/>
              <a:rect l="l" t="t" r="r" b="b"/>
              <a:pathLst>
                <a:path w="110" h="1">
                  <a:moveTo>
                    <a:pt x="0" y="0"/>
                  </a:moveTo>
                  <a:lnTo>
                    <a:pt x="109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5538600" y="3534120"/>
              <a:ext cx="349200" cy="123840"/>
              <a:chOff x="5538600" y="3534120"/>
              <a:chExt cx="349200" cy="123840"/>
            </a:xfrm>
          </p:grpSpPr>
          <p:sp>
            <p:nvSpPr>
              <p:cNvPr id="90" name=""/>
              <p:cNvSpPr/>
              <p:nvPr/>
            </p:nvSpPr>
            <p:spPr>
              <a:xfrm>
                <a:off x="5538600" y="3534120"/>
                <a:ext cx="144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886360" y="3534120"/>
                <a:ext cx="144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538600" y="3534120"/>
                <a:ext cx="349200" cy="123840"/>
              </a:xfrm>
              <a:custGeom>
                <a:avLst/>
                <a:gdLst/>
                <a:ahLst/>
                <a:rect l="l" t="t" r="r" b="b"/>
                <a:pathLst>
                  <a:path w="220" h="78">
                    <a:moveTo>
                      <a:pt x="0" y="0"/>
                    </a:moveTo>
                    <a:lnTo>
                      <a:pt x="219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538600" y="3534120"/>
                <a:ext cx="349200" cy="123840"/>
              </a:xfrm>
              <a:custGeom>
                <a:avLst/>
                <a:gdLst/>
                <a:ahLst/>
                <a:rect l="l" t="t" r="r" b="b"/>
                <a:pathLst>
                  <a:path w="220" h="78">
                    <a:moveTo>
                      <a:pt x="0" y="77"/>
                    </a:moveTo>
                    <a:lnTo>
                      <a:pt x="219" y="0"/>
                    </a:lnTo>
                    <a:lnTo>
                      <a:pt x="0" y="7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4943160" y="4045320"/>
              <a:ext cx="669960" cy="357120"/>
            </a:xfrm>
            <a:custGeom>
              <a:avLst/>
              <a:gdLst/>
              <a:ahLst/>
              <a:rect l="l" t="t" r="r" b="b"/>
              <a:pathLst>
                <a:path w="422" h="225">
                  <a:moveTo>
                    <a:pt x="0" y="224"/>
                  </a:moveTo>
                  <a:lnTo>
                    <a:pt x="421" y="0"/>
                  </a:lnTo>
                  <a:lnTo>
                    <a:pt x="0" y="2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59360" y="4045320"/>
              <a:ext cx="684000" cy="357120"/>
            </a:xfrm>
            <a:custGeom>
              <a:avLst/>
              <a:gdLst/>
              <a:ahLst/>
              <a:rect l="l" t="t" r="r" b="b"/>
              <a:pathLst>
                <a:path w="431" h="225">
                  <a:moveTo>
                    <a:pt x="0" y="0"/>
                  </a:moveTo>
                  <a:lnTo>
                    <a:pt x="430" y="22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15000" y="2821320"/>
              <a:ext cx="1440" cy="560160"/>
            </a:xfrm>
            <a:custGeom>
              <a:avLst/>
              <a:gdLst/>
              <a:ahLst/>
              <a:rect l="l" t="t" r="r" b="b"/>
              <a:pathLst>
                <a:path w="1" h="353">
                  <a:moveTo>
                    <a:pt x="0" y="0"/>
                  </a:moveTo>
                  <a:lnTo>
                    <a:pt x="0" y="35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15000" y="1894320"/>
              <a:ext cx="1440" cy="512640"/>
            </a:xfrm>
            <a:custGeom>
              <a:avLst/>
              <a:gdLst/>
              <a:ahLst/>
              <a:rect l="l" t="t" r="r" b="b"/>
              <a:pathLst>
                <a:path w="1" h="323">
                  <a:moveTo>
                    <a:pt x="0" y="0"/>
                  </a:moveTo>
                  <a:lnTo>
                    <a:pt x="0" y="32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70360" y="2534040"/>
              <a:ext cx="87480" cy="15876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0" y="99"/>
                  </a:moveTo>
                  <a:lnTo>
                    <a:pt x="54" y="0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56040" y="2546640"/>
              <a:ext cx="76320" cy="14616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0" y="0"/>
                  </a:moveTo>
                  <a:lnTo>
                    <a:pt x="47" y="9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85520" y="4484880"/>
              <a:ext cx="11602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urchas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71120" y="4469040"/>
              <a:ext cx="9194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68520" y="3738960"/>
              <a:ext cx="1257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yer=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57160" y="2514960"/>
              <a:ext cx="1291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ity=‘seattle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52080" y="2514960"/>
              <a:ext cx="171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one&gt;’5430000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73800" y="1605240"/>
              <a:ext cx="669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16800" y="3738960"/>
              <a:ext cx="2529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(Simple Nested Loop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902280" y="2454480"/>
              <a:ext cx="1843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70600" y="1447920"/>
              <a:ext cx="1839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11360" y="22100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05080" y="488196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Table s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10200" y="488196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Index s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414240" y="5602320"/>
            <a:ext cx="536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ome operators are from rel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lgebra, and others (e.g., scan, gro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re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of Hash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0676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artitioning phase, read+write both relations;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2(M+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In matching phase, read both relations;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+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/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ur running example, this is a total of 4500 I/Os.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5 secon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ort-Merge Join vs. Hash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minimum amount of memory both have a cost of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(M+N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/Os.  Hash Join superior on this count if relation sizes differ greatly.  Also, Hash Join shown to be highly paralleliz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-Merge less sensitive to data skew; result is sor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are we do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066680" y="1905120"/>
          <a:ext cx="700416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05120"/>
                    <a:ext cx="70041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1066680" y="1905120"/>
            <a:ext cx="701064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66680" y="2743200"/>
            <a:ext cx="70106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66680" y="4419720"/>
            <a:ext cx="70106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uble Pipelined Join (Tukwil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560" y="3962520"/>
            <a:ext cx="412884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4240" indent="-2188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pipelined: no output until inner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4240" indent="-2188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ymmetric (inner vs. outer) — optimization requires source behavior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43400" y="3962520"/>
            <a:ext cx="440856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Pipelined Hash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289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289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s data immedi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289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metric — requires less source knowledge to optim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762120" y="1600200"/>
          <a:ext cx="7315200" cy="23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315200" cy="23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able sca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erate through the records of the re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ndex sca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o to the index, from there get the records in the file (when would this be better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orted sca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e the relation in order. Implementation depends on relation s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tting them all toge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he iterator model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operation is implemented by 3 fun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ets up the data structures and performs initial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etN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returns the the next tuple of the res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o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ends the operations. Cleans up the data 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es pipelin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st with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data-driven materialize mod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’s the same (e.g., sorted sca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Relational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067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ill consider how to imple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el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     )    Selects a subset of rows from re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Proj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     )   Deletes unwanted columns from re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Joi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        )  Allows us to combine two rel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5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65fb"/>
                </a:solidFill>
                <a:uFillTx/>
                <a:latin typeface="Times New Roman"/>
              </a:rPr>
              <a:t>Set-differ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Tuples in reln. 1, but not in reln.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5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65fb"/>
                </a:solidFill>
                <a:uFillTx/>
                <a:latin typeface="Times New Roman"/>
              </a:rPr>
              <a:t>Union</a:t>
            </a:r>
            <a:r>
              <a:rPr b="0" lang="en-US" sz="2800" spc="-1" strike="noStrike">
                <a:solidFill>
                  <a:srgbClr val="3365f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ples in reln. 1 and in reln.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65f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65fb"/>
                </a:solidFill>
                <a:uFillTx/>
                <a:latin typeface="Times New Roman"/>
              </a:rPr>
              <a:t>Aggreg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, M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tc.)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514600" y="2362320"/>
                <a:ext cx="2151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666880" y="2895480"/>
                <a:ext cx="19814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905120" y="3886200"/>
                <a:ext cx="51732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ma for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2895480"/>
            <a:ext cx="90676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Purcha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tuple is 40 bytes long,  100 tuples per page, 1000 page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i.e., 100,000 tuples, 4MB for the entire rel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Pers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tuple is 50 bytes long,  80 tuples per page, 500 page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i.e, 40,000 tuples, 2MB for the entire rel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0000" y="1828800"/>
            <a:ext cx="8874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urchase 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buy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:string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selle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: string,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: integer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erson 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nam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:string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city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:string,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phon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: integ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Se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ith no index, unsorted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essentially scan the whole relation;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st is 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#pages in 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ith an index on selection attribute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index to find qualifying data entries, then retrieve corresponding data records.  (Hash index useful only for equality selections.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sult size estima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ize of R)  * reduction fa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this l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58520" y="208080"/>
            <a:ext cx="3696480" cy="118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Person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R.phone &lt; ‘543%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819520" y="1523880"/>
                <a:ext cx="48258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attr</m:t>
                        </m:r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  <m:r>
                          <m:rPr>
                            <m:lit/>
                            <m:nor/>
                          </m:rPr>
                          <m:t xml:space="preserve">valu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1141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an Index for Se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067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st depends on #qualifying tuples, and cluste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finding qualifying data entries (typically small) plus cost of retrieving record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example, assuming uniform distribution of phones, about 54% of tuples qualify (500 pages, 50000 tuples).  With a clustered index, cost is little more than 500 I/Os; if unclustered, up to 50000 I/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mportant refinement for unclustered indexes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Find sort the rid’s of the qualifying data entri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Fetch rids in order.  This ensures that each data page is looked at just once (though # of such pages likely to be higher than with clustering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418680"/>
            <a:ext cx="8077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General Se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8991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00"/>
                </a:solidFill>
                <a:uFillTx/>
                <a:latin typeface="Times New Roman"/>
              </a:rPr>
              <a:t>First approach:</a:t>
            </a: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most selective access pa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retrieve tuples using it, and apply any remaining terms that don’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t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inde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Most selective access path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ex or file scan that we estimate will require the fewest page I/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ity=“seattle AND phone&lt;“543%”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hash index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it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d; then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h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“543%” must be checked for each retrieved tu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ly, a b-tree index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h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uld be used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ty=“seattle”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then be checked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2T00:07:15Z</dcterms:created>
  <dc:creator>Alon Levy</dc:creator>
  <dc:description/>
  <dc:language>en-US</dc:language>
  <cp:lastModifiedBy>Rachel Pottinger</cp:lastModifiedBy>
  <cp:lastPrinted>1999-11-22T17:41:08Z</cp:lastPrinted>
  <dcterms:modified xsi:type="dcterms:W3CDTF">1999-11-22T19:54:44Z</dcterms:modified>
  <cp:revision>70</cp:revision>
  <dc:subject/>
  <dc:title>Relational Oper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alon</vt:lpwstr>
  </property>
  <property fmtid="{D5CDD505-2E9C-101B-9397-08002B2CF9AE}" pid="9" name="LinkColor">
    <vt:r8>16711782</vt:r8>
  </property>
  <property fmtid="{D5CDD505-2E9C-101B-9397-08002B2CF9AE}" pid="10" name="MailAddress">
    <vt:lpwstr>alon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taweb\lectures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