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779-F78D-444D-BD56-E4401ACD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288-D2F6-49FD-A997-D560D019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6BA-D92D-43BD-B69A-D7318C78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438-92A9-4CE8-B334-0361DF24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EE5-A893-48D6-B14A-7BAE68C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763-B3F5-4BCA-9F2B-02355CCE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D69-A7E4-4FD5-A2B8-F49F7A48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D06-3103-4E2D-B917-37932ADE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2A0-F181-4F34-96AA-B5AD9096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9B6-0A7A-4244-925B-015E05B5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E80-296B-477E-AACB-510393A2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17C-73CC-4BB8-B7CD-8D7F01A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71C7-F6BE-44EE-8A7D-1D316B0E6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48" idx="0"/>
            <a:endCxn id="49" idx="2"/>
          </p:cNvCxnSpPr>
          <p:nvPr/>
        </p:nvCxnSpPr>
        <p:spPr>
          <a:xfrm flipV="1">
            <a:off x="7010640" y="2666880"/>
            <a:ext cx="4953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120" y="2098800"/>
            <a:ext cx="80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world is not fl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have properties not shared by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6200" y="6060960"/>
            <a:ext cx="61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(in ODL and in E/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lasses in O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12240" y="1447920"/>
            <a:ext cx="880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ftwareProduct:  Product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Set&lt;string&gt;  platfor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Set&lt;integer&gt; requiredMemo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ucationalProduct: Product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Struct Interval {integer begin, integer end} ageGrou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string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9720" y="6137280"/>
            <a:ext cx="71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two classes also inherit all the properties of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0280" y="152280"/>
            <a:ext cx="53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in E/R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Inherit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286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38862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8862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5562720"/>
            <a:ext cx="221004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6000" y="3962520"/>
            <a:ext cx="135864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828800" y="3276720"/>
            <a:ext cx="2743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276720"/>
            <a:ext cx="2590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48769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360" y="4876920"/>
            <a:ext cx="2819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81680" y="301320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93960" y="27846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726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57200" y="35809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620120" y="37335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562720" y="5866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resolve conflict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2286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8862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8862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5562720"/>
            <a:ext cx="221004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6000" y="3962520"/>
            <a:ext cx="135864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28800" y="3276720"/>
            <a:ext cx="2743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3276720"/>
            <a:ext cx="2590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8769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19360" y="4876920"/>
            <a:ext cx="2819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81680" y="301320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93960" y="27846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26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200" y="35809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620120" y="37335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562720" y="5866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960" y="220968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0400" y="548640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85440" y="48769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7009920" y="2971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5240" y="5756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048120" y="6019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34290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93960" y="727200"/>
            <a:ext cx="29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D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object bel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ing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E/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tity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ou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7440" y="1219320"/>
            <a:ext cx="80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ing constraints is what modeling is all about. But how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express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main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6160" y="6289560"/>
            <a:ext cx="70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are these constraints useful in the implemen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6000" y="1793880"/>
            <a:ext cx="7444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attributes that uniquely identify an object or e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cial security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</a:rPr>
              <a:t>name +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+ address +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 keys are often hard to find, so organizations us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 someth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 object may have multiple ke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number,   social-security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O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2840" y="1946160"/>
            <a:ext cx="5936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  ss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multiple ke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  ssn employeID  (name address ag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-144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6720" y="1717560"/>
            <a:ext cx="763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tity (or object) may ha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 most 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for a gi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or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16840" y="2556000"/>
            <a:ext cx="49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ocial-security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720" y="3622680"/>
            <a:ext cx="802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do this in OD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/R, every attribute has at most one val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tell us about multiplicity of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have a single-valued constraint, we can ei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equire that the value exist (see referential integrity short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llow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8520" y="1143000"/>
            <a:ext cx="807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lationship has one value and the valu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 madeBy  Company: company mus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nforce referential integrity constraints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otherw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 get dangling poin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bid to delete a reference object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lete the objects that reference an object we’re del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5715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715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5334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895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6019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" y="49179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E/R dia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5640" y="1717560"/>
            <a:ext cx="78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attributes come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part-of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splitting n-ary relations to bi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49528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49528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45720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819520" y="5257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19920" y="6019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8769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4956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6477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00800" y="6553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142640" y="5791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28800" y="5791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629040" y="5715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000" y="17938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eed an entity set twice in on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69920" y="2631960"/>
            <a:ext cx="52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te the multiplicity of the relationshi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e cannot express all pos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37160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" y="628956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48560" y="514656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ral: don’t talk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440" y="4917960"/>
            <a:ext cx="29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we really need 3-way relationship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5562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39625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18288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52578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371240" y="251460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143000" y="434304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209320" y="4343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480" y="491796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d a nic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say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59" idx="3"/>
            <a:endCxn id="154" idx="1"/>
          </p:cNvCxnSpPr>
          <p:nvPr/>
        </p:nvCxnSpPr>
        <p:spPr>
          <a:xfrm>
            <a:off x="4572000" y="594324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7" idx="3"/>
            <a:endCxn id="155" idx="1"/>
          </p:cNvCxnSpPr>
          <p:nvPr/>
        </p:nvCxnSpPr>
        <p:spPr>
          <a:xfrm>
            <a:off x="4571640" y="43430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8" idx="3"/>
            <a:endCxn id="156" idx="1"/>
          </p:cNvCxnSpPr>
          <p:nvPr/>
        </p:nvCxnSpPr>
        <p:spPr>
          <a:xfrm>
            <a:off x="4571640" y="25142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10:52:07Z</dcterms:created>
  <dc:creator>alon</dc:creator>
  <dc:description/>
  <dc:language>en-US</dc:language>
  <cp:lastModifiedBy>Rachel Pottinger</cp:lastModifiedBy>
  <cp:lastPrinted>1999-10-01T16:14:41Z</cp:lastPrinted>
  <dcterms:modified xsi:type="dcterms:W3CDTF">1999-10-04T17:12:10Z</dcterms:modified>
  <cp:revision>31</cp:revision>
  <dc:subject/>
  <dc:title>Database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