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8DB-380B-46EF-A9D2-CC31E750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C6B-2A51-4856-9DED-BDA809C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038-F417-4D3D-8264-92E14869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D77-FCD7-4337-9F06-E1F15D4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21B-859D-4F76-A777-6B7E96E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DD5-E1CC-4538-9AFD-D74C9DB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42F-4359-4616-851D-1B31A90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89D-8417-4669-8A76-9774E18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660-7EDE-44C3-99E3-BAD0502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953-E3B1-4A8A-8F18-1362CF4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0DD-5737-4951-A715-CBC4FB3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27E-9142-4E1B-AB7C-C9E4325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CB1-2542-4D11-89CA-70F13CEB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ing Attribut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 invali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CHAR(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(gender IN (‘F’, ‘M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(MovieNam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MovieName FROM Movie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raint is checked whenever the value of the attribute is changed or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this the same as RE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 Level Trigg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1280" y="1785960"/>
            <a:ext cx="872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verage-price-p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EAD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PDATE OF price O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_TABLE  AS Old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_TABLE AS New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1000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LECT  AVG 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((Product EXCEPT OldStuff) UNION NewStuff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ROM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(name, price, company) IN OldStu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LECT  * FROM NewStu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Things Can 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960" y="1717560"/>
            <a:ext cx="5034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ad-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FTER 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rice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ING  OLD AS  Old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S New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NewTuple.price &gt;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= NewTuple.price *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= NewTupl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QL is rarely used: usually, SQL is embedded in some application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some method to reference SQL stat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 there is a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mpedance mis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: we use cur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hings can be explained with the impedance mis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s with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0840" y="2174760"/>
            <a:ext cx="44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 +  Embedded SQ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360" y="2971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886200"/>
            <a:ext cx="40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+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2560" y="4765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5715000"/>
            <a:ext cx="30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895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00600"/>
            <a:ext cx="3429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edance Mismat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2040" y="1981080"/>
            <a:ext cx="83736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t language manipulates variables, values,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manipulates 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construct in the host language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pulating 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not use only one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getting SQL: “we can quickly dispense with this ide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Ullman &amp; Widom, pg. 363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cannot do everything that the host language can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: SQL / Host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080" y="1219320"/>
            <a:ext cx="818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get passed through shared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s precede shared variables when they occur with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:  precedes every SQL statement in the host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SQLSTATE provides error messages and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(e.g., 00000 says that the operation completed with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productName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hared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2080" y="1717560"/>
            <a:ext cx="696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productName[20], company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  get values for productName and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how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(nam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:productName, :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Row Select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0440" y="1600200"/>
            <a:ext cx="588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 getPric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productName[20], company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   read value of product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: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Product.name = :product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 print out value of price  */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4600" y="1295280"/>
            <a:ext cx="778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ursor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….   FROM …. WHERE …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  cursor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ETCH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ursor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variab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 do something with values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OSE cursor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840" y="1870200"/>
            <a:ext cx="77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modify a relation as well as rea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termine the order in which the cursor will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by the ORDER BY keyword in the SQL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be protected against changes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sor can be a scrolling one: can go forward, back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n, -n, Abs(n), Abs(-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ing Values with User Defined ‘Types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efine new domains to use as the attribute typ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MAIN GenderDomain CHAR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(‘F’, ‘M’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update our attribute definitio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 Gender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e use of VALUE to refer to the attribut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eferred constraint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al with circular referencial integrity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in SQL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800" y="838080"/>
            <a:ext cx="75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Limited forms of recursion are considered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near recur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1 occurrence of a recursive pred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h( X, Y )   :-   Edge( X,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h( X, Y )   :- Edge( X, Z ),  Path( Z, Y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640" y="2749680"/>
            <a:ext cx="618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AS SELECT origin, dest  FROM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UR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th(origin, dest)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LECT Pairs.origin, Path.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irs,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airs.to = Path.ori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* FROM Pa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819520"/>
            <a:ext cx="65530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plex Constraint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several attributes in on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t the end of CREAT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(gender = ‘F’ OR name NOT 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Ms.%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ed whenever a tuple of the relation is added or upd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, changes in other places in the database may cause the constraint to be violated. If this is important, use asse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name&gt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&lt;condition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SSERTION RichPres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LECT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tudio, MovieEx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presC# = cert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netWorth &lt; 100000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880" y="6019920"/>
            <a:ext cx="78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ecked whenever any change occurs 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600" y="2124000"/>
            <a:ext cx="649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SSERTION  Sum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000 &lt;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LECT  SUM(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Y studioName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we also write this as a tuple constraint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Constraint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880" y="1752480"/>
            <a:ext cx="7790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            Where Declared     When activated   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         with attribute          on insertion      no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                                           or update          sub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                relation schema       insertion or      no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                                            update to          sub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         database schema      on change to  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i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25495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640" y="6588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640" y="376884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640" y="52164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905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1905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1905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800" y="990720"/>
            <a:ext cx="836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the database programmer to spec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o check a constra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xactly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has 3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update to an attrib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a query to 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deletion, update, inser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s, the system will check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str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atisfied, will perform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triggers may cause cascading effec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vendors did not wait for standards with trigg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Triggers (in SQL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7200" y="1793880"/>
            <a:ext cx="880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of action execution: before, after or instead of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on can refer to both the old and new stat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events may specify a particular column or set of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dition is specified with a WHEN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on can be performed eithe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for every tupl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for all the tuples that are changed by the databas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ow Level Trig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" y="1862280"/>
            <a:ext cx="601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NoLower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FTER UPD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price  O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EREN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D  AS Old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 AS  New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ldTuple.price &gt; NewTuple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 price = OldTuple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name = NewTupl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4:02:17Z</dcterms:created>
  <dc:creator>Alon Levy</dc:creator>
  <dc:description/>
  <dc:language>en-US</dc:language>
  <cp:lastModifiedBy>Rachel Pottinger</cp:lastModifiedBy>
  <cp:lastPrinted>1999-11-08T20:27:10Z</cp:lastPrinted>
  <dcterms:modified xsi:type="dcterms:W3CDTF">1999-11-14T22:56:43Z</dcterms:modified>
  <cp:revision>25</cp:revision>
  <dc:subject/>
  <dc:title>Embedded SQ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