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A9A-64BB-4E31-A732-22A33F2D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83B-8094-4F73-A4AA-0CB38A8E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07C-81CD-4BC7-8CF6-40FA26C7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8DD-D0E8-474F-B3F6-DB2DFD7E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CF5-FCD1-494F-A64A-EBAE0960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9EA-B912-4E6A-BE1C-EE2BBF06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09E-DF34-4DA9-BAA7-D345524A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0F9-EA12-4E2F-81D2-BEA90A82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59E-B6B5-462D-98DD-EC2564B4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F07-4F6E-452F-8B70-433B42D9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C132-13BB-4E18-BC24-AF4815C4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030-1682-4BFC-9E50-8BA8FE20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1319-1992-4B41-822E-A2A9DD77F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Row Level Trig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" y="1862280"/>
            <a:ext cx="601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REATE TRIG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NoLower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FTER UPD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 price  O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FERENC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LD  AS Old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 AS  New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ldTuple.price &gt; NewTuple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 price = OldTuple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name = NewTupl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FOR EACH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Transaction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3080" y="1819440"/>
            <a:ext cx="74653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irline reservation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check if a seat is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reserve the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Bad scenario: (but very commo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1 -  finds a seat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2 - finds the same seat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1 - reserves the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2 - reserves the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ustomer 1 will not be happy; spends night in airport hot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mor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800" y="1793880"/>
            <a:ext cx="72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in Memor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sk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7080" y="251460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verage ac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i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-100 nano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08240" y="2362320"/>
            <a:ext cx="295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0 GB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verage tim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cess a blo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-15 m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, rot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ecords “clo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6200" y="2438280"/>
            <a:ext cx="32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MB/S transf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0 GB typ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ly sequentia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or 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0120" y="548640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cess time 10 nano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Space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7920" y="1523880"/>
            <a:ext cx="7322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manage the location of pages on disk (page = b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commands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ing and deallocating a 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nd writing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Why not use the operating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for this tas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size of addres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eed to span sev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187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190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201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205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98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6732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225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731760" y="5670720"/>
            <a:ext cx="1396800" cy="798480"/>
            <a:chOff x="3731760" y="5670720"/>
            <a:chExt cx="1396800" cy="798480"/>
          </a:xfrm>
        </p:grpSpPr>
        <p:sp>
          <p:nvSpPr>
            <p:cNvPr id="228" name=""/>
            <p:cNvSpPr/>
            <p:nvPr/>
          </p:nvSpPr>
          <p:spPr>
            <a:xfrm>
              <a:off x="373176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232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234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Row Level Trig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1200" y="1862280"/>
            <a:ext cx="641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REATE TRIG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NoLower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NSTEAD OF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UPD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 price  O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FERENC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LD  AS Old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 AS  New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ldTuple.pric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wTuple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 price =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ewTu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name = NewTupl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FOR EACH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ment Level Trigg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1280" y="1785960"/>
            <a:ext cx="8722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REATE TRIG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verage-price-pre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STEAD 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PDATE OF price O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FER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LD_TABLE  AS OldStuf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he old versions of the tup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_TABLE AS NewStuf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he new vers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1000 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LECT  AVG 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((Product EXCEPT OldStuff) UNION NewStuff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ROM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(name, price, company) IN OldStuf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SER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LECT  * FROM NewStu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d Things Can 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960" y="1717560"/>
            <a:ext cx="5034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RI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ad-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FTER 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price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ING  OLD AS  Old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AS New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NewTuple.price &gt; 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= NewTuple.price *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= NewTupl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EACH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DBM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large amount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queries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multiple users to access the database concurrently and saf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durability of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will we do all thi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ic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1430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19810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38862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8954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87692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57913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2485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1440" y="12193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4760" y="2057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68920" y="30132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/record m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7400" y="39625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1080" y="495288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32480" y="6213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9840"/>
            <a:ext cx="198108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8360" y="68580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360" y="60948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1814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41800" y="148896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36640" y="240336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,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2160" y="331776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99840" y="42670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9144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54720" y="2222640"/>
            <a:ext cx="144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1840" y="2222640"/>
            <a:ext cx="180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3320" y="220680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72080" y="421956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19840" y="421956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72080" y="42195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72080" y="42195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76640" y="473076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92840" y="473076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8480" y="350676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48480" y="257976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03840" y="321948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89520" y="3232080"/>
            <a:ext cx="76320" cy="14616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000" y="517032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04600" y="515448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1000" y="442908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0640" y="320040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85560" y="320040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07280" y="229068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32600" y="4114800"/>
            <a:ext cx="2529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Simple Nested Loop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5760" y="313992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04080" y="2133720"/>
            <a:ext cx="183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7672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40" y="3429000"/>
            <a:ext cx="3734280" cy="179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1752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7600" y="5638680"/>
            <a:ext cx="68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lan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ree of R.A. ops, with choice of alg for each 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1160" y="6248520"/>
            <a:ext cx="79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find best plan.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actic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worst pla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480" y="11080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4840" y="28954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4280" y="1295280"/>
            <a:ext cx="67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nd names of people who bought telephony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65520" y="2370240"/>
            <a:ext cx="144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2370240"/>
            <a:ext cx="180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24120" y="235440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47720" y="43718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95480" y="437184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47720" y="437184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47720" y="437184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52640" y="48830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68480" y="488304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272736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4640" y="532296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0600" y="530712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66640" y="45813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0600" y="3200400"/>
            <a:ext cx="2079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egory=“telephon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8080" y="243828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920" y="426708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04080" y="2133720"/>
            <a:ext cx="183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5280" y="449568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373392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43240" y="373392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392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373392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133720" y="3962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352680" y="3962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6480" y="4038480"/>
            <a:ext cx="125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=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0880" y="358128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84880" y="2446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72360" y="2446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43840" y="2430360"/>
            <a:ext cx="174600" cy="180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67440" y="444816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15200" y="444816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67440" y="44481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67440" y="44481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72000" y="495936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88200" y="495936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78640" y="2803680"/>
            <a:ext cx="180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14360" y="539892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99240" y="538308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79880" y="403848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0320" y="3276720"/>
            <a:ext cx="2079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egory=“telephon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7440" y="2514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1280" y="434340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95360" y="45720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38098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62960" y="38098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38098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38098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553080" y="403812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777240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3200" y="4648320"/>
            <a:ext cx="125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=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0600" y="365760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8840" y="29718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2240" y="30481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981080"/>
            <a:ext cx="43434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1981080"/>
            <a:ext cx="43434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1080" y="6137280"/>
            <a:ext cx="66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ut what if we’re only looking for Bob’s purcha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0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0560" y="1793880"/>
            <a:ext cx="834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mic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 of a transaction happen,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sistenc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a transaction is consistent, and the database st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nsistent state, then it will end in a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execution of one transaction is isolated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f  a transaction commits, its effects persist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17:26:12Z</dcterms:created>
  <dc:creator>Alon Levy</dc:creator>
  <dc:description/>
  <dc:language>en-US</dc:language>
  <cp:lastModifiedBy>Rachel Pottinger</cp:lastModifiedBy>
  <cp:lastPrinted>1999-11-10T18:13:58Z</cp:lastPrinted>
  <dcterms:modified xsi:type="dcterms:W3CDTF">1999-11-14T23:01:09Z</dcterms:modified>
  <cp:revision>21</cp:revision>
  <dc:subject/>
  <dc:title>Architecture of a DBM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