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3DB-CB87-43A1-B092-F4265048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796-39C9-4CF8-8E7D-CD8962C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175-4D8B-4F57-BE3A-B4BBCAF9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EC3-B06E-418E-9A7A-51034EA4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052-A944-46D3-BE4B-2087EBD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1ED-8237-4BA3-8D9B-2636392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5DA-8650-4E4E-95D7-53A9EF8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454-FD42-4E48-9659-5E7A4E70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BB1-49C7-4304-92A9-F1FFCFC8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FED-D22B-4D7C-A915-FD94FC6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9B4-1693-4E64-8C0F-C860DF47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888-50DA-4116-B302-BBFE291F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C46-E60F-468D-A3C1-7707FD892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4720" y="22226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41840" y="22226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3320" y="22068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72080" y="421956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19840" y="42195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76640" y="47307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47307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48480" y="350676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48480" y="25797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03840" y="321948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89520" y="323208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000" y="51703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04600" y="515448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1000" y="44290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0640" y="320040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85560" y="320040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7280" y="22906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32600" y="411480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5760" y="3139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40" y="342900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7600" y="563868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 of R.A. ops, with choice of alg for each 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4840" y="28954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4280" y="1295280"/>
            <a:ext cx="67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names of people who bought telephon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65520" y="23702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52640" y="23702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4120" y="23544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7720" y="43718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95480" y="437184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2640" y="48830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68480" y="48830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273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40" y="532296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0600" y="530712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66640" y="45813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0600" y="320040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8080" y="24382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1920" y="42670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5280" y="44956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373392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3240" y="373392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3962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3526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6480" y="403848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0880" y="35812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4880" y="2446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2446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43840" y="24303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6744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1520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2000" y="49593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88200" y="49593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78640" y="280368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14360" y="53989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99240" y="53830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9880" y="40384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0320" y="327672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7440" y="2514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1280" y="43434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5360" y="4572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6296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53080" y="40381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77240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3200" y="464832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0600" y="36576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8840" y="2971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224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1080" y="613728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ut what if we’re only looking for Bob’s purcha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0560" y="1793880"/>
            <a:ext cx="834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mi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of a transaction happen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sis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transaction is consistent, and the database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nsistent state, then it will end in a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xecution of one transaction is isolated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 a transaction commits, its effects persi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3080" y="1819440"/>
            <a:ext cx="74653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irline reservation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eck if a sea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eserve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ad scenario: (but very comm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 finds a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finds the same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stomer 1 will not be happy; spends night in airport ho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 Levy</dc:creator>
  <dc:description/>
  <dc:language>en-US</dc:language>
  <cp:lastModifiedBy>Rachel Pottinger</cp:lastModifiedBy>
  <cp:lastPrinted>1999-11-10T18:13:58Z</cp:lastPrinted>
  <dcterms:modified xsi:type="dcterms:W3CDTF">1999-11-14T22:57:44Z</dcterms:modified>
  <cp:revision>20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