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C17-0524-4231-A675-7C2B1A20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909-F9A3-4D60-8F94-3100FC36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348-E402-415B-8DBB-BE1968FC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A54-0076-4405-8C3A-D06933CD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B10-EC1B-4378-882B-D513732A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267-5656-4883-9303-707E0C22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4FC-DEC0-4E7E-A9EC-8EAEEDB5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87A-489F-4AF2-8FDB-49798237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AAB-2534-4A13-972F-389EC78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C4B-8DA3-4870-9FD2-781B5253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456-2CAE-45ED-A10C-37C6B31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3AD-291E-4E4F-A258-08E4E07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D58-F13C-4E07-8A3D-9FDAB87D9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r to a “logic” notation, pro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nvenient f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press queries that are not expressible in relational algebra or SQL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(recurs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rouping and aggregation, bags, order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tiv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" y="1676520"/>
            <a:ext cx="894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are representing a graph by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dge(X,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dge(a,b),  Edge (a,c), Edge(b,d), Edge(c,d), Edge(d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61760" y="4156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36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85640" y="484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38840" y="415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90960" y="4232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7400" y="38098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648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3733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657600" y="45720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4197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240" y="5553000"/>
            <a:ext cx="609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can I express the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 all nodes reachable from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in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Recursive queries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th( X, Y )   :-   Edge( X, Y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th( X, Y )   :-   Path( X, Z ),  Path( Z, Y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ery is recursive if there is a cycle in the dependency graph of the predic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Recursive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4800" y="923760"/>
            <a:ext cx="75204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h( X, Y )   :-   Edge( X,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h( X, Y )   :-   Path( X, Z ),  Path( Z, Y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mant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 the rules until a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ixed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#0:  Edge:  {(a,b), (a,c), (b,d), (c,d), (d,e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: 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#1:  Path: {(a,b), (a,c), (b,d), (c,d), (d,e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#2:  Path gets the new tu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d), (b,e), (c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#3: Path gets the new 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#4: Nothing changes -&gt; We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ote:  number of iterations depends on the data. Canno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nticipated by only looking at the que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Recursiv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light(x,y)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re is a flight from city x to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ub(x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is a hu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e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pairs of cities for which there is a flight that goes through some hu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(x,y) :- Flight(x,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(x,y) :- Flight(x,z), Fl(z,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,y) :- Fl(x,z), Hub(z), Fl(z,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ductive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 ide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me relations are stored (extensional), others are defined by datalog queries (intension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research projects (MCC, Stanford, Wisconsin)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[Great Ph.D theses!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3 realized that recursion is useful, and added linear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Hard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ing datalog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 from deductive databases made it into the main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s and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000" y="1676520"/>
            <a:ext cx="87274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 are represented by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tuples are represented by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Purchase( “joe”, “bob”, “Nike Town”, “Nike Air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rithmetic comparison a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&lt; 100,    X+Y+5 &gt; Z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 negated a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 Product(“Brooklyn Bridge”, $100, “Microsof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Rules an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400" y="1371600"/>
            <a:ext cx="8930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log rule has the following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d  :-   atom1, atom2, …., atom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PerformingCo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ame) :-  Company(name,sp,c), sp &gt; $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merican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d) :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rod,pr,cat,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m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ompany(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m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p,“USA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All the variables in the head must appear in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 single rule can express exactly select-from-where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aning of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20" y="1676520"/>
            <a:ext cx="893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merican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d) :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rod,pr,cat,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m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Company(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m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p,“USA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3352680"/>
            <a:ext cx="8396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variables in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onstants in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ach of the atoms in the body is in the databa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ple for the head  is in the resul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320" y="1676520"/>
            <a:ext cx="8839080" cy="914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.per-name = Purchase.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attle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,seller,product,store) 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(buyer, “Seattle”, phon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(buyer, seller, product, st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 (negation, un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attle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,seller,product,store) 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(buyer, “Seattle”, phon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(buyer, seller, product, st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urchase(buyer, seller, product, “The Bo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) :- Purchase(buyer, “Joe”, prod, st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) :- Purchase(buyer, seller, store, pro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rod, price, cat, mak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(maker, sp, country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 &gt; 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5760" y="1905120"/>
            <a:ext cx="8055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ariable that appears anywher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must appear also in a relational, non-ne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 in th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(X,Y,Z) :-  R1(X,Y) &amp; X &lt; Z              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(X,Y,Z) :-  R1(X,Y)  &amp;   NOT  R2(X,Y,Z)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attle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,seller,product,store) 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(buyer, “Seattle”, phon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(buyer, seller, product, st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urchase(buyer, seller, product, “The Bo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) :- SeattleView(buyer, “Joe”, prod, st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uyer) :- SeattleView(buyer, seller, store, pro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prod, price, cat, mak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(maker, sp, country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 &gt; 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Algebra to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3240" y="1905120"/>
            <a:ext cx="882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translate any relational algebra operation to datalo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3:21:15Z</dcterms:created>
  <dc:creator>Alon Levy</dc:creator>
  <dc:description/>
  <dc:language>en-US</dc:language>
  <cp:lastModifiedBy>Rachel Pottinger</cp:lastModifiedBy>
  <cp:lastPrinted>1999-10-28T17:42:45Z</cp:lastPrinted>
  <dcterms:modified xsi:type="dcterms:W3CDTF">1999-10-28T18:03:03Z</dcterms:modified>
  <cp:revision>50</cp:revision>
  <dc:subject/>
  <dc:title>SQL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