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3F9-4841-46A0-8998-FA63E590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E55-D83A-4E7A-ACFA-04432DCA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824-5858-441D-B621-2ED86B26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A8D-3AC7-4F7C-99C9-43D126DE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0C2-7705-4FA6-979C-BCA52E75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BAA-4275-40B6-9544-5EBDF9F1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838-F251-4952-9F2C-486CE576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AC7-F773-46F1-82B0-B2474BF6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3B4-D448-4880-AA96-2108B14D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51F-2B42-464C-848D-E4F6F230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425-6BB0-46F9-ADDF-4EE812F9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D67-03B7-4DDF-B991-67E4A4B3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63D4-78AE-455C-8824-30640ED63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ductive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neral ide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me relations are stored (extensional), others are defined by datalog queries (intension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research projects (MCC, Stanford, Wisconsin)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[Great Ph.D theses!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3 realized that recursion is useful, and added linear recu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Hard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izing datalog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 from ddb’s made it into practice (recursion, magic sets, pred. movearound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: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R(A,B,C,D,E) with functional dependencies A</a:t>
            </a:r>
            <a:r>
              <a:rPr b="0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, B</a:t>
            </a:r>
            <a:r>
              <a:rPr b="0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C</a:t>
            </a:r>
            <a:r>
              <a:rPr b="0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into BCN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: SQL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ook that has been both borrowed and requested, give the phone number of the borrower and the requ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b.phone_number, r.phone_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ibrary_Patron as b, Library_Patron as r,     Book_Request as br, Borrowed as 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b.card_number = borrowers_card_numbe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.card_number = requesters_card_numbe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.book_ISBN = br.book_ISB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SQL: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70200" y="1870200"/>
            <a:ext cx="7837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times have books tit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irst Course in Database Syst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n borrow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d,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d.book_ISBN = Book.ISB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ook.title = ‘A First Course in Database System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SQL: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5400" y="1641600"/>
            <a:ext cx="7718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t of pairs (a, n), where n is the number of ti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lon Levy has borrowed a book authored by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ount(book_ISBN),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orrowed, Book, Library_Pa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orrowed.book_ISBN = Book.ISB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Library_Patron.first_name = ‘Alo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Library_Patron.last_name = ‘Lev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orrowed.borrowers_card_numbe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brary_Patron.card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y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SQL: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4680" y="923760"/>
            <a:ext cx="9245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 SQL query that produces the set of pa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orrower, number) such that "number" is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books borrowed by the "borrower" and tha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ook has never been borrowed by someon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name of the book's author is alphabetically after borr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ard_number , count(book_IS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Library_patron, Borrowed,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ard_number = borrowers_card_numbe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uthor &gt; last_name and book_ISBN = ISB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ok_ISBN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ook_ISB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orrowed as borrower1, Borrowed as borrower2,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ok_ISBN = ISB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rrower1.borowers_card_number &lt;&gt;borower2.borrowers_card_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ard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: Constraints and Trig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6 Ullman and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 properties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tion of the database may break these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handlers into the database definition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tial integrity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: Fundamental Constr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REATE TABLE statement, 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KEY, U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 MovieStar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PRIMARY 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VARCHAR(255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CHAR(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list at end of CREAT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 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the UNIQUE keyword in sa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for any number of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 only reference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ing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UNIQUE INDEX YearIndex ON Movie(ye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insertions easier to check for key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le differences between PRIMARY KEY and U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edIn(ActorName,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vie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es(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Times New Roman"/>
              </a:rPr>
              <a:t>MovieName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MovieName in ActedIn is a foreign key for Movies, the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Foreign Key must be a reference to a valid value in the referenced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… must be a PRIMARY KEY in the referenced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Yes, this is a referential integrity constra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 keywor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ABLE ActedIn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 PRIMARY KE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Name CHAR(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Movies(MovieName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ummarize at end of CREAT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 MovieName REFERENCES Movies(Movie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eName must be a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Maintain th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change to DB, there are several possible viol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ew tuple with bogus foreign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 tuple to a bogus foreign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 tuple in the referenced table with the referenced foreign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 tuple in the referenced table that changes the referenced foreign key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aint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, ActedIn has FK MovieNam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s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vi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ye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atal Attraction,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edIn(ActorName, Movie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ichael Douglas, Fatal Attr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: (Rick Moranis, Strange Bre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aint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es for handling the chang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ject the update (defau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 (example: cascading dele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et update and delete actions independently in CREAT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Name CHAR(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Movies(MovieName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ELETE SET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UPDATE CASC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03:21:15Z</dcterms:created>
  <dc:creator>Alon Levy</dc:creator>
  <dc:description/>
  <dc:language>en-US</dc:language>
  <cp:lastModifiedBy>Rachel Pottinger</cp:lastModifiedBy>
  <cp:lastPrinted>1999-11-01T17:16:58Z</cp:lastPrinted>
  <dcterms:modified xsi:type="dcterms:W3CDTF">1999-11-14T22:04:21Z</dcterms:modified>
  <cp:revision>69</cp:revision>
  <dc:subject/>
  <dc:title>SQL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