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C69-8DCB-4085-A0ED-FB3A59D8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A95-CD9E-44D2-81B8-D8C173C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7B6-6735-4EA1-AEFB-37922222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A4A-4989-4B72-8DE3-CA2386B8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660-4013-43A0-B122-52D6E8D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F38-80B0-41D7-9822-6C8D5C90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0A7-CC20-4FF0-9583-4E227E4F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4B0-DAFB-4A99-9A3C-CC7B0234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995-B6FC-499E-AC6E-58943C9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671-CF3A-4558-BE55-6D955F5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542-F212-4776-AC46-66A604D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794-0F0C-4D00-870A-52FF17D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7BC4-A34C-49EA-A296-631FB7A3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7440" y="1219320"/>
            <a:ext cx="80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ng constraints is what modeling is all about. But how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xpress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main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6160" y="6289560"/>
            <a:ext cx="70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are these constraints useful in the implemen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ODL 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1360" y="2251080"/>
            <a:ext cx="79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simple:  a class definition has onl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 value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6560" y="2743200"/>
            <a:ext cx="919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rodu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 {telephony, gadgets, books}  category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ass becomes a relation, and every attribute becomes a relation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15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5867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59240" y="522288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Price                      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7680" y="6137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$19.99           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533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533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880" y="49942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Non atomic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320" y="399744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5320" y="41497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6120" y="350532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urrency    Am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6000" y="441972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US$          19.99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6000" y="49528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   US$          29.99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7800" y="1641600"/>
            <a:ext cx="63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 is a record:   {string currency, float amoun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840" y="2784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3692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640" y="3844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5680" y="320040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11480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5720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7920" y="274320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 option:  have a tuple for every value in the s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8720" y="6137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advant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960" y="990720"/>
            <a:ext cx="472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erson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SS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integers Phone Numbe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Colle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809880"/>
            <a:ext cx="510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model ba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length arr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520" y="1641600"/>
            <a:ext cx="768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becomes even more significant if a class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attributes that are set typ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ad is the redundancy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 type attribu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with possibly up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val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stions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600" y="1066680"/>
            <a:ext cx="5246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rod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float  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mpany&gt;  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 Compan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float stock-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string  addr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120" y="6213600"/>
            <a:ext cx="82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do we incorporate the relationship madeBy in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6000" y="1717560"/>
            <a:ext cx="89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Price    made-by-name   made-by-stock-price  made-by-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13372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28600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520" y="232740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$19.99  gizmoWorks        0.0001$                     Monte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760" y="331776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600" y="1066680"/>
            <a:ext cx="5246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rod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float  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mpany&gt;  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 Company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float stock-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string  addr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t &lt;Product&gt; mak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200" y="2438280"/>
            <a:ext cx="76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  Price                            made-by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11400" y="254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5320" y="3048120"/>
            <a:ext cx="73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   $19.99             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80" y="1641600"/>
            <a:ext cx="71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 re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ssu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is a key for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8954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81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4280" y="42321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any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160" y="5029200"/>
            <a:ext cx="70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  Stock Price                    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840" y="5140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43680" y="5105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" y="5638680"/>
            <a:ext cx="71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   $0.00001                    Monte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040" y="5486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040" y="56386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3320" y="2479680"/>
            <a:ext cx="679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hat if there is no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if the relationship is multi-valu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ow do we represent a relationship and its inve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 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320" y="2022480"/>
            <a:ext cx="835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han ODL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using a liberal interpretation of the word “eas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lationships are already independen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ly atomic types exist in the E/R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ntity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re for weak entity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720" y="1717560"/>
            <a:ext cx="76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 (or object) may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for a g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or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6840" y="2556000"/>
            <a:ext cx="49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ocial-securit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720" y="3622680"/>
            <a:ext cx="802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do this in OD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/R, every attribute has at most one va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tell us about multiplicity of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have a single-valued constraint, we can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equire that the value exist (see referential integrity shor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llow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193" idx="2"/>
            <a:endCxn id="197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192" idx="0"/>
            <a:endCxn id="193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40" y="47656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9436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019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1" idx="0"/>
            <a:endCxn id="246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1" idx="0"/>
            <a:endCxn id="232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31" idx="0"/>
            <a:endCxn id="233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29" idx="0"/>
            <a:endCxn id="240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9" idx="3"/>
            <a:endCxn id="230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3960" y="3581280"/>
            <a:ext cx="835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ort                            Number                 Affiliate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d wrestling                 15                     Montezuma State 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105120" y="5527800"/>
            <a:ext cx="74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ed all the attributes that contribute to the key of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n’t need a separate relation for Affil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4800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876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5" idx="0"/>
            <a:endCxn id="284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4" idx="0"/>
            <a:endCxn id="273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3" idx="2"/>
            <a:endCxn id="282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2" idx="3"/>
            <a:endCxn id="274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75" idx="2"/>
            <a:endCxn id="283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83" idx="3"/>
            <a:endCxn id="276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81" idx="0"/>
            <a:endCxn id="274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76" idx="0"/>
            <a:endCxn id="281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78" idx="2"/>
            <a:endCxn id="275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77" idx="2"/>
            <a:endCxn id="274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1: the OD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680" y="1870200"/>
            <a:ext cx="883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4 tables: each object can only belong to a sing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name, price, 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Product( name, price, category, manufacturer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Grou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Product( name, price, category, manufacturer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tfor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quired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SoftwareProduct( name, price, category, manufactur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Group, topic, platfor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quired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2: the E/R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200" y="2057400"/>
            <a:ext cx="728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(name, price, 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Product( 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Group, to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Product( 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tforms, required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 need for a relation EducationalSoftware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, it has a specialized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SoftwareProduct(name, educational-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 #3: The Null Valu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1600" y="2631960"/>
            <a:ext cx="86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on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( name,  price,  manufacturer, age-group, topic, platform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-memory, educational-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values in the table will be NULL, meaning that the 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ake sense for the specific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ow many more meanings will NULL hav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8520" y="1143000"/>
            <a:ext cx="807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onship has one value and the valu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 madeBy  Company: company mus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nforce referential integrity constraints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otherw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 get dangling poin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bid to delete a reference object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lete the objects that reference an object we’re del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5638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715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5334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95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40" y="49179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E/R dia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3"/>
            <a:endCxn id="50" idx="1"/>
          </p:cNvCxnSpPr>
          <p:nvPr/>
        </p:nvCxnSpPr>
        <p:spPr>
          <a:xfrm>
            <a:off x="5334120" y="601956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58672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640" y="1717560"/>
            <a:ext cx="78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attributes come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part-of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splitting n-ary relations to bi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9528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5720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520" y="5257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6019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8769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4956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142640" y="5791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629040" y="5715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4560" y="1793880"/>
            <a:ext cx="16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L, E/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7560" y="198108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1981080"/>
            <a:ext cx="12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4613400"/>
            <a:ext cx="21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(E/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61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424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440" y="59850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8794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447560" y="12952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295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295280"/>
            <a:ext cx="3124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95280"/>
            <a:ext cx="5334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9840" y="613728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What can’t you say in the relational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320" y="2174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attribute has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o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680" y="2784600"/>
            <a:ext cx="886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Sche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lation name + attribute names +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tribut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 inst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set of tuples. Only one copy of any tu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base Sche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relation sch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base inst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relation instance for every relation in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1600200"/>
            <a:ext cx="873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ly, a mapping from attribute names to (correctly typed)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giz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   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     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we refer to a tuple by itself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note order of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izmo, $19.99, gadgets, GizmoWorks)  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(gizmo, $19.99, gadgets, GizmoWork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680" y="209880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database maintains a current databas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s to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add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delete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modify an attribute in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s to the data happen very frequ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s to the schema: relatively rare. Rather painful. </a:t>
            </a: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alon</dc:creator>
  <dc:description/>
  <dc:language>en-US</dc:language>
  <cp:lastModifiedBy>Rachel Pottinger</cp:lastModifiedBy>
  <cp:lastPrinted>1999-09-29T15:59:08Z</cp:lastPrinted>
  <dcterms:modified xsi:type="dcterms:W3CDTF">1999-10-06T23:03:27Z</dcterms:modified>
  <cp:revision>42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