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893-69D1-4603-B080-D72529CA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B30-7C92-43D2-86DA-CE01A1DD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976-1541-4C5D-A818-71728397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F78-F0DD-42CE-8BFC-80798269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D6AB-C8C7-4E7C-84CE-EB025EEE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549E-B1A3-424A-918C-3997597E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0A21-74D6-422E-BFA9-C4159445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C5F-2762-414B-8E28-D5795E1E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F20D-E70B-4649-9B99-0A12D454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EF56-1F35-4A0E-B080-61531F9F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A512-ABA8-480C-AEE8-3CFF0A0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85D-8A25-467E-AACD-21C09258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61A-6940-44EF-9AE4-5ABE0BA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3C0E-75B2-486D-B002-32CB4E7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F836-8401-4DD8-A5E7-BAE00CB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A64-A6B5-41EB-AD77-CA512B9F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6DDE-0EE0-41AC-BE7C-FA095FD5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BD8-7152-47A4-96CD-C23C116E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1D3-C108-4189-B4A2-834D7EE5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297-36BE-4216-8EA4-174A95A8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CE1-69AD-43AB-9944-3CF46AF6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230-EAB2-4F00-94B0-A7945BF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E86-A29E-4D47-88B5-528B62D5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E8E-4017-43CE-8889-C624F2E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-</a:t>
            </a:r>
            <a:fld id="{8840710E-50AB-41FA-834A-3A343C35A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-</a:t>
            </a:r>
            <a:fld id="{7367BA5D-2505-4AC7-B3BF-72F276B74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ry Optimization Highligh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6 (intro), 16.1 (skim), 16.2 (sk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E1FC-63ED-4AE3-B2D1-EAF2C69FB3D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2/8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ïve Query Process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L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MPLOYEE,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NO=DNUMBER AND SALARY&gt;45000 AND DNAME="Software Support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aively, this is 1 Cartesian product, followed by 3 selects, followed by on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tree is drawn from botto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DA7-737D-42DF-A8B8-E7CBF662C7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8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ry Processor might actually execute this as 2 selects, a join, a select and a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rter optimizer might do additional pro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m intuitive?  It's really intuitive only for the smallest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ecution strate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lan for getting the result of a qu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finding the best execution strate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FC4-B2AD-4744-BD5C-C48693EA86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8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lpful Idea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able size before jo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s and projects as far down the tree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joins and C.P.s as late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operations in decreasing order of selectivity (if kn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might keep profil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single-table operations when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econdary indexes to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60E-112C-47D0-A9EB-BE4F7984DD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8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8T18:49:27Z</dcterms:created>
  <dc:creator>CSE</dc:creator>
  <dc:description/>
  <dc:language>en-US</dc:language>
  <cp:lastModifiedBy>CSE</cp:lastModifiedBy>
  <cp:lastPrinted>1997-12-08T19:11:24Z</cp:lastPrinted>
  <dcterms:modified xsi:type="dcterms:W3CDTF">1997-12-08T21:33:18Z</dcterms:modified>
  <cp:revision>4</cp:revision>
  <dc:subject/>
  <dc:title>Query Optimization Highlights</dc:title>
</cp:coreProperties>
</file>