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4DD-9737-4297-B5A9-A202E39A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208-E5CB-4675-9AA6-82D8E23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08C-3549-4E9A-B73B-4FE3FA7D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07A-8C4A-4DAA-A1B0-7A6F11D7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B9C0-B594-49CE-AE45-82ECF8DD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CA81-230A-4EAE-86C6-13A1C2C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8796-3917-4A93-91F9-F4E0B147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763B-7511-419D-B595-1CE5BF7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600E-9070-4E2C-AB9A-188D9A87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C6F8-F300-4328-AC71-A685BEB9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BDAB-6217-4E39-8A11-B3A18AAE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6CD-819A-48C8-9802-E4CA3E1D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6121-7C0C-4A8F-8E5B-4C86EAD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DC1F-663D-4FDD-8E42-218197CB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2F58-054E-4F5C-996C-EFB70916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EB00-B843-44F4-845E-1366AF34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290-D054-4A55-A452-2EC68393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970-12B9-4121-9DAF-F1A0EED9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223-E6B5-4ECD-A7C3-95898DE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49F-E924-430B-9F18-4E09FE22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B9A-1A83-4E80-B3D8-0DA61304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4DD-FA3E-4233-A417-7620C2A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91C-EDCC-41C3-9D61-15FCD91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CB8-EC98-4D04-A23A-0D2DCBC8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-</a:t>
            </a:r>
            <a:fld id="{7560D8FE-F9DE-43B6-B9A7-DE7D16485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-</a:t>
            </a:r>
            <a:fld id="{E0C73484-1EE1-40AE-8D4E-110AB978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le Storage and Index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4 an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2C9-E2DA-4084-B2ED-C3634AB2B8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mory vs Disk Data Structur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Binary Search of a sorted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O(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passes if 1,000,000 integers in mem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swer (20) is accep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 many seeks if 1,000,000 records on dis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swer (20) in unaccep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ow did they get sorted (NlogN at best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D86-9D80-4091-8D51-D37CE35E11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voiding See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ping disk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ty principle: recently used pages are likely to be needed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ed by OS or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needed only for firs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file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B48-66A8-4C20-BEE5-274FFD2A5FD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Smart File Organization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hich needs very few seeks to locate any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o directly to the desired record, based on a simple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o directly to the desired record, based on a simple look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615-2FAE-4EBD-8619-3F99105C97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: Hash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ddress of record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cu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some value in th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based o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llions of possible 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to find a good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CDD-4515-42E6-A09D-80A12D290C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tfalls of Hashing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: more than one record hashing to the same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s to overcome conflicts: overflow areas; chained record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volve more disk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te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fficient access for other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fficient way for sequential, especially sorted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A52-0196-4330-8ED7-D18730F5D0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separate data structure used to locat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ly, index is a list of key/address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dex is small, a copy can be maintained in memor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t disk copy is still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, many flavors of index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DDF-5F29-45E1-A922-964A446CE0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Indexing Terminolog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field (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dense (sparse)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ing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A24-AA2B-478D-BD5A-B7990D36C3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exing Pitfall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ex takes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file itself must permit efficient re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dices won't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require multiple seeks to locate record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to some problem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level ind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evel is an index to the next level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A14-36E8-46EE-B99D-1859FFBF8B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quirements on Multilevel Index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 low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efficiently upd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storage-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level(s) sh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upport efficient sequential access, if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FEC-36C8-42B4-B151-37CE861F1B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-Tre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 is a type of multilevel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other standpoint: it's a type of balanced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ed in 1972 by Boeing engineers R. Bayer and E. McCr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79: "the standard organization for indexes in a database system" (Co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AEF-2E1B-40AE-BCF9-0B0AEEFE72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Bs Reside on Dis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reasons: (main) memory is too small and too vola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disk operation and performance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uctures and  algorithms for disk are very different from those appropriate for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gle most important fact about disks, relative to memory, is… (we shall s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F5C-F9A7-4369-BE95-6E0972F60C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-Tree 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for now that keys are fixed-length and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B-tree can be thought of as a generalized binary search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branches rather than just L or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wasted space in the nodes is tole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are always perfectly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234-AAD4-496C-926B-9E1620CA36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-Tree Concep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(node) pointer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ues (and record poin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p means (up to) p tree pointers, (up to) p-1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key K and the two node pointers L and R arou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ey values pointed to by L are &lt;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ey values pointed to by R are &gt;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2BF-43B3-4BF7-A6EB-7D42AD5EEE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-Tree Growth and Chang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 a node is full, it spl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value is propagated up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ew nodes are at same level as original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of tree increases only when the root spl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ed: split only on the way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deletion: two adjacent nodes recombine if both are &lt; half f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55F-6D32-4F5B-BDC4-F3E1AA463D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+ Tre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B-Tree,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ointers are only in the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side pointer has keys &lt;= rather than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are linked together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sequential access of entire fi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ndexed sequentia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ior nodes have higher order than leaf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non-leaf levels than B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1A2-E9E0-4E9E-9231-958A39C446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store the whole record in the index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if records are few and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+ tree, this would make sequential access especially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redistribute records between adjacen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. on deletion (B* t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order: accommodate varying key 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864-B3CC-4CDC-9553-DC9340CD21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Forms of Index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map 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dex per value (property)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t per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if record has a particula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xed h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ash function takes you to an entry in an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hysical record locations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ver indexing schemes are useful in optimizing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AFC-73DF-44C7-AD83-ADD74406E8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: Disk Organ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nning magnetic surfaces, sta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/W head per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: circular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linder: vertical stack of tr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ors: fixed length physical blocks along 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d by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head info (ID, error-corre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ctor has a hardwar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9D8-4C13-436F-9957-1DA10AD407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ks and O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manages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allocated in blocks (groups of sect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may be scattered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makes file look contig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mple map between logical records (program/file view) and physical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0FA-615E-4A92-835C-B2C2CD21C2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gram Viewpoi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collections of  logical "record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commonly (but not always) fixed in size an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in records are commonly (but not always) fixed in size an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access: program gets data one record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access: program can ask for a record by its relative block #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ddres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968-CFF0-44A0-B49D-4046F34D4A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mon Modes of Record Process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record (rand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SSN=3456678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records (no special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 * FROM DEP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records (in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 BY SS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 efficient storage scheme should support all of these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5FA-2C26-4FBA-94A6-52B6CD7187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ïve Relational 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able is a separat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ws in a table are of fixed size an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stored in order by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BE0-2447-4B90-94ED-6F9F43CB28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's the Big Deal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ual numbers will vary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U speed: 100-500M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cess speed: (100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many CPU cycles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speed has thre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k t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to position the W/R head (10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ow many memory cycles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otational speed (3600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ovement of data to/from memory (5Mb/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861-7DC3-4CF4-BB97-9F26DCBC44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 of Lif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Seek time outweighs all other time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: Martin's three rules for efficient file a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void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void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Avoid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llar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 technique that takes more than one seek to locate a record is unsatis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8D3-BF31-4EB7-A1FA-17020936E4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6T04:37:20Z</dcterms:created>
  <dc:creator>CSE</dc:creator>
  <dc:description/>
  <dc:language>en-US</dc:language>
  <cp:lastModifiedBy>CSE</cp:lastModifiedBy>
  <cp:lastPrinted>1997-12-02T19:59:34Z</cp:lastPrinted>
  <dcterms:modified xsi:type="dcterms:W3CDTF">1997-12-02T20:01:40Z</dcterms:modified>
  <cp:revision>24</cp:revision>
  <dc:subject/>
  <dc:title>File Storage and Indexing</dc:title>
</cp:coreProperties>
</file>