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B69-AB86-4064-A9FF-560EC845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396-E9AE-40A7-A89D-DB67A47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172-FDF0-443F-B74B-912ECFD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E6F-83C5-4589-90D5-31866B52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258-A55D-40F3-9121-A587143D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B04-117B-4B93-9ED1-29DE4173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BC0-75BF-49E5-90BC-4B7986D3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AF4-0976-460E-AD0D-066DC06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4C3-87E1-4371-A78F-CC9D9716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E6D-B97B-4579-B6C2-7BD80E7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2D4-BE71-48BA-AB24-FCC51A1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865-8D14-4654-9DB8-5149227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</a:t>
            </a:r>
            <a:fld id="{503E0FF0-187A-4F9D-AEC6-5A552C0E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-Oriented Databa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5CD-48A8-4AE1-94F4-7D5A44E33C3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I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dentifiers (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 (database-wide) identifier for each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of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bject can reference another via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omplex embe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F32-A03F-4A8C-B8E8-5BC05BDA06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llenges for Query Languag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L: coordinating PL with 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is vi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all operations be predef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"query"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play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3A5-DDD8-4B76-B171-A171D9553F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sisten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: it's easy for a program to work with a complex data structure in memory, but hard to flatten it into a file.  It would be convenient if some variables w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, could exist on disk between executions of the program, i.e., be part of the D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trictly on OO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hallenge: mapping OIDs between in-memory pointers and disk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ointer swizzling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760-72D6-4B7E-AF10-2D17F15DB8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ductive Databa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(non-OO) approach to relieving relational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viewed as a set of facts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can be viewed as a fact which satisfies a pr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-based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og: DB extension of Pr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at expressing complex constraints, making deductions and discover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7EF-C1E0-428B-80CD-34BCA0B15B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mitations of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constraints expr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types 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leads to atomization, in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built-in data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multimedia types: images, video, sound, designs, tex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Bs (binary large objects) are one work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CA9-5E92-475C-8ECF-AF7915BD1C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nguage Fi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OL and DB grew up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 pioneered the "record" con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-bas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fit to today's languages like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84A-C3EC-44A9-94DC-64A6DE1E01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ersion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applications, old versions of data must be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s (architecture, CAD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modu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are complex relationships between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necessarily an OO conc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91F-4E2C-4AD6-BA0C-D5B59C3C0B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Look Ba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look ahea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and Network (CODASYL) models were popular before re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had extremely rich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lationships directly expressed (no jo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"navigationa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programs locate data via knowledge of schema, following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ized query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2BF-B945-4C95-BEF8-8C28A8CF0F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-Oriented Tre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in OO Programming seem promising for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, user-defined data types (support of new media, lift 1NF restri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(important type of relationsh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of data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emphasis on components and reusability; cross-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hter integration with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0DE-16E7-46D7-8AFA-FF03FA4A8C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 of OO Programming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: description of data structure and operations (i.e. a data 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: data and ops are wrapped together; only an interface is externally vi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: an instance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B inherits from class A: B has all the properties of A, plus some new or altered properties (data/fun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8AA-0D8C-4510-A3FB-77DABB2929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ict OO Viewpoi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possible: model the behavior and relationships of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ommunicate only by pass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a message is a function name plus a set of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can be determined at run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talk is the model: untyped; interpreted; inte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55E-46FE-4B9A-AC8A-DA6D235FFF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ybrids and Compromi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s all features of non-OO C language, adds classes, inheritance,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DBs tend to be com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retain relational facilities: OR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O features such as: user-defined types &amp; classes, inheritan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features like "persistence" and vers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3 will have OO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748-C823-446B-89B1-1A51443F13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4T04:30:42Z</dcterms:created>
  <dc:creator>Martin Dickey</dc:creator>
  <dc:description/>
  <dc:language>en-US</dc:language>
  <cp:lastModifiedBy>CSE</cp:lastModifiedBy>
  <cp:lastPrinted>1997-12-02T04:12:08Z</cp:lastPrinted>
  <dcterms:modified xsi:type="dcterms:W3CDTF">1997-12-02T04:16:50Z</dcterms:modified>
  <cp:revision>8</cp:revision>
  <dc:subject/>
  <dc:title>Object-Oriented Databases</dc:title>
</cp:coreProperties>
</file>