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6BB1-2FB1-4CD9-A0BF-CC6142265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E10E-19D9-4BD9-8072-F0FC9088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B59E-9A5D-4AFE-B3B2-DA38E192D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A358-CA5C-41AE-82E8-F5607A7C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CEC1-8DD2-451F-BCFC-60FC17B8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0EE9-AE5B-49A0-9A18-A09D763D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A035-1A81-4C37-A722-0AEF8387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10DD-C25E-4F5A-804A-23D73D44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6936-3159-4084-92D4-53E3852B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78E9-28A1-4847-BE63-C7EDAF52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EE36-2B3D-4F3C-BBD6-ACDDF6A0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4968-DEBF-4B23-83AE-D4D2A603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68D0-C249-4758-9D9A-C4A198FF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8D11-1BD4-430E-8CC8-98780F7E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81F3-C95C-4490-A305-A966ACFE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1FBB-1658-41F8-8DED-A2AF2B681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CD94-C4DB-4E2F-9BD5-009C2ABBE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D785-46E4-491C-99E1-E1AA93E3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9961-D630-4BA3-AEDC-DAACDAF3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5068-B225-4CAA-8D39-756362D9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BC76-854E-4D8F-9EAC-49FF80C3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47B4-F244-4035-AD2B-F52D53A3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A3ED-8158-4ED7-BB3A-8E230611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0A0F-634C-46DE-B8DD-A7C9193F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-</a:t>
            </a:r>
            <a:fld id="{32FD7025-D9B9-437A-9E7E-4FFBAF600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-</a:t>
            </a:r>
            <a:fld id="{4695A71C-8B64-44A4-99E9-C21BF4BF7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943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1997 UW C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covery Concept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18 (light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0D92-439A-4548-8B1B-DB309BA858F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1/24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eed for Recover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catastrophic: need Log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 ab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 part of many concurrency sc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astrophic: need Log + Bac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loss of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vasive application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software error (corrupted filesystem, buffer management error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rus, sabotage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1FA6-ED6B-495F-8627-CDE9AEDDE6C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24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(Review) The Log File Contains: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starts/st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 writes: "before" and "after"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can be used to rollback an aborted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f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can be used to redo a transaction without reexecuting 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ITs and AB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The log itself is as critical as the DB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Reliable backups are critical, to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1ACF-6351-4195-B567-B49B197C13C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24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trategies Which Anticipate Normal Recover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ferred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s are not actually applied to DB until after T comm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UNDO is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buffers, shadow page table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mmediate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s are actually applied as T exec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rted transactions: UNDO (rollba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DBFD-919B-42AB-AF25-2C11CE837D3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24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atastroph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restore from a full bac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llforward from 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O al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mit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all logged WR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actually REDO changes in reverse chrono order: i.e., only apply latest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's interrupted by the catastrophe must be restarted or user not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1746-11E2-4624-9636-F46A477C2F4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24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isaster Recovery via Redundanc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liable duplicate copy could be used for "instant"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y could be "hot" (in use by applications) or only on stand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-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d by DBMS or 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be part of a distributed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W-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ID: Redundant Array of Inexpensive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815D-4032-476D-B1AD-E733EF80818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24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21T16:47:12Z</dcterms:created>
  <dc:creator>CSE</dc:creator>
  <dc:description/>
  <dc:language>en-US</dc:language>
  <cp:lastModifiedBy>CSE</cp:lastModifiedBy>
  <cp:lastPrinted>1997-11-24T18:49:50Z</cp:lastPrinted>
  <dcterms:modified xsi:type="dcterms:W3CDTF">1997-11-25T04:07:16Z</dcterms:modified>
  <cp:revision>10</cp:revision>
  <dc:subject/>
  <dc:title>Recovery Concepts</dc:title>
</cp:coreProperties>
</file>