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F27-B714-44BE-9CD0-8DB8C76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92D-1577-4334-9110-DA578416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1B7-F867-4798-AB4E-06562E09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EDA-1744-4811-8481-F8F6C923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E22-00AE-4082-8378-78E1F602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AC01-CE88-4657-BD75-A069D2D5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657-E125-47CF-AD31-392B02DE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043F-5F09-4ED3-AAD9-7D548A0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8EE0-5EC5-4354-9AC1-CC24AF16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DF06-C814-4315-A7F2-8083579B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C0B-9E00-4990-84DB-6E4CF9F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343-09C7-405B-9CAF-4E640CFD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0CE4-7FBA-4E7C-918D-984625E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175-94A3-4CFE-8148-3AF68A9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1620-9B15-4C8E-9479-A7A6C7C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F2E8-460A-4968-91CA-F092E192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69F-1D07-46F2-B413-16A5F59F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932-4734-44A8-A91C-40D56C0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642-B87B-42E1-8470-D74EAD3E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203-3EEF-4C60-AC88-A2E87838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A0D-73BC-419A-A11D-E217971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3A6-5E81-4044-B4AA-34F41E0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A95-CC15-4E86-AFFA-D385ADC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F87-5479-4C38-B1AE-922B12A2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</a:t>
            </a:r>
            <a:fld id="{6CE2181E-D594-4F68-AEAE-93FE8782A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</a:t>
            </a:r>
            <a:fld id="{FBE69B4E-0357-43F1-AD76-CBB5FBF2E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8.1, 18.2, 18.5, 1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5DB4-B7B0-4179-9086-329013E42C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adlock Prevention Using Timestam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 timestam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nique numerical identifiers, same order as the starting order of the T'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ecessarily a system clock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simply integer++ for each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ing factoid: global timestamp techniques can be used in distributed systems, even when each system has its own 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5FC-D059-4A98-AE0C-FE071DE152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wo TS Schem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locked X, and now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nts to lock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ait-d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lowed to 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es and is restarted with its same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ound-wa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lt;T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start with its same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 is allowed to wa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74C-5FAC-42D1-BA28-1FA1639C214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S Schem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oth schemes, the older T has a certain preferential trea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orted and restarted T always keeps it original 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it gets older with respect to the other Ts, so eventually it gets the p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CB1-51CC-441D-BC6A-C3D30C9486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adlock Prevention Without Timestam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 wa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T needs X and X is already locked, immediately abort T, restart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ause lots of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utious wa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uppos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s X, and X is already locked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aiting for anything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T waits longer than some fixed time, abort and restart 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15A-F3A7-4116-86F2-1561523F75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adlock Dete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 to prevent dead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heck periodically to see if there are deadlock; if so, chose victim(s) to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: no elaborate protocol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: deadlock might go undetected for a 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dlocks tend to be rare on lightly loaded systems, frequent on heavily load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93F-C346-4802-93C0-AF7935AD71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tection Algorith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Wait-for" grap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ode per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edg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nts to lock X which is already locke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orem: There is a deadlock iff the wait-for graph ha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run th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elect the vict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E7C-44BB-4E38-BDB4-3C70F0F003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rvation and Livelo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snake in the Garden of 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 might be aborted and restarted indefinitely: </a:t>
            </a:r>
            <a:r>
              <a:rPr b="0" i="1" lang="en-US" sz="3200" spc="-1" strike="noStrike">
                <a:solidFill>
                  <a:srgbClr val="ff5050"/>
                </a:solidFill>
                <a:latin typeface="Times New Roman"/>
              </a:rPr>
              <a:t>Sta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 might wait indefinitely, not for the same other T (deadlock), but for different reasons at different times: </a:t>
            </a:r>
            <a:r>
              <a:rPr b="0" i="1" lang="en-US" sz="3200" spc="-1" strike="noStrike">
                <a:solidFill>
                  <a:srgbClr val="ff5050"/>
                </a:solidFill>
                <a:latin typeface="Times New Roman"/>
              </a:rPr>
              <a:t>Live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otnote: Some people use "starvation" for either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278-633A-45CE-8FED-5572DAE6F1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urrency Control Using Timestamp Order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n idea: insure that conflicting operations occur in timestamp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X must have a read TS and a write 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S's of the T which last read or wrote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 wants to use X, then X's TSs are checked.  For a conflicting operation, TS(T) must be later.  If not, T is aborted and restarted with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ater) 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DC6-1919-4010-86F8-8781869CDD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Proper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antees serializ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guarantees conflict serializ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dlock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tarvation free </a:t>
            </a: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eventually T becomes "late enough" to slide through, but that might never hap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C8B-3A93-47A0-9468-7450F1DC09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ck is associated with each (lockable) item in the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status of that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in idea: transaction must lock an item before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ed overhead; decreased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P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d properly, locks guarantee that schedules are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531-0981-475D-8DCC-12B119C4CB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nary Loc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ock: statuses are "locked" and "unlocked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for use (just common sense, or common courtes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must lock item before reading or writ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must unlock item when finished wit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will not try to lock an item it's already lo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will not try to unlock an item it doesn't already have lo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: Queue of waiting T'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389-D190-4570-BF97-53CA3BFE53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ode Loc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lightly more compl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a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-locked ("shared-locked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-locked ("exclusive-loc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's can hold the item read-locked, only one can write-loc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of common courtesy similar to binary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10B-2128-4978-9FB1-460629F129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Locks Enough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ly… 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lone do not guarantee serializ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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ily… there is a simple protocol (2PL) which uses locks to guarantee serializ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903-AAD0-46E7-964C-6AE9C2AE1B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wo-Phase Locking Protocol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T is said to follow the 2PL if all lock operations precede the first un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must also follow the courtesy rules, of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T has two ph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ing: locks but no un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inking: unlocks but no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26A-57BB-4FF9-BA79-B67B06FA0E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PL is Good Stuf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L is 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dapted to variety of situations, such as distribut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2PL (as describ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 2PL: T locks all items before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2PL: T doesn't unlock any items until after COMMIT or AB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1AB-99E9-458D-9A43-B2E0E62B3F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t is it the last word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ere a snake in the Garden of E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L reduces concurrency </a:t>
            </a: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 and strict variants reduce it even more, because they hold locks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and strict 2PL are both subject to deadlock </a:t>
            </a:r>
            <a:r>
              <a:rPr b="0" lang="en-US" sz="40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9C0-624A-4A03-A294-21E5936AE0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wo transactions are each waiting for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each waiting for a lock that the other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be deadlocks in larger circles of T'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L is not deadlock-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ossible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on’t let it happ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ice when it's happened and take recovery 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B3B-CC40-4240-8879-15FED5A057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3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03:16:22Z</dcterms:created>
  <dc:creator>CSE</dc:creator>
  <dc:description/>
  <dc:language>en-US</dc:language>
  <cp:lastModifiedBy>CSE</cp:lastModifiedBy>
  <cp:lastPrinted>1997-11-14T05:28:00Z</cp:lastPrinted>
  <dcterms:modified xsi:type="dcterms:W3CDTF">1997-11-14T06:04:34Z</dcterms:modified>
  <cp:revision>20</cp:revision>
  <dc:subject/>
  <dc:title>Concurrency Control</dc:title>
</cp:coreProperties>
</file>