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971-AAF7-4E80-B71D-AA3F21CD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6B6-CE9C-4DC0-8A82-41FC45B6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2F2-9E53-49E8-B881-144AADFB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015-4F16-40AC-B33C-206C2E71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D0F-6C49-4A20-956B-4FA4E94B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EAC-4989-4BCB-B3A6-21DC3892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792-7C4F-4E20-981F-0702141D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58A-DCE7-48E3-8071-2DE22377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783-FAEA-4E5A-A794-DA2F3251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8F8-0596-459E-B933-5CE4DF6D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9B2-BE3C-4E3E-936A-2B742FDD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F73-EBAE-4070-A913-E5E2F9BB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-</a:t>
            </a:r>
            <a:fld id="{5A082230-4B8A-4E49-8A5F-AEA9526FC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dules and Serializabil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4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305-C4FE-4F85-9AD7-73431D8D2B1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gnizing Serializabil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, difficult or 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on the semantics of th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s of serializability can be det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chedules 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flict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 order of any two conflicting operations is the same in both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067-20BE-437B-843A-414388156EE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flict Serializabil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flict 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some serial schedule with which it is conflict equi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s out there's a simple algorithm to test for conflict serializabilit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digraph ("precedence graph") of the T'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edges mark confl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Theorem: schedule is conflict serializable iff graph has no cy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9DD-2E0F-490F-9B04-E7B1A8910B4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nularity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ranula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s to the size of the data being read or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DB; table; row; one attribute valu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 granularity means more concurrency, but more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s differ in granularity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semantics may determine needed gran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103-7A5C-472C-97B0-DCE08B8B84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t the Final Wor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chedules which are not conflict serializable, but still serializ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View serializability" is another definition; harder to check but allows mor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even schedules which are not serializable but nevertheless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 is a tool for analysis, not a pr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220-CAEB-45BB-9DF1-BABD9D2EE3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"schedule" is the abstraction of the activity of simultaneous trans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s stripped away exce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identifiers (as subscri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READs and WRITEs and the data they operat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s and AB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der of thes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4F8-1936-4194-B16E-A3FB6FE548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dule No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of one or mor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Ti performs a READ of data item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Ti performs a WRITE of data item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i ab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i com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3E0-E1D7-40F8-A75C-8B17E1CD4A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rial Sched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overlap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CID behavior is assur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ecutes fully, t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ec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a "serial"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ght have different results, but either is accep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512-1D93-4E6D-9D29-35C9D8AD20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rial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izabl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Sched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schedules, though safe, are unacceptably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are I/O-bound (most elapsed time is spent waiting for I/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serial (overlapped) schedules allow shorter turn-around and better resource u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hedule is one which is equivalent to some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5CB-D2CC-45E5-A52B-56E312AF08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dules and Serializability Theo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s are a major tool in studying concurrent processing of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recognize when a schedule is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/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force schedules to be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recognize when a schedule is recoverable if an abort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6A2-1406-469D-A40E-894C111315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flic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one transaction in a schedule WRITEs a data item which another transaction also uses (READs or WRI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no order requirement in this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operations are said to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Ts are also said to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fli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show-sto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5D8-68D2-41BF-A53D-F7B7EE805F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verabil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P monitor must have the power to undo or "rollback" the effect of a trans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if a transaction aborts after doing som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transaction in a schedule aborts, it may be necessary to abort and rollback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d transactions should never be ro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CCA-AF8C-4823-A647-DAFC13E78F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verable Schedul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ads 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with respect to a schedule)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s some item which had previously been WRITten by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cover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no transaction in it COMMITs until all transactions that it READs from have COM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er: in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ict 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transaction cannot even read or write X until the last transaction which wrote X has COM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560-22BE-43D7-A6B0-52979AB8EC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2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6:11:46Z</dcterms:created>
  <dc:creator>Martin Dickey</dc:creator>
  <dc:description/>
  <dc:language>en-US</dc:language>
  <cp:lastModifiedBy>CSE</cp:lastModifiedBy>
  <cp:lastPrinted>1997-11-14T05:42:58Z</cp:lastPrinted>
  <dcterms:modified xsi:type="dcterms:W3CDTF">1997-11-14T05:56:40Z</dcterms:modified>
  <cp:revision>14</cp:revision>
  <dc:subject/>
  <dc:title>Schedules and Serializability</dc:title>
</cp:coreProperties>
</file>