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043-9691-4816-918C-5AD02813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6D6-2576-43EF-8126-1F4642C4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8F8-6D2F-4C65-8D8E-85B03E04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DAE-A6E2-44E6-AF74-EEA999B1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329A-4282-4CC6-8ED7-AE135431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427D-D973-42F1-B54A-B03BEA7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9F33-00A7-4957-BAE2-19800C28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BCA0-2E41-4174-A27D-31BF2485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BA67-9A3F-4D08-A4B2-81BA35CF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868-0039-4669-8373-5E2EC132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46C-8844-41A8-9BAF-BC0D41E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8B1-2400-4A28-8E0B-D026F95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E4F8-D68D-4039-B929-3726A4B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B153-5AF3-4DD9-9405-61B43F8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BD7B-DC51-4083-B95A-E9A8368C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F4F-79DB-4845-95A8-3C34EC61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F24F-B413-456F-955B-6D0AF9D4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CD5-A45A-42C2-82B2-E33D36F4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CB1-A8B0-40C9-A1F5-B65BCD2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36F-48FA-4FA1-A8E2-8C65236C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CA1-5373-40C7-90E9-503AAB92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3F8-B07B-4D58-851D-69D71D9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56F-0F9F-4E17-BADD-CC008D02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78D-3696-4553-B400-FA22416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09FB-07F3-4AD1-A31C-6FD0F8E168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-</a:t>
            </a:r>
            <a:fld id="{F5B0E7F8-D483-4617-AB8F-F2637927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4AC-80E3-4E30-AD13-B7E714696A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-</a:t>
            </a:r>
            <a:fld id="{EC453D6D-3AB2-407D-AFBB-F3897880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lational Algebr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. 6.5-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797A-5588-47AF-AA07-18324815EFE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DDE7B5-F3A8-4100-BFF5-B2F4B2C930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vision Exam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ho would have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lots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to talk about with Bessi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"Find (all) customers who have rented (all) the same movies as Bessie ha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hat airlines compete with Horizon Air?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the airlines which serve a city also served by Horizon" (not a division quer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Which airline is best positioned to put Horizon Air out of busines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"Find the airlines which fly to (all) the cities served by Horizon" (a division quer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711-97DB-4DCE-B93C-FF751AA267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DAF72-7BCE-43AE-97A4-264A19DD90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ggregate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ly, not part of R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query languages will implement many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sually) unary operators, take a whole relation and compute a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, AVERAGE, MAX,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returned 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one row and one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not as a scala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C3C-AB2A-4642-A10D-2642507641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837BB-7E98-4C1C-B6CF-BE0A00D31D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 and Aggregat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may be grouped based on attribut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it as a sort on thos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unctions can be applied to the grouped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s a value for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returned as a relation with one row for each group, one column for each aggregat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5B3-50EB-49BF-A9FB-4F30079BD2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9E48C-2234-4F1E-888B-115D9B496C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 Notation and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grouping attributes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gg. function list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List number of employees and average salary for each departmen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76320" y="3457440"/>
          <a:ext cx="5802480" cy="29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3457440"/>
                    <a:ext cx="580248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E44-F48F-4516-9E0D-4EC57DBA1E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F70CD-CBFE-4548-8DEE-31563FB38A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oking Ahea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operations affects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1) 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2) probably much faster tha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1 *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joins can be particularly ta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we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this affect how we write que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DBMSs do "query optimization"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reorder operations for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681-2518-4C23-8AE6-F92CC83B7D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8B069-8FB2-4B29-A9E1-5F02992574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on whol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 are sets, output is 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st arbitrarily complex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JECT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n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tersect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fference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n compatibl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various flavors of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rt of inverse of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unctions (unoffic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4A7-E6C5-44B8-91A5-20A696B649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1EF24-9806-448D-9FE4-FCE372C77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n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tersection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fference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ompatible relations: corresponding columns have s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re is no "set complement"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the complement of a table b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 tend to operate on a "closed world" assumption: "If it's not in the DB, it doesn't exist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olog: "If you can't prove it, it isn't tru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A27-275E-4B0C-AFD6-F63C391651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1F85C-A339-4F0B-9C43-5ABDD9DC82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of tuples from a relation, based upon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D, OR, NOT for compound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a table with same attributes as original: a proper 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given a name (tempo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lationn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DD8-5038-415D-B96D-F3F5246A45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E9329-4006-414C-9A23-A8F44B8BA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of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a table with same number of rows as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ctually a subset of the original (unli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given a name (tempo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Symbol"/>
                <a:ea typeface="Symbol"/>
              </a:rPr>
              <a:t>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col-lis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lationn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6D4-D869-4273-A8B7-5B1568B0E0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60F25-89B8-4BC2-AD07-D60FE7FE0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operation on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 whol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description: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ed by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dition equates or otherwise relates common attributes between the tw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 superfluous common attribute is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 (these slide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Playbill"/>
              </a:rPr>
              <a:t>J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313-54A3-463D-A30A-BCCEF2E469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E8E4B-B695-4D48-915D-4F1BB6DF7D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Equi" and "Natural" joi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attributes are compared fo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to specify a joi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join on more than on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list attributes if names are not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Natural join": Superfluous columns are removed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 (our text): R1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ttr-l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F78-D832-4CE6-8643-7738389327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28C50-19F8-44E6-A92D-FF7A6EE953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vision: R1 </a:t>
            </a:r>
            <a:r>
              <a:rPr b="0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f the reverse of Cartesian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integer division in that any "remainder" is disca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find all the tuples in R1 which are join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alues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2 attributes are disc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 can be accomplished with combination of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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328-249A-47E5-BE09-3996DA8D48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6F123-8A2B-4783-AF96-8DB56926C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vision Details of 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R1</a:t>
            </a:r>
            <a:r>
              <a:rPr b="0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R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1 (dividen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ttribute set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R1|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R2 (diviso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ttribute set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R2|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R (quoti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set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, the attributes of R1 not in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|R1|/|R2|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w is in the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answer (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that row (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X 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ccurs in R1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ation of the rows (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Y 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R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41E-A47B-4B40-A49B-221A5F46C3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20290-1493-4449-B7A8-AB8807DD2E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5T22:44:22Z</dcterms:created>
  <dc:creator>Martin Dickey</dc:creator>
  <dc:description/>
  <dc:language>en-US</dc:language>
  <cp:lastModifiedBy>CSE</cp:lastModifiedBy>
  <cp:lastPrinted>1997-10-12T23:34:34Z</cp:lastPrinted>
  <dcterms:modified xsi:type="dcterms:W3CDTF">1997-10-16T04:45:04Z</dcterms:modified>
  <cp:revision>10</cp:revision>
  <dc:subject/>
  <dc:title>The Relational Algebra</dc:title>
</cp:coreProperties>
</file>