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5F2-1667-4191-9841-C14EDF9F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9CB-6D97-4486-8D42-8896453B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59F-1863-412B-A0EE-824F2F29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BA2-4DA8-4E60-8BEF-B87CB2A3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4820-8C1F-4A44-8011-094B0A42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A0FA-6F00-47BB-924E-522ABF1F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85B7-001D-40FB-AFED-798F973F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403F-F65A-4724-8804-BB73E01E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5BCC-17FE-4D27-8665-801C9426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F178-D4FF-449C-97DB-66308875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8C3A-8A2A-4A7A-A360-FAA00356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938-FCE6-4B14-8446-99498D99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116F-C0C1-416D-B143-E2E86535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17EF-5DC5-4100-8DBF-97F01B96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5784-89BE-47B2-8C91-AA23CE23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BAC8-3ED7-4BDE-88B7-A9014DCF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6B0E-DAD4-4987-90F5-A9FD3E0B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BAE-C49D-4257-8D44-E69151E8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186-25D8-4095-B7C4-E0B14AB0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B75-09CE-49B8-AA6B-2C7184EE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A8F-16C6-410D-AB61-BD4AFAF9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17A-C111-4656-8B06-6570B82D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AF9-1A5A-4688-81F5-C059123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8F7-712C-454D-BF71-0F88822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-</a:t>
            </a:r>
            <a:fld id="{AA2F8A1B-F622-46D4-8C04-D27F66090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-</a:t>
            </a:r>
            <a:fld id="{1C606AFA-3AD7-4C79-8704-52F82C0C0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pping E/R to Relationa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Ch. 6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943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@1997 UW 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C288-70DD-4A7A-970E-46A75E732DA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0/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ig Pictur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is better fo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s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n rel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semantics, closer to user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is better fo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BMS's are widely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E/R to relational is pretty mechan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: entities map to entities; relationships show up as foreign keys or new relations; all attributes end up some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94D-66F4-4C99-AAD9-2F877F62E8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ntit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entities (i.e., having a 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o the entity the (foreign) key of its 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we'll soon see, additional attributes may get add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626-FB44-4AC4-BF32-B66E86E2C8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ies S and T are 1:1 in the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's key as foreign key t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y relationship attributes t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ne of the entities is total, use it a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ies S and T are N:1 (S is the N s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's key as foreign key t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y relationship attributes t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CB3-2C71-4572-8C5D-415211D904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:M relationshi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new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the keys of both S and T as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a row for each pair of related S and T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the relationship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nary and higher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as for binary N:M relationships: create a new relation with as many foreign keys as there are entities in the relationship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7A4-3B16-47E1-A8C7-5E844BFE3F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ttribut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attributes map un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noted, relationship attributes migrate to an entity (usually the "weaker" or "smaller" 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into individu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ddress" -&gt; "street", "city", "state", "zip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value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relation which joins primary key with each occurring value of th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A8D-0D75-4271-A573-ECD9FD06B0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7T21:06:12Z</dcterms:created>
  <dc:creator>CSE</dc:creator>
  <dc:description/>
  <dc:language>en-US</dc:language>
  <cp:lastModifiedBy>CSE</cp:lastModifiedBy>
  <cp:lastPrinted>1997-10-07T23:31:32Z</cp:lastPrinted>
  <dcterms:modified xsi:type="dcterms:W3CDTF">1997-10-08T02:04:28Z</dcterms:modified>
  <cp:revision>4</cp:revision>
  <dc:subject/>
  <dc:title>Mapping E/R/ to Relational</dc:title>
</cp:coreProperties>
</file>