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62AB-650E-4F1A-9833-6D1CDA820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60B0-47DF-4E8E-9381-98C20FF6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C1A6-876D-44FC-93B7-464CE9D2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0A14-EEBC-41B3-8215-F4FFDD34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5402-4781-44E4-94B0-040C807E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C0CA-91F9-49DA-8A8E-46336698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7525-38A1-4F4D-BEF2-6393C3A3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C976-5CB2-4DF8-BE18-E9106815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5485-250C-40EB-8D48-CA430472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DF06-44D2-4A55-9E03-33AA428D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C4F0-78AB-4E41-BA4D-B21557CA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F577-A00D-47D0-8B85-E9EF6B8D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0416-0BB3-4215-99A6-3F1201ACE06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-</a:t>
            </a:r>
            <a:fld id="{6F53F7FA-A412-4515-9289-B9405271B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Relational Model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book 6.1-6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63E2-492E-4B44-90E8-62E09BE47F5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93F5E-7725-4EA9-A32C-826941AB24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"Join"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Perhaps the most characteristic operation of the relation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consta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llenging to implement effici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dea: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rtesian 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two relations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mon attribute domai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llowed by a 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ased on those attrib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ecially common: equality match ("natural join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6399-E8AD-45CC-B097-06534A6C46A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ED4C8-397C-41BA-B34D-91BDEF558D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ggregate Func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t-theore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, AVERAGE, MAX, MIN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ual query languages have many of th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s can be "grouped" by some attribute and the function applied to each group (rows with common values of the grouping attribu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FAFF-0462-4780-9B1C-43232CFDCD6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10532-C1DF-4648-B594-075DA6B6B4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Update Opera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Insert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a new tuple to 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Modify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an attribute value in an existing tuple of an existing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operations compared to retrieval que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any applications, relatively infrequ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251A-979E-4CF0-AEAE-32697271EE3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5A56B-EA56-42C1-9087-A61600BE8B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DL Opera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only the the D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attribute domains and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lare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relations together into a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y relation or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/delete attribut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D031-4D6C-40F8-BC4C-0CA6F5D4A72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85DF6-157D-4523-81CE-923974BC5C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lational Query Languag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 are specified in a particular "query language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Algebra: whole-table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Calculus: set co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: set operations and procedural features, English-like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BE: 2-dimensional set co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641C-CA34-4428-9B3E-9B0E1FCD714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ECB7D-F0B4-47FD-8E26-A851D14469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ier models: Hierarchical, Network (ch. 10 &amp; 1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 to implement and use; widely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d by Codd &amp; Date (IBM), 19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ally poor; tractable to analy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primarily research interest until 1980'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now is overwhelmingly the leading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2790-FCBD-41B5-9E16-AE612177C4D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CF168-F211-447B-AE71-BC17B81FF5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Big Ide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Tables" ("relations") represent ent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de up of "rows" ("tuples") of fixed-sized attribute values, one row for each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"column" of a table holds all the values of a particular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atabase typically contains a number of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That's about i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5DEB-0860-4416-B4B0-875B73F9EB6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36C65-E2FC-4EFA-839E-6B618829C4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 few more fact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s are sets (mathematical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uplicate rows (implies each table has a 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ordering impl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DBMS may allow ordering, dupl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Null" attribute values all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aution: "relation" is not the same as E/R "relationship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790A-172F-4E12-854F-775D0017E25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19A1C-DEAE-40E2-A92E-9899415390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implicity of the Model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compared to E/R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xplicit relationships between e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mpound attributes, no multivalued attributes ("first normal form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weak e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ardinality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 to programmers to realize such 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4D07-84CE-4807-AEAA-EA816EB28A2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768F0-D424-459E-89FC-A1F0ECCACA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straints in the Model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 constraint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values of a column come from a defined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constraint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there be a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primary key value not be 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Referential integrity" (in the case where R1 contains a "foreign key" of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a foreign key value in R1 always refer to some row in R2 with that ke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CDCE-376B-41B8-BE0A-FA533DE9A0B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04218-E404-45A1-A071-DB95DD0A71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"Relating" Rela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noted: there is no direct analog of the E/R "relationship" (diamond shap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solution: foreign key in one of the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wkward if not 1-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solution: A "relationship relation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s are the keys of the two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s stand for pairs of related e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in E/R, the two entity sets may be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FD7D-0CA8-466C-9202-1AD2A79087D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5FBA4-D304-43EB-9782-E42816A57A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lational DB Opera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in mind: relations are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long as two relations have the same colum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union, intersection, dif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has same columns as inp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tesian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how many colum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how many row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FD7C-1642-4913-9C46-A7CD2702C86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987D4A-819B-4F57-B68B-7D706B0452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lect and Projec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Select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a subset of the rows based on some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Project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a subset of the colum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'll see notation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C6AF-CDE5-49D5-9B67-B7D4CCF1F52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2FD96-52BD-46F6-B812-C357341716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5T18:56:44Z</dcterms:created>
  <dc:creator>Martin Dickey</dc:creator>
  <dc:description/>
  <dc:language>en-US</dc:language>
  <cp:lastModifiedBy>CSE</cp:lastModifiedBy>
  <cp:lastPrinted>1997-10-07T23:30:46Z</cp:lastPrinted>
  <dcterms:modified xsi:type="dcterms:W3CDTF">1997-10-08T01:42:18Z</dcterms:modified>
  <cp:revision>10</cp:revision>
  <dc:subject/>
  <dc:title>The Relational Model</dc:title>
</cp:coreProperties>
</file>