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292-8689-41F3-922A-DDC29644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7BE-6BF8-4A66-8E04-6D4FCBD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2CF-660C-4326-8C2E-35CECEE6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E51-D041-4DC9-8BB3-434D48C9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DBC-F451-40EF-87D4-43E6BBE8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F989-4DC1-4C11-BFD3-796EA06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E0B9-1247-49A9-AF13-B8C46293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7F26-12F8-4470-9E24-D2ECE48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6B6-5111-4FE3-84F9-648AE6BD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B0C7-EB13-4D54-8D34-84351C3F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17C1-71D7-43E5-A13E-A80DAD6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B12-A973-459E-B3DC-14C110C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0052-DF51-4943-A723-BE83592D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9DB-4A24-4DE8-B6E0-735B852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E5D2-132D-4E15-A08A-AB2776DA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7153-FE95-4606-A7AD-10F37447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BACB-CDE2-45E5-A17E-31FCA1B8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D9B-CC86-442C-9153-8890C93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A35-CA16-41FD-B11B-19DF913C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097-8F13-4D48-8EE0-A369387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C59-530C-44D8-A841-13DD3CAE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5E5-486A-4CBE-BC4C-CF85831E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BF0-4FC9-4A86-BBBA-61FA787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379-DA8C-425C-A0AF-4E44DC1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3AD9-B38E-4C52-BDD4-32E0164E3190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C-</a:t>
            </a:r>
            <a:fld id="{7215F0FA-D31C-4D5B-AC4C-D2780238972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A2A4-7F78-4406-A548-6EC4C1F51792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F20-133D-49B7-A7DE-5D43F08F18C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ata Modeling Concep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880" y="5867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06A3-E669-4208-8BD5-E9917AC2383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51E8B4-5DDD-4D46-A781-3DB102BFE8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lationship Cardin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 to 1 (1: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usband to (current) wif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any to its presiden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ny to 1 (N:1) or 1 to many (1: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rson to her childr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any to its employe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ny to many (N:M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ub member to club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udent to clas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E64-A884-4549-8478-A12E140E7E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1E1FF-E905-472F-B15E-AA2BC9EC4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lationship Attribu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metimes attributes seem to attach to relationships rather than the entities involv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aust sold his soul for $10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ld” relationshi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$10 is a property of the relationship rather than of either Faust or his sou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489-C463-4C73-924C-83BA068D79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87AD5-7B0D-4622-99E5-A4B8AE9063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/R No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ce the entities, attributes, relations, keys, cardinalities, etc. have been identified, the E/R drawing is straightforward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tangles for enti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amonds for relationship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als for attribu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ppropriate connecting lines and label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11C-DE90-4A5F-98B7-D0D6088641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7A801-CA96-4783-9FD9-F5AC5D63B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Real Proble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rawing the diagram isn’t so har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int: use a big sheet of paper and write in penci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at’s hard is understanding the problem well enough to know what entities, attributes, and relationships are needed to support the desired applicat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may require an extended period of systems analysis and several iter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4C5-8C54-4236-BAB1-8BC803D93B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3C910-8C0B-411F-8AAA-E5558F245A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/R Mode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rengths and weak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asy to understa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ps well to relational mod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mantically impoverished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 is the relational model!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/R has been extended (Chapter 2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ther models exist (Chapter 2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1A9-D8D0-443C-B56A-B29ED636F8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6139-3433-4944-9750-EF7A9D7330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ata Mode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del: “set of concepts to describe the structure of a DB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gh-level: close to the way users perceive the da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ow-level: how the data is stored in the compu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alysis and design typically start at the top of work dow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any intermediate levels are possi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9EA-C6BA-4290-BB45-ADEF3F82D9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0E667-0214-40BA-A977-8574B43FA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igh-level modeling concep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B Schem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s. DB instan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-schema archite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ternal (view) level: what users are allowed to se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ceptual level: abstract level, whole D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r focus in this cour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ernal level: storage structu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Independence between the levels is g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AC8-E4FA-4B73-BD6B-36E3367BF0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3F3A4-60E8-4784-AAD6-342B1A0E3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the schem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veloped by system analys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intained by DB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DL vs DM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ata dictionary/system catalo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tive vs passi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343-AFDE-4C3F-902C-76E5BDDF6C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7FFA-A019-437A-8939-FE45763D45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ntity-Relationship (ER) Mode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phical conven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asily turned into relational mod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s limit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Overview: identify and name the pieces of data needed in the application and identify key relationships and constrai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71B-99DE-4BF5-A844-410E1756C3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D430B-C0EE-49A7-958E-D087BD1B1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ntities and Attribu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ntities: represent things in the real worl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.g. student, book, building, course, produ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ally described by nouns in Englis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ften corresponds to a struct in a programming lang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tributes: represent qualities of enti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.g. price, color, status, age, room numb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ttribute values are often adjectives in Englis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LWAYS attached to entit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ften corresponds to a simple type in a programming lang.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t compound and composite attributes exist to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9C3-20D9-4EC9-90F1-9E2CE4C3F5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94F1-437A-4671-96B7-0E0F4143D1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ypes and instan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ntity types vs entity instan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rson / FDR, Chelsea, Elizabeth 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ook / GWTW, Fire Your Boss, DB for Dumm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tributes vs valu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lor / red, chartreuse, {red, white &amp; blue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come / $4,000,000  $13,2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ddress / 1600 Pennsylvania Avenue, 415 4th St. 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EA4-ADBA-4534-A529-1515258478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732F5-0514-4062-845C-890905CA0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nections between enti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ever between attribu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hn owns a copy of GWTW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ohn and GWTW are entit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two entities are related (“owns”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hn owns a first edition of GWTW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st edition’ is an attribute of GWT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hn was born in 1932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932 is an attribute of John (no relationship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755-2232-43FF-A913-91F3AACB16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2D882-132C-444F-B309-2F9B2E0E4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tributes with unique valu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udents: each has a unique SS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ildings: each has a unique addre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y be more than one possible ke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metimes there is no natural ke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ist of plants encountered on a nature wal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ist of first names of employee’s dependen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ed “weak” entities if no proper ke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eeds a relationship to a “strong” enti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41C-22E0-491D-BA02-86B0EE881B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664F1-D0CD-4896-967F-FA7D9A1420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8T03:32:12Z</dcterms:created>
  <dc:creator>Martin Dickey</dc:creator>
  <dc:description/>
  <dc:language>en-US</dc:language>
  <cp:lastModifiedBy>CSE</cp:lastModifiedBy>
  <cp:lastPrinted>1997-10-01T05:23:02Z</cp:lastPrinted>
  <dcterms:modified xsi:type="dcterms:W3CDTF">1997-10-01T05:23:10Z</dcterms:modified>
  <cp:revision>11</cp:revision>
  <dc:subject/>
  <dc:title>What is a Database?</dc:title>
</cp:coreProperties>
</file>