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563-DB84-40DE-8418-644593C7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72A-86A7-43BA-AB1C-6921BADE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663-B60F-45D4-8BD1-D23546B4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340-9C0E-4D2B-BDE2-68A9904E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F34-742F-43AB-BBD1-CCABCC28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659-3214-4A66-96B5-8630F4A5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E18-6954-412F-BA3F-BB81F069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70A-2682-40A4-A7CB-B2164D97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2E3-021D-4B9E-82C5-D7F4D9BB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8C5-7BE0-437C-832E-EA08AF89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79D-6592-4E65-8F37-AD5FB979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1EC-E01A-4CE9-BAEF-A589C3D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12F5-10F3-41FB-ADFB-1A561866C0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-</a:t>
            </a:r>
            <a:fld id="{74B0C688-D8BC-4546-B768-CE0DC762D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is a Databas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6880" y="5867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354-9F17-4751-BDA2-E5669F0C67C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AA9E5-5F8C-4262-A8DE-65A7B8BC4D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ic topics (concluded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torage and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ata is organized on disk for efficient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particular we will learn about a data structure called a "B-tre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processing (time permit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mplex queries can be internally reorganized for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EC6-81CA-417C-AEC3-2DF6F481A1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E18F3-0C76-4F07-811B-2BB7238ED0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 Least One Modern Topic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data types (sound, images, time-seri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Persistent" 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with OO languages like C++,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ory and practice are both in 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050-3B27-4420-A2B2-A82C3A8E166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0D33A-F228-4BF2-A9CD-A6E70004D4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base Soup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GL RAD RAID R/3 Datamart ODMS CORBA COM JDC SAP MDM OLAP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's going on out there?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chedule permitting, we'll use a little class time to sort through some current commercial develop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papers could also stir through the s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projects might use some of that stuff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803-719A-4659-BE95-E55737ABAF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FE8BE-3CCF-46E8-9F3F-CE40759831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you’ve probably noticed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has links with many other areas of Computer Sci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Try to spot the connectio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297-0321-4546-8F2E-52874C4C08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3CEF1-0AAB-4824-BEE1-8045E3FF8B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Lay 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"A database is any collection of informatio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be a simpl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not even be on a compu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 too broad, but it's hard to fight everyday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006-7D9F-4A65-9B4F-3FAB78911A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514BD-4902-4B45-8298-66650F20A1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extreme operational defini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"A database is a structured collection of information created, managed, and accessed using one of a number of software packages commonly accepted as Database Management System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limited, but on the right 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tructured" and "using a DBMS" are fairly ess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A79-A160-4849-B6EF-769C5ED186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83B29-AABA-42F0-B3F3-38BAEE42B0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se are not found in every DB, but most are found in most D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free-form text, not large binary bl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nstances of a few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napshot of the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34F-2B93-4113-84D8-5C1C73FB59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CE0B9-7536-4222-BA02-5E669EAC37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re Characterist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d-users and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viewed directly by end-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administrativ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from end-users and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processing” rather than “computer scienc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Characteristic applications are large, long-lived, and critical to the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4E5-2C75-48E7-8496-42B681E614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D89B3-0692-415D-98C1-5CB3C7262A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Database Management System (DBMS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ftware components for creating, administering, and managing access to th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Below" the DBMS: file system, operating system, networking,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Above" the DBMS: DB administrator, application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Above" the application programs: end-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A65-9429-45EA-804B-F27DFEF816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667FA-EC91-4600-B945-13B32F2449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Cs vs Mainfram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s: The same person may act as administrator, programmer, end-use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frames (or big applications generally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ly a sharp division of hum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and the DBMS may be part of an even more complex software/hardware arran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mputers, multiple platforms, client/server, networks, tie-ins to other software system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CF9-EA7F-4B54-82D2-5FCD3FD6E3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4BA96-E155-42C8-96B4-5EEB7A87D7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me Classic DB Top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real world and the application, identify pieces of data needed and thei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study "E/R modeling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ing the model into a structure supported by th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focus on the "relational"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C5A-0074-4FCE-872C-775EA1D4AC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6E5F2-AE5E-4B9B-9D77-0EBDAFAA72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ic Topics (continued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s designed to support "queries" (requests for data) and other DB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study the formal "relational algebra" and the practical language SQ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user-activated programs, to guarantee service and preserve DB integ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will learn the key issues and termi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8FD-DECF-4AF0-9C62-89C9B30D98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2CA28-CB21-48B4-97FA-EA2FF8E928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8T03:32:12Z</dcterms:created>
  <dc:creator>Martin Dickey</dc:creator>
  <dc:description/>
  <dc:language>en-US</dc:language>
  <cp:lastModifiedBy>CSE</cp:lastModifiedBy>
  <cp:lastPrinted>1997-09-29T00:52:02Z</cp:lastPrinted>
  <dcterms:modified xsi:type="dcterms:W3CDTF">1997-09-29T00:52:18Z</dcterms:modified>
  <cp:revision>7</cp:revision>
  <dc:subject/>
  <dc:title>What is a Database?</dc:title>
</cp:coreProperties>
</file>