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F9E-EBAA-4C2C-A0DD-C653EF37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9B4-EDB8-4F21-9B19-9B950CF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453-6AA5-47B0-91BD-921276D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FEF-7014-424E-9F0D-D0CD8C1E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27C-03C0-447C-A9CB-DD15905D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FCD-66C5-4A40-9B01-2E788E43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125-10EB-431B-BB06-9EE1FC79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9B4-B1DB-4CD2-9981-E9048964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871-1097-406B-AE43-F61670D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534-32E5-4F68-B43D-2B747335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B10-86C0-4F5D-AD4F-07ECA14D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6A2-D861-4C50-B507-0FA019A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EB3-076C-4B64-BF70-03E0AE9F74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-</a:t>
            </a:r>
            <a:fld id="{8C2F5232-9054-4662-B2F5-E373646D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base Management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umn 199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and Welc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5B6-737B-4FEA-A045-2081C976F23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6137A-209D-44B6-8585-4C72E56E4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-on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: Sieg 232 (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a visit today!  Verify you can log-on and start up MS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www.cs.washington.edu/education/courses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can do a lot by e-mail and web, but I still would like to see you in pers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519-03AB-44CD-BA89-7D89609856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C581-9D1F-4C68-9D79-7650CD42E4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ing forward to the pap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y you, OK'd by me.  Start look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erson should have a different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something current and not otherwise covered in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a commercial product or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late to other CS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, Architecture, Networking, ProgLang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Times New Roman"/>
              </a:rPr>
              <a:t>Writing cou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F20-1967-4888-BBAD-92C99678A4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CA5B-E9F5-4F3A-A6BB-4626C82B16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ing forward to the project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group with a differen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o know each other so you can form good group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rvice"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fulfill a real need for someone outside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s on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lso specification, user interfa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85E-E02B-4375-A48C-ACE1EF1D4A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9BB1D-87B4-4E5D-B3F8-894FC89808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 Note of 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per and projects will OVERLAP other activities: tests, homework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expect conflicts and deadline clashes within the cour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ease use all your best time-management skills to avoid overload and str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8E3-A8F5-4B46-805F-373A616CC8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463C0-E36E-41F8-A03C-030BB62F97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's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content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structur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?  and who ca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5F3-0AC6-4E34-9819-E8A66664E9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02FCB-3BCB-4198-BD6E-CB76A4367C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for decades has been the workhorse of corporat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glamorous but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good-paying (but dull?)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is once again a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hot h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, very large DB, new media, distributed heterogeneous computing, RAD, etc.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C06-FB55-4105-9DC5-4F2761E2FF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E3490-01C9-4DE5-98A1-6D833605C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als for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classic topics really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modeling, relational design, classic query languages, storage and indexing, transaction processing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s-on practice with small DBs on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wareness of some current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Times New Roman"/>
              </a:rPr>
              <a:t>Enough background to go forth and learn anything you need to in the real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FC8-B46B-478A-AAC7-506FB80B1F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3A4F2-AB94-4214-8A6C-4088EEDBE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is course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"Mastering Microsoft Access 97" (or Oracle or Sybase or what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ecoming an SQL g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uilding way-cool GUIs in Visual Basic 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course on CORBA or ODBM or SQL Server or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B4C-145B-42A9-81AE-EF1C489A56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2D454-2F92-4780-8918-91C25F9553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ou in the right cour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 326 is the prerequi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very help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E 444 will likely be taught again W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an advanced DB course in 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493-CC00-48CB-A485-9389EBF2E9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75933-671F-496B-9761-022E20498C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or's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's: database consultant for Honey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's: as a grad student, DB was one of my "quals"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's: taught a semester-length version of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to feeling somewhat distanced from current practic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ping your papers and projects will help correct th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070-9728-4EED-95E5-82814D3BA3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F03F-9DE7-4E97-9523-817AAD54E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: midterm and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but not h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(non-programming)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s-on homework (using Microsoft Access 97) including some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research paper (due mid-quar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B project (due end of quar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6C7-1E1A-40E0-8024-3A710AB0BB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7C208-971B-4ED3-9F21-FC72F144DB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: Jake Cockr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s will only outline the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follow text, sometime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'll wa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articipate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: Elmasri and Nava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n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reading today!  Chapters 1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you might want to buy books on MS Access and/or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AC6-BE4A-4754-9DD3-6A2145B716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CC40E-FB2A-47B8-BFF8-ABF3538EA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8T02:27:28Z</dcterms:created>
  <dc:creator>Martin Dickey</dc:creator>
  <dc:description/>
  <dc:language>en-US</dc:language>
  <cp:lastModifiedBy>CSE</cp:lastModifiedBy>
  <cp:lastPrinted>1997-12-10T06:07:20Z</cp:lastPrinted>
  <dcterms:modified xsi:type="dcterms:W3CDTF">1997-12-10T06:07:36Z</dcterms:modified>
  <cp:revision>11</cp:revision>
  <dc:subject/>
  <dc:title>CSE 444 Database Management Systems Spring 1997 University of Washington  Introduction and Welcome</dc:title>
</cp:coreProperties>
</file>