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3C8-9F21-4D40-AC5B-4C3A7C41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992-B888-4CC7-8385-729978E2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BA1-EBEA-4880-A4A7-06C73130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7AC-E7DC-4C3B-9AEE-5F57A49B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5E2-F376-427D-A2C0-3C23D9B1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B88-3995-4E2E-8B1C-291369CC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265-F3A1-4CFD-8699-B9129105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25D-AAAC-4AA0-8BBB-CEB9B6A9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8F5-4E40-4F23-AC1A-5395DD00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9C4-D46F-4A94-A0D0-0867A8CC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F75-30BD-4DAB-A951-5EC2692B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C7E-D329-4703-8147-2C684791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-</a:t>
            </a:r>
            <a:fld id="{8953EC19-4203-4052-A18D-665185347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nsaction Processing Concep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7.1-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AB6-114A-44B6-B0AF-D2322F2CBE2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ig TP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sure simultaneous transactions don't interfere with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action to restore the DB to a consisten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11F-3303-4A06-8BF8-E63B377794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CID Te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istency P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719-A5E5-4A40-BCE7-845E6C97E9C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ers and DB Progra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users don't see the DB di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only vaguely aware of it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acutely aware of  part of its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users interact with DB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"Centralized" model, all of DB and all of program is on the main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has "dumb terminal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"Client/Server" model, UI is local (PC) and DB is remote (mainfr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"distributed" model, UI is local, some of the DB is local, and some is else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830-9D4C-4C0D-89F2-6BD781896A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finition of "Transaction"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Definition: A transaction is the execution of a DB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must be "atomic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affect is all or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must be consistent before and after the transaction executes (not necessarily during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a transaction executes fully and "commits" to all the changes it makes to the DB OR it must be as though that transaction never executed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639-76A9-47E9-BB02-D274B93110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Typical Transac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money from savings to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avings; verify balance is adequa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pdate savings balance and rewri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*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read checking; update checking balance and rewrit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B still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*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B in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B consistent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9E3-B872-47D8-88C9-D5BB8931A2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"Commit" and "Abort"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s which only READs expects DB to be consistent, and cannot cause it to become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nsaction which does any WRITE finishes, it must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M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"I'm done and the DB is consistent again"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B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"I'm done but I goofed: my changes must be undone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92A-AC74-4706-A0DA-7F25943441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lic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B may have many simultaneous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s why mainframes are still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taneous users implies simultaneous transactions implies simultaneous DB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rogramming/multi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can go 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can conflict with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may crash, OS may crash, disk may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AB5-EA1F-4D82-8F58-49F9CD6791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t DB Mustn't Cras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't be allowed to become incon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B that's 1% inaccurate is 100% unus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't los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't become un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A matter of life or death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F0A-0CFF-4390-9C47-60A12C0DB9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nsaction Manager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(or TP Monitor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part of OS, a layer of middleware, or part of the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s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timely, fair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s their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ally start/stop, writes, commits, ab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s or avoids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s recovery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58A-BFDA-489F-96F4-C186C52998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Log Fi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starts/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writes: "before" and "after"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s can be used to rollback an aborted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s can be used to redo a transaction (recovery from catastrop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s and AB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The log itself is as critical as the D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E8A-C937-453B-A9E5-715A930002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05:13:32Z</dcterms:created>
  <dc:creator>Martin Dickey</dc:creator>
  <dc:description/>
  <dc:language>en-US</dc:language>
  <cp:lastModifiedBy>CSE</cp:lastModifiedBy>
  <cp:lastPrinted>1997-11-12T19:13:44Z</cp:lastPrinted>
  <dcterms:modified xsi:type="dcterms:W3CDTF">1997-11-14T06:01:44Z</dcterms:modified>
  <cp:revision>9</cp:revision>
  <dc:subject/>
  <dc:title>Transaction Processing Concepts</dc:title>
</cp:coreProperties>
</file>