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3A2-3CA1-411F-9043-30928980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4E8-505D-4D7C-AF48-74D00CD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F4C-84F4-42CE-8C4D-11E6D38F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C54-2C0E-4166-9A14-E1DC2783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4CAE-2EA9-4DC0-AC82-903485AD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6733-113A-4906-8299-FC081BF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CF2D-7A37-496B-8AF0-770980E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363-90A6-4BC6-8378-67755B2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21B-2B6C-4C16-9C3A-CCA34B0D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8CA6-4616-48F3-BB84-41CDE0D0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D54-8509-4A99-A071-5FC271B7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9F5-52D7-47B6-B988-036BA1D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35C3-E8F1-4678-AB9B-A0DB357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808-6B53-4A96-93AC-38148E3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4CA7-E7C4-46A6-A7DB-10F05DA3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E7C-0ADC-47BA-BF92-424879C1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E106-97C4-45B8-BB2D-63AFE05E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73F-C993-4141-B699-83CBDEE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256-54FA-4CAD-9BE4-D1CDCE0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308-526D-4853-879A-EB21CC0C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488-2147-47F2-85FF-3A5F527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4A3-9E0E-47F2-83B5-7D05F993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CAD-2EC8-4626-AAED-DA0849A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893-3A4F-4095-8705-7CA4238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-</a:t>
            </a:r>
            <a:fld id="{898A92EB-70FC-475F-BCBA-183AE5AE6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-</a:t>
            </a:r>
            <a:fld id="{2047E7FB-CC21-4B3D-88B9-A46D0530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gher Forms of Normal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3.1-1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k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94C-61F7-4272-973F-6DF10C46278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Lossless" Joi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idea: if you decompose a relation schema, then join the parts of an instance via a natural join, you might get more rows than you started with, i.e., spurious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a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a "lossy join"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decompositions which produce only "lossless"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n-additive" join is more descrip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752-9845-4090-BDCD-0C7D2FDB38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serving F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, when a relation is decomposed, the X of an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ends up only in one of the new relations and the Y ends up only in an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decomposition is not dependency-preser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lways have FD-preserving decom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CCA-FFC8-4959-83F0-75B0CB9FD2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 of lif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nding a decomposition which is both lossless and dependency-preserving is not alway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61A-DF4D-4B65-826D-318155D659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valued Dependencies (MVD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given X, there is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ossible Y values (which do not depend on other attributes of the re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example: PARENTNAME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FD is also a MV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VD problems arise if there are two independent 1:N relationships in a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3ED-0166-4C45-89C4-AE907B4C24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urth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4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every nontrivial 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, X is a superkey of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 into 4NF: If there is a non-trivial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,  form one relation with only X and Y, and another with R-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lossless, but not necessarily FD-preser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ing 4NF is a trade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DDA-9CC0-492D-A1D0-8F684766A0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fth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 relation cannot be losslessly decomposed into two relations, but can be into three or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F captures the idea that a relation scheme must have some particular lossless decomposition ("join dependency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actual 5NF cases is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1D7-D4D1-44A4-A655-A78CC37F4E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ization Summa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NF: usually part of the wood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so, know how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F: usually ski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ots of defs. that make great exam Q'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: a big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aim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 and 4NF: tradeoffs start 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: d-preserving and lossles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NF: You can say you've heard of i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A15-1D52-4E9D-8A0F-430C133E13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is not the be-all and end-all of DB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uppose attributes A and B are always used together, but normalization theory says they should be in different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ation might produce unacceptable performance loss (extra disk re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1AD-5FF6-4BD2-BF58-B0EC971337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0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7T02:44:08Z</dcterms:created>
  <dc:creator>CSE</dc:creator>
  <dc:description/>
  <dc:language>en-US</dc:language>
  <cp:lastModifiedBy>CSE</cp:lastModifiedBy>
  <cp:lastPrinted>1997-11-10T18:51:40Z</cp:lastPrinted>
  <dcterms:modified xsi:type="dcterms:W3CDTF">1997-11-11T04:09:30Z</dcterms:modified>
  <cp:revision>6</cp:revision>
  <dc:subject/>
  <dc:title>Higher Forms of Normalization</dc:title>
</cp:coreProperties>
</file>