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189D-030D-4BC6-811A-0DA4B22F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5764-CAA7-4013-BABA-9FED2ED5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6971-7387-4028-8FE7-83CCB026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69DF-E081-4152-8C0B-400F535A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D124-6361-47C8-AAC0-587AF528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9DF0-BAB5-4C1A-BA59-A9FF587E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4B7B-AC4D-4C09-B1C5-94AB3D93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D322-FAE2-4C0A-8902-27C5FDC6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958A-AB00-4027-B3DB-59404EAD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5534-4A02-4FC2-BCAF-905A934D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9D9C-9826-4FB1-9D2C-E9797EAF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DF69-C5B3-4919-A8AB-52C1AD6F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-</a:t>
            </a:r>
            <a:fld id="{911E3858-0B2D-4F79-8C08-253FBC85B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inciples of Relational Desig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9E52-8AE0-42A3-8D3C-5D7E94DEC03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ference Rules for FD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FDs, it may be possible to deduce others by purely syntactic me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Given that {A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B,C}, it follows that {A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B} also (and  that {A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C}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8E7D-0F67-424F-8595-06D4B8EF6CD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rmstrong's inference rul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strong's rules (provable directly from the definition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1. Reflexive rul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X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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, then X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2. Augmentation rul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X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 then XZ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3. Transitive rul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X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 and Y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Z then X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understand the idea of FD, these should make sense, even if you can't prove them form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4A44-0346-458A-8C7A-F6FA0FF6B44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ome other rules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able from IR1-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4. Decomposition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X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Z then X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5. Union (additive) rul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X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 and X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Z then X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6. Pseudotransitivity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X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 and WY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Z then WX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hould also make sense.  Try them out with actual attribut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FCCC-B4EE-4F81-B5A8-3EF88C3E4DA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osur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+ is the "closure" of X: the set of all attributes functionally determined by X (given a set of F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51D9-F931-4284-8AD2-F18C763F05C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omaliz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a relation schem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it against a normalization criteri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t passes, fi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be test again with a higher criter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t fails, decompose into smaller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f them will pass the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an then be tested with a higher criter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9E77-5F71-4892-8E74-FF1C19AEA42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1st Normal Form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've already see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's the concept that all attribute values have to be atom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now taken for granted in the relation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s being questioned again in the object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 attribut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n'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ve to be atom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D9B6-FE41-4DB0-BCF7-676B84F7A24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Key Terminolog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key: attribute set with uniqu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: minimal superkey (no attribute can be remov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more than one such "candidate key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is designated the "primary key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Prime" attribute: occurs in some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Non-prime": occurs in no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FBD6-A939-4282-BB3E-7DC010D2632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ull and partial dependenc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Y is a "full functional dependency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no attribute can be removed from X and there still be the dependen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Y is a "partial dependency"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ome attribute can be removed from X and the dependency is still t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F223-9854-4848-9F82-494FFA4D43B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2NF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lation schema is i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2NF) if every non-prime attribute in it is fully functionally dependent on the primary key of the re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generally: …FFD 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143000" y="4572000"/>
          <a:ext cx="7128000" cy="121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572000"/>
                    <a:ext cx="7128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A95-7B01-40FE-BDB4-10B1BF122D1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3NF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is 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ansitive depend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et of attributes Z that is not a subset of any key of R, and both 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 and 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h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lation schema R is i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Normal Form (3NF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is in 2NF and no nonprime attribute of R is transitively dependent on the primary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E27-086C-4D0F-8780-82816838EAA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ngs can go wrong!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 relational designs we've seen so far have been pretty g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rly small, intuitiv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/R model not far a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arelessly designed schema can lead to big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evaluate a schem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design a good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04C8-9563-4536-9DCE-7346A63F01D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3NF (General Definition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lation is i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Normal Form (3NF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, whenever 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olds, either X is a superkey, or A is a prime attrib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Informally: everything depends on the key or is in the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pite the thorny technical definitions that lead up to it, 3NF is intuitive and not hard to achieve.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im for it in all designs unless you have strong reasons otherwi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44B0-62CB-46B6-B301-B2744AE1B4F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oyce-Codd Normal Form (BCNF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is i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F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whenever 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olds, then X is a super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ightly stronger than 3N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R(A,B,C) with {A,B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, 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NF but not B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im for BCNF and settle for 3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A63A-1A0B-4BE5-803C-158273F130D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lan of Attack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 some informal principles (12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: an important type of semantic constra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and illustrate (12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o define "normal forms" 2NF, 3NF, and BCNF (12.3-12.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mposition algorithms (13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valued dependencies and 4NF (13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dependencies and 5NF (13.3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29C6-FBD1-416D-B92D-3B9BADEBEA7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formal Guidelines by Elmasri and Navath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sign a relation so that it is easy to explain its mea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sign so that no insertion, deletion, or modification anomalies can occ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void attributes whose values can be nu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sign so that reasonable joins do not produce spurious tu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1A61-8EC7-4CE7-8DD0-35917BCA36B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"Universal Relation" Approach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we have identified all the individual pieces of data (attributes) of the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3300"/>
                </a:solidFill>
                <a:latin typeface="Times New Roman"/>
              </a:rPr>
              <a:t>The database design problem: group the attributes into rel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formal guidelines are one way of evaluating the res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heory of functional dependencies and normal forms gives a more precise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8029-F5A1-4712-A7ED-A9E17152BD2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unctional dependency defined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X and Y be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Y means that Y is a function of X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.e., if you know the value of X, there's only one possible value of Y.  We say that "Y is functionally dependent on X" or "X determines Y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Y does not imply Y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X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A1D8-6D0E-4B23-933A-F3AF74D9997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know the SSN, there's only one possible name (is the reverse true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S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know the department number, you know the department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C35E-7C3A-4BFB-BA4C-0EED907B320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pendencies between sets of attribut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today's date and the date of birth, the age and the years until 65 are determ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TD, DB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AGE, YTO6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know the file pathname, you can determine its size, owner, and date of last modif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SZ, O, MDT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ly, when writing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, we assume that X and Y are sets of attrib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119D-EFC1-40CB-8636-705E85795CA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acts about FD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Ds are purely semantic in n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Ds are facts about the abstract relation, not just about a particular relation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must hold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l possible legal instan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attributes of a relation are functionally dependent upon its ke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act, we can formally define keys in terms of F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F9F6-F83F-4467-A90C-56D7DF6DC86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6T22:55:34Z</dcterms:created>
  <dc:creator>Martin Dickey</dc:creator>
  <dc:description/>
  <dc:language>en-US</dc:language>
  <cp:lastModifiedBy>CSE</cp:lastModifiedBy>
  <cp:lastPrinted>1997-11-10T18:44:50Z</cp:lastPrinted>
  <dcterms:modified xsi:type="dcterms:W3CDTF">1997-11-10T18:47:28Z</dcterms:modified>
  <cp:revision>13</cp:revision>
  <dc:subject/>
  <dc:title>Principles of Relational Design</dc:title>
</cp:coreProperties>
</file>