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D67-1ADC-4AD8-9282-2FACB348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1CB-C601-4F05-88D4-DB384E7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4AC-A377-4104-918D-FE9374E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598-B78E-4FCD-AAEA-82E3D73A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412-3D15-4CF5-9703-486698F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FF6-FBD5-40FA-9B3C-76512C6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718-76D2-46E0-A6AD-136C2355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D9A-6DD5-45C3-BAAB-3E93752C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B9-017D-4CAF-A7A9-823B8A1B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A90-3B8E-452A-9916-08D43C7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971-5D17-4D50-9FBD-D91DE84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A3F-56CD-47ED-BB35-58418FF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-</a:t>
            </a:r>
            <a:fld id="{0DFE8879-CA04-4408-81BB-E71BC050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Calculus and QB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(sk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3D3-B007-43AD-A82D-90A03D8E195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he Relational Algebr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DB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ggregat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A. and R.C. can accomplish the sam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relationally complet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Queries" describe sets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{ | 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desire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clarative than RA: no op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lavors: "tuple" and "domai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3DF-F174-4789-A763-D96524D510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uple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elements are tuples from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Find employees named John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{t | EMPLOYEE (t) and t.FNAME = "John"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s: "The set of all t such that t is an element (member) of the relation EMPLOYEE, and the NAME attribute of t has the value John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 (Ingres) and to some extent SQL are base on tuple R.C.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07E-BB6E-48FA-9317-1E84959596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names of employees who work for the Research departmen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{e.FNAME, e.LNAME | EMPLOYEE (e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) (DEPARTMENT(d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.DNO =  d.DNUMBER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.DNAME = "Research") 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8F3-C25E-4577-9307-314004233B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al Calculus vs. Predicate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lavors of R.C. are extensions of the predicate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formal definitions of terms, formulas, scoping and binding of variab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uild a model theory with TRUE,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C. quantifiers like 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perators like 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t)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 must be taken with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CD2-B392-4D40-B6FF-0243BC0B80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main Relational Calcul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riables represent individual domain values (rather than whole tu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employees whose pay is over $25,00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{f,n |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p) EMPLOYEE (f,m,n,s,b,a,x,p,u,d) and p &gt; 25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lready a shorthand: should say f exists and belongs to the domain "string", etc. etc. for each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984-065E-464C-B279-CBA39EA5A0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main R.C. Join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Find employees of the Research dept. whose pay is over $25,00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{fn,ln 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p)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1) (EMPLOYE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fn,m,ln,s,b,a,x,p,u,d1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 p &gt; 25000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2) (</a:t>
            </a:r>
            <a:r>
              <a:rPr b="1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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dn) DEPARTMEN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dn,d2,mg,ms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 d1= d2 and dn="Research"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 variables are just placehold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log you could use "anonymous variables" (_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FE4-E3E4-49F5-8FE9-FA64A5EE7A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t so abstract, really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Query by Example" uses this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see 2-dimensional layout of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lect which tables are involved, which columns (variables) appear in output (i.e., what vars are to the left of  |), what conditions apply between columns, etc.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predominant paradigm in direct end-user query systems (e.g. Microsoft Acce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F23-5DFB-4390-8FFB-530616CC7B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6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21:57:20Z</dcterms:created>
  <dc:creator>Martin Dickey</dc:creator>
  <dc:description/>
  <dc:language>en-US</dc:language>
  <cp:lastModifiedBy>CSE</cp:lastModifiedBy>
  <cp:lastPrinted>1997-10-27T17:04:56Z</cp:lastPrinted>
  <dcterms:modified xsi:type="dcterms:W3CDTF">1997-10-28T02:56:24Z</dcterms:modified>
  <cp:revision>6</cp:revision>
  <dc:subject/>
  <dc:title>Relational Calculus and QBE</dc:title>
</cp:coreProperties>
</file>