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869-E0EC-42C3-8711-D29BA5D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6E5-2432-468D-AC85-010A2CF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BF6-BF61-4F09-9D63-D77C7CD8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246-502C-44D3-88EA-BE52899E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B17A-F8AB-41B2-8A46-4FE4247A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53C-0CE7-48BA-AFB5-2C328C7B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7C3-6BD2-4D3F-A5E0-5A7189E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4858-0AD2-4BC2-8852-5364702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BE96-8C5C-4A60-AC99-3F8E5A8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A41-E0DD-4501-8D3D-6B9BA1C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6764-3A36-41CC-9C19-0AB8413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FD8-02CB-4F36-A517-4D03F80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C10-732B-48B5-BF0F-CB3BECB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6049-935C-4207-807E-8C930375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B1FB-490D-4F5C-A453-90B7401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C90-C987-4E3F-89DE-6AFDC5F7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4508-84BC-4C8A-B65D-B9F856F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A7A-A72E-46AE-826A-FFCCB95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119-13BD-4942-AF4D-6F7CABC7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F72-9CBC-4BC5-8A3F-DA05417D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494-AE9B-43BE-BDAF-9118E11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196-B5DB-45C2-B5EC-5D47BDD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F4C-BD67-487B-8F94-158A38D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D93-21CD-43D1-B427-F1B8BC4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-</a:t>
            </a:r>
            <a:fld id="{A26A140B-C271-40F9-8392-533066090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-</a:t>
            </a:r>
            <a:fld id="{6A8C7415-E139-4DC6-8EB9-B9347994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bedded SQL and the CL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7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8F3-6BE6-45CE-AB4A-8F4845180F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 is very high-level, but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low level for end-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detailed knowledge of D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atisfactory as a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End user sees only an interface written by a DB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host language" such as COBOL, C, VB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ains the SQL, hard-coded or dynamically gen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954-DA83-469C-9CA2-CCEA24B32D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Impedance" Mismatc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language doesn't understan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language data types vs SQL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al imperative languages don't match declarative outlook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tabl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"what" not "how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omehow connect to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FA5-9E6E-4BEE-BB3E-9657A7E73A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Cursor"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e one row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a result table like a sequenti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QL statements in host source, translated by pre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via an API (Application Programming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use host language co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597-7989-4F7C-9684-A147C66577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: Call-level Interfa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PIs have been around for dec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nd non-rel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he" CLI is a recently standardized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to SQL in host languag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to the SQL Standard in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Microsoft ODBC (Open Database Connec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clares a struct (class) for each row type (i.e. for each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data exchange" supports data type conversion between DB format and host (e.g.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4D7-A319-4ED7-90EF-A8142A5C69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8:09:06Z</dcterms:created>
  <dc:creator>CSE</dc:creator>
  <dc:description/>
  <dc:language>en-US</dc:language>
  <cp:lastModifiedBy>CSE</cp:lastModifiedBy>
  <cp:lastPrinted>1997-10-24T00:54:42Z</cp:lastPrinted>
  <dcterms:modified xsi:type="dcterms:W3CDTF">1997-10-28T03:12:30Z</dcterms:modified>
  <cp:revision>5</cp:revision>
  <dc:subject/>
  <dc:title>Embedded SQL and the CLI</dc:title>
</cp:coreProperties>
</file>