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2A7-C574-4191-A4EF-8C079D57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39C-FBA1-4A55-82B6-9E8BD095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D1B-C408-402C-95DB-DFEA2F7D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521-7C62-4908-AD39-32761531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181C-33EE-44CD-B215-1AFD4FB6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226F-47E3-4ADF-8A87-FE0A5AD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6394-D0F1-44B4-A475-2145F9D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E600-AE2B-44F6-B219-1C00ABB5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331-716A-416E-9A4F-06D8CAB7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500B-EA2D-4B8B-AA24-5B15C517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666B-80E1-484B-9612-775BA0D8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187-FC02-4A3B-A49A-8421F960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238A-54E0-4F03-B28B-055C1D76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6D59-B81B-4D0A-B388-DDBB07AA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732C-CEBC-458B-ACD0-8C866EBC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93B9-79FA-41BD-8FB7-F284689F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1952-E06C-4521-802F-BD324B29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5DB-85E6-4CF2-B44A-14F1C1E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9D8-4863-4D3B-ACF6-E4ABBF5E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A8B-5124-445B-86E8-86AC8173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7E2-4A75-40EA-B170-CC1AFD1C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F58-5A3E-4234-999A-D3C53107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F1C-5AD7-4FAD-9A29-A86057BA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5CF-E470-45F8-B2B2-FCDE032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-</a:t>
            </a:r>
            <a:fld id="{8DAF8A0A-1D0C-44ED-B0B0-FC2DC1D86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-</a:t>
            </a:r>
            <a:fld id="{AB92FF22-8ABF-4E13-9C0F-B20EDC59C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portant: 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E25C-D128-47C9-933F-C4A3DE07954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BY &lt;attribut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 rows with common values to be group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rticular ordering amo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ht be used just to improve output presentation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ly used in connection with aggregat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4C3-3A20-4167-B5AF-713DBAC5BC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ing and Fun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 presence of grouping, aggregate functions apply to each group individ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has one row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processing: WHERE conditions, then GROUPING, then SELECT (including agg. func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… what if you want a condition appli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group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36C-3013-46AD-A785-2E66B7FE6C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a condition after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is applied to 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use aggregat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 SUM(QUANTITY) &gt;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CE8-BEFC-4EC1-8CD2-7397C44B70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uctured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ery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guag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as "Sequel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an ANSI (X3H2) / ISO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2 or SQL-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3 is in the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uses and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direct languag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our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n embedded languag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in a program in a convention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protocol from client to DB serve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increasingl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DE3-644D-45C3-BDA2-E185DFF976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QL DD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/SCHEMA/C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DROP/A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files are often character-based, descended from 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, FLOA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(i,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(n), VARCHAR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286-9779-4007-96E8-49AC32689A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90% of what you need to kno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LECT &lt;attribut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&lt;table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 &lt;conditio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is a projection into th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is effectively a Cartesian product of all the table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re conditions, which could be very elaborate and even involve nested SEL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946-D352-438B-9D98-5DEDBAD313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me No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 can be qual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can be rena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ECT S.FNAME, S.L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OM EMPLOYEE E, EMPLOYE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RE E.SUPERSSN = S.E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ECT *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display all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display all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1DA-6CF1-4C97-8039-284BAB5A44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re SQL Top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, AND, OR (in precedence or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vs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s are NOT eliminated on most opera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keyword eliminates dups in 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60D-D2F3-47F8-BDA8-90A63D5D58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s ("INTERSECT"), difference ("EXCEPT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connect whole sets (result of queries), not within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not supported by MS Access 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is not an SQ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SQL had a CONTAINS (set incl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D16-8091-45EA-A445-CA7893E19E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EXIS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s for membership in a set: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or returning Boolea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within conditions (W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ide a row (or value construed as a r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ide a table, frequently the result of a (nested) 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operator returning a Boo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s a table for non-empty: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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6AB-0585-4C33-8C5A-62AB397263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ggregate Fun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tandard functions: COUNT, SUM, MIN, MAX, AV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 appears in SELECT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UM (SAL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pplied after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a column in th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ometimes think of as a sca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369-5C62-445A-9717-ACFE34E4BF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7T02:27:24Z</dcterms:created>
  <dc:creator>CSE</dc:creator>
  <dc:description/>
  <dc:language>en-US</dc:language>
  <cp:lastModifiedBy>CSE</cp:lastModifiedBy>
  <cp:lastPrinted>1997-10-22T18:05:58Z</cp:lastPrinted>
  <dcterms:modified xsi:type="dcterms:W3CDTF">1997-10-27T16:51:36Z</dcterms:modified>
  <cp:revision>9</cp:revision>
  <dc:subject/>
  <dc:title>SQL</dc:title>
</cp:coreProperties>
</file>