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089-8C30-41D9-93CA-1E1A0FC0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D27-7CC4-4FF1-A972-5F257D62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DB8-CC4C-4721-9627-E64F20BF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534-B979-43ED-BEAB-67985DB4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F97-B664-4A78-B42E-5508778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57D-474E-4940-A5A2-D5C120B9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557-8A5F-49E3-A991-13B1202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2CE-06DB-4458-A192-DD3A4F1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AE4-17A1-431F-9F30-D05E60CC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9A5-588B-4CD3-9928-3D90B5E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5B1-5960-4C13-B369-D92B93E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FCC-035A-4AC7-8FBD-E0C3AF22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78C-7CE3-4E25-8408-86F4588C2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Database Connectivity (ODB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d like more power to manipulate D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ing, up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can benefit from using D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analysis: use info from DB rather reading text file or hard coding in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228600"/>
          <a:ext cx="7010640" cy="64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701064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1219320"/>
          <a:ext cx="8153280" cy="363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53280" cy="36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66680" y="287280"/>
          <a:ext cx="693432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7280"/>
                    <a:ext cx="693432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65360" y="152280"/>
          <a:ext cx="5810040" cy="655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5360" y="152280"/>
                    <a:ext cx="58100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DB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I that database vendors can implement for their system via ODBC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program makes requests via the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r talks to the DBMS using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driv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, Access, FoxPro, Excel, dBase, Paradox, tex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FC’s Databas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FC provides interface on top of the ODBC API, for use in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ord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onnect to a datasour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DBC data source administrator in the Control Panel to register your data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classes derived from the Crecordset type for each table in your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tiate a Cdatabase object and use it to connect to your data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your Crecordsets with the connected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(“Name of data sourc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Trans, CommitTrans, Ro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SQL(“SQL statemen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cord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view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code the table name to 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exposes one record of the table a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ariable for each column i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embers exchange data with the associated column in the current rec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cord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a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for each colum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_strFilter, a string holding WHERE cl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cordset(&amp;Cdatab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, Cl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Open, IsBof, IsE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New, Delete, Update, E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veFirst, MoveLast, MoveNext, MovePr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FieldNull, IsFieldDirty, Re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Connect with Student Registration 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 (InstructorID, Name, Roo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(StudentID, Name, GradY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(CourseID, CourseTitle,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(CourseID,SectionNo, InstructorID, RoomNo, Schedule, Capa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33520" y="1371600"/>
          <a:ext cx="769752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6975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1:20:08Z</dcterms:created>
  <dc:creator>jake</dc:creator>
  <dc:description/>
  <dc:language>en-US</dc:language>
  <cp:lastModifiedBy>jake</cp:lastModifiedBy>
  <dcterms:modified xsi:type="dcterms:W3CDTF">1997-10-28T21:58:33Z</dcterms:modified>
  <cp:revision>13</cp:revision>
  <dc:subject/>
  <dc:title>Open Database Connectivity (ODBC)</dc:title>
</cp:coreProperties>
</file>