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45ACE-F25A-4323-B675-7409435D8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B5338-0AB2-41EC-9249-9E8444C29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F3443-CA66-43CC-8BFB-18C85A8D0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84053-747E-4132-8CBA-5539F63DB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67982-0DA3-4E02-A0C6-1B6C251E2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D0B92-A0D0-433C-84BC-B2C24A8BD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5FD59-F9B0-4098-A41B-BF065D2F7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69768-96E6-4B43-9EB7-640DAF0F8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3A196-177A-44B3-9E0C-DBA9C2114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8FA09-A425-4303-B245-C4063D3E8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C8933-0156-4417-9C66-A1D140385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54BEB-600F-4281-B10D-034CE50E5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00C79-08E4-43CD-A108-700EDD6B9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0B081-B9D1-4C4C-A043-90EEFB178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6BFFC-D839-4D2D-A475-5B738F489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873B8-11C1-4328-A4B2-8130838E8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D1E72-4226-41F8-AF09-6E32181E6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6863D6-B020-44F4-8801-AE2DF1855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985EA2-6E2E-4947-9A0F-55453BBCD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F84208-D19F-4EA4-91A9-D277DB8D9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31F37F-B67D-4DC0-BBB0-442C2B657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B3E808-B086-4CA0-8688-4D6EB387C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2523B-7140-4F1D-8A53-A1F08B3B8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0BDA37-C886-464D-9679-0890D3436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6E580D-13E3-4F9A-8F2E-C58D3437B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0BACCD-492E-4AB5-9FDF-F46141430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AC6FC2-7D00-40B8-BC21-5F2896E07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563978-5913-464E-848D-57FAA1722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70FEC5-D2BD-4C2C-82E6-865C53515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C368BB-889E-4AB1-B739-AC2D8D7B8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604483-627C-4448-8ED4-DCC528B44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57F873-E2ED-48FC-8CC8-9892411CA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F94074-0BF0-43B0-9D95-DEA459287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23145-6CDD-4B6D-8A62-1A18A8AE2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5CB647-FA43-46E9-9F77-973499A10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C8AF77-7EEA-497A-BF4D-FDA261C09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8B92A7-DAE3-43F7-B3E7-1D62E1EEA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8B01DB-FFA4-4ED1-BC72-21188632A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06EB77-EBD3-400C-841B-8CED6C607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0A1556-364D-42AC-AC9C-2D1442A90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98C67D-9FC7-466F-93C7-068F3FE24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3C5223-0423-4A6A-B262-2DDA97E26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08B488-8AE4-4802-9D8B-BD5FE9943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24AB09-6427-4977-9459-7AAC50B81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4594C-CFA2-4CAC-8804-57D8740D0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51AF17-C003-4355-8E91-C28B4F634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303A74-8C8C-46AA-98B4-D75B0F908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B75242-3DB2-4FD6-86AA-410023F7C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EACC8B-1F19-4978-98F9-9558EEE4F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768B12-E509-4670-AC5F-4CA53A849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BB9533-7FFF-4B65-8AC5-9E08163F6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D7A170-CD60-4D43-9C75-146406952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4E053D-A3D9-4CC2-9E6B-1E865493D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F1CA60-2ABC-443F-9406-E1B6CFA27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861971-A7B5-4ACE-8988-B7229A041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ADF83-52B6-432A-A97A-F5AD51BCE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558D9E-696B-43DD-B22B-F12818689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558001-BE39-4E9D-A501-ABCF3005E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7DF216-F9DD-4CDE-A47E-DE55FA865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1C0EB8-34D7-4EAB-83AD-7A9D70E9D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29DB71-6776-43C3-9909-B5FCF2CC4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388502-FBCF-472F-9D9C-EC5E45478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F289EA-C550-405D-BFE3-8DE8C113F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6E4F65-89E7-4C04-8836-5EA3F5AFF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A9E390-C349-4BF4-960A-F46EF76AE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883BB7-5B84-43C7-B53D-2B1049A5C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E7EA2-CDFD-4841-9654-ED3336ED1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2B5662-B099-4AB2-9B23-2B551E45E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F8AD81-D314-4A4C-96E4-4C42600FD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ECD3BF-9444-47A2-A74C-4798F1464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606A84-2A9B-4BCC-A22D-F5069D583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DE91E4-F034-4735-9016-D88EF4FFD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DE78FA-3786-437D-8A74-02EE011D4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BFC800-974F-4A07-A18D-A7F5D7154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F0548C-6F25-4651-A2B2-811225005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C96FE3-F9B0-495D-889D-033972107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744DAB-3215-43B5-AA88-AD26C9C7A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A4565-57D5-4A08-A9DA-4469EA0E7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91B0C3-E593-462E-8CFC-031D197E7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813A9E-2BBD-446D-B586-10A8164B6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203DC7-F634-4AC8-9742-DF98C17D1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EF4272-6198-4DDA-A8D2-8BC244C7A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D9D1FF-F08B-40B3-8936-E71E3A4A7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88664-5047-43E5-BA68-5E766A47F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5B072-2E2B-4079-9528-A28ED5659998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Rectangle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Rectangle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Rectangle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Rectangle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6BF57-E0AC-4410-8EC1-7EBE69D82305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Freeform 17"/>
          <p:cNvSpPr/>
          <p:nvPr/>
        </p:nvSpPr>
        <p:spPr>
          <a:xfrm>
            <a:off x="4829040" y="1073160"/>
            <a:ext cx="4321440" cy="5791320"/>
          </a:xfrm>
          <a:custGeom>
            <a:avLst/>
            <a:gdLst>
              <a:gd name="textAreaLeft" fmla="*/ 0 w 4321440"/>
              <a:gd name="textAreaRight" fmla="*/ 4321800 w 4321440"/>
              <a:gd name="textAreaTop" fmla="*/ 0 h 5791320"/>
              <a:gd name="textAreaBottom" fmla="*/ 5791680 h 5791320"/>
            </a:gdLst>
            <a:ahLst/>
            <a:rect l="textAreaLeft" t="textAreaTop" r="textAreaRight" b="textAreaBottom"/>
            <a:pathLst>
              <a:path w="2736" h="3648">
                <a:moveTo>
                  <a:pt x="0" y="3648"/>
                </a:moveTo>
                <a:lnTo>
                  <a:pt x="720" y="2016"/>
                </a:lnTo>
                <a:lnTo>
                  <a:pt x="2736" y="672"/>
                </a:lnTo>
                <a:lnTo>
                  <a:pt x="2736" y="720"/>
                </a:lnTo>
                <a:lnTo>
                  <a:pt x="744" y="2038"/>
                </a:lnTo>
                <a:lnTo>
                  <a:pt x="48" y="3648"/>
                </a:lnTo>
                <a:lnTo>
                  <a:pt x="48" y="3648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Freeform 18"/>
          <p:cNvSpPr/>
          <p:nvPr/>
        </p:nvSpPr>
        <p:spPr>
          <a:xfrm>
            <a:off x="374760" y="0"/>
            <a:ext cx="5513400" cy="6615000"/>
          </a:xfrm>
          <a:custGeom>
            <a:avLst/>
            <a:gdLst>
              <a:gd name="textAreaLeft" fmla="*/ 0 w 5513400"/>
              <a:gd name="textAreaRight" fmla="*/ 5513760 w 5513400"/>
              <a:gd name="textAreaTop" fmla="*/ 0 h 6615000"/>
              <a:gd name="textAreaBottom" fmla="*/ 6615360 h 6615000"/>
            </a:gdLst>
            <a:ahLst/>
            <a:rect l="textAreaLeft" t="textAreaTop" r="textAreaRight" b="textAreaBottom"/>
            <a:pathLst>
              <a:path w="3504" h="4128">
                <a:moveTo>
                  <a:pt x="0" y="4080"/>
                </a:moveTo>
                <a:lnTo>
                  <a:pt x="0" y="4128"/>
                </a:lnTo>
                <a:lnTo>
                  <a:pt x="3504" y="2640"/>
                </a:lnTo>
                <a:lnTo>
                  <a:pt x="2880" y="0"/>
                </a:lnTo>
                <a:lnTo>
                  <a:pt x="2832" y="0"/>
                </a:lnTo>
                <a:lnTo>
                  <a:pt x="3465" y="2619"/>
                </a:lnTo>
                <a:lnTo>
                  <a:pt x="0" y="4080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Freeform 19"/>
          <p:cNvSpPr/>
          <p:nvPr/>
        </p:nvSpPr>
        <p:spPr>
          <a:xfrm rot="5236200">
            <a:off x="4461120" y="1483200"/>
            <a:ext cx="4114800" cy="1189080"/>
          </a:xfrm>
          <a:custGeom>
            <a:avLst/>
            <a:gdLst>
              <a:gd name="textAreaLeft" fmla="*/ 0 w 4114800"/>
              <a:gd name="textAreaRight" fmla="*/ 4115160 w 4114800"/>
              <a:gd name="textAreaTop" fmla="*/ 0 h 1189080"/>
              <a:gd name="textAreaBottom" fmla="*/ 1189440 h 118908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Freeform 20"/>
          <p:cNvSpPr/>
          <p:nvPr/>
        </p:nvSpPr>
        <p:spPr>
          <a:xfrm>
            <a:off x="5943600" y="0"/>
            <a:ext cx="2743200" cy="4267080"/>
          </a:xfrm>
          <a:custGeom>
            <a:avLst/>
            <a:gdLst>
              <a:gd name="textAreaLeft" fmla="*/ 0 w 2743200"/>
              <a:gd name="textAreaRight" fmla="*/ 2743200 w 27432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1728" h="2688">
                <a:moveTo>
                  <a:pt x="1104" y="0"/>
                </a:moveTo>
                <a:lnTo>
                  <a:pt x="1728" y="0"/>
                </a:lnTo>
                <a:lnTo>
                  <a:pt x="0" y="2688"/>
                </a:lnTo>
                <a:lnTo>
                  <a:pt x="110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Freeform 23"/>
          <p:cNvSpPr/>
          <p:nvPr/>
        </p:nvSpPr>
        <p:spPr>
          <a:xfrm>
            <a:off x="5943600" y="4267080"/>
            <a:ext cx="3200400" cy="11430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016" h="720">
                <a:moveTo>
                  <a:pt x="0" y="0"/>
                </a:moveTo>
                <a:lnTo>
                  <a:pt x="2016" y="240"/>
                </a:lnTo>
                <a:lnTo>
                  <a:pt x="2016" y="720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Freeform 24"/>
          <p:cNvSpPr/>
          <p:nvPr/>
        </p:nvSpPr>
        <p:spPr>
          <a:xfrm>
            <a:off x="5943600" y="0"/>
            <a:ext cx="1371600" cy="42670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864" h="2688">
                <a:moveTo>
                  <a:pt x="864" y="0"/>
                </a:moveTo>
                <a:lnTo>
                  <a:pt x="0" y="2688"/>
                </a:lnTo>
                <a:lnTo>
                  <a:pt x="768" y="0"/>
                </a:lnTo>
                <a:lnTo>
                  <a:pt x="86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Freeform 25"/>
          <p:cNvSpPr/>
          <p:nvPr/>
        </p:nvSpPr>
        <p:spPr>
          <a:xfrm>
            <a:off x="5948280" y="4246560"/>
            <a:ext cx="2090880" cy="2611440"/>
          </a:xfrm>
          <a:custGeom>
            <a:avLst/>
            <a:gdLst>
              <a:gd name="textAreaLeft" fmla="*/ 0 w 2090880"/>
              <a:gd name="textAreaRight" fmla="*/ 2091240 w 2090880"/>
              <a:gd name="textAreaTop" fmla="*/ 0 h 2611440"/>
              <a:gd name="textAreaBottom" fmla="*/ 2611800 h 2611440"/>
            </a:gdLst>
            <a:ahLst/>
            <a:rect l="textAreaLeft" t="textAreaTop" r="textAreaRight" b="textAreaBottom"/>
            <a:pathLst>
              <a:path w="1317" h="1645">
                <a:moveTo>
                  <a:pt x="1071" y="1645"/>
                </a:moveTo>
                <a:lnTo>
                  <a:pt x="1317" y="1645"/>
                </a:lnTo>
                <a:lnTo>
                  <a:pt x="0" y="0"/>
                </a:lnTo>
                <a:lnTo>
                  <a:pt x="1071" y="1645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Freeform 26"/>
          <p:cNvSpPr/>
          <p:nvPr/>
        </p:nvSpPr>
        <p:spPr>
          <a:xfrm>
            <a:off x="5943600" y="4267080"/>
            <a:ext cx="1600200" cy="259092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1008" h="1632">
                <a:moveTo>
                  <a:pt x="1008" y="1632"/>
                </a:moveTo>
                <a:lnTo>
                  <a:pt x="0" y="0"/>
                </a:lnTo>
                <a:lnTo>
                  <a:pt x="960" y="1632"/>
                </a:lnTo>
                <a:lnTo>
                  <a:pt x="1008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Freeform 27"/>
          <p:cNvSpPr/>
          <p:nvPr/>
        </p:nvSpPr>
        <p:spPr>
          <a:xfrm>
            <a:off x="5943600" y="1371600"/>
            <a:ext cx="3200400" cy="289548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016" h="1824">
                <a:moveTo>
                  <a:pt x="2016" y="0"/>
                </a:moveTo>
                <a:lnTo>
                  <a:pt x="2016" y="144"/>
                </a:lnTo>
                <a:lnTo>
                  <a:pt x="0" y="1824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Freeform 28"/>
          <p:cNvSpPr/>
          <p:nvPr/>
        </p:nvSpPr>
        <p:spPr>
          <a:xfrm>
            <a:off x="5943600" y="1752480"/>
            <a:ext cx="3200400" cy="25146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016" h="1584">
                <a:moveTo>
                  <a:pt x="2016" y="0"/>
                </a:moveTo>
                <a:lnTo>
                  <a:pt x="0" y="1584"/>
                </a:lnTo>
                <a:lnTo>
                  <a:pt x="2016" y="48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Freeform 29"/>
          <p:cNvSpPr/>
          <p:nvPr/>
        </p:nvSpPr>
        <p:spPr>
          <a:xfrm>
            <a:off x="990720" y="4267080"/>
            <a:ext cx="4952880" cy="2590920"/>
          </a:xfrm>
          <a:custGeom>
            <a:avLst/>
            <a:gdLst/>
            <a:ahLst/>
            <a:rect l="l" t="t" r="r" b="b"/>
            <a:pathLst>
              <a:path w="3120" h="1632">
                <a:moveTo>
                  <a:pt x="0" y="1632"/>
                </a:moveTo>
                <a:lnTo>
                  <a:pt x="3120" y="0"/>
                </a:lnTo>
                <a:lnTo>
                  <a:pt x="1056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Freeform 30"/>
          <p:cNvSpPr/>
          <p:nvPr/>
        </p:nvSpPr>
        <p:spPr>
          <a:xfrm>
            <a:off x="533520" y="4267080"/>
            <a:ext cx="5333760" cy="2590920"/>
          </a:xfrm>
          <a:custGeom>
            <a:avLst/>
            <a:gdLst>
              <a:gd name="textAreaLeft" fmla="*/ 0 w 5333760"/>
              <a:gd name="textAreaRight" fmla="*/ 5334120 w 533376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3360" h="1632">
                <a:moveTo>
                  <a:pt x="0" y="1632"/>
                </a:moveTo>
                <a:lnTo>
                  <a:pt x="3360" y="0"/>
                </a:lnTo>
                <a:lnTo>
                  <a:pt x="144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Freeform 31"/>
          <p:cNvSpPr/>
          <p:nvPr/>
        </p:nvSpPr>
        <p:spPr>
          <a:xfrm>
            <a:off x="366840" y="2438280"/>
            <a:ext cx="5638680" cy="182880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3552" h="1152">
                <a:moveTo>
                  <a:pt x="0" y="0"/>
                </a:moveTo>
                <a:lnTo>
                  <a:pt x="3504" y="1152"/>
                </a:lnTo>
                <a:lnTo>
                  <a:pt x="0" y="384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Freeform 32"/>
          <p:cNvSpPr/>
          <p:nvPr/>
        </p:nvSpPr>
        <p:spPr>
          <a:xfrm>
            <a:off x="366840" y="2133720"/>
            <a:ext cx="5638680" cy="213336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2133360"/>
              <a:gd name="textAreaBottom" fmla="*/ 2133720 h 213336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Freeform 33"/>
          <p:cNvSpPr/>
          <p:nvPr/>
        </p:nvSpPr>
        <p:spPr>
          <a:xfrm>
            <a:off x="4572000" y="4267080"/>
            <a:ext cx="1371600" cy="25909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864" h="1632">
                <a:moveTo>
                  <a:pt x="0" y="1632"/>
                </a:moveTo>
                <a:lnTo>
                  <a:pt x="96" y="1632"/>
                </a:lnTo>
                <a:lnTo>
                  <a:pt x="864" y="0"/>
                </a:lnTo>
                <a:lnTo>
                  <a:pt x="0" y="1632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Rectangle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Rectangle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Rectangle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Rectangle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Rectangle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2EA69-4A49-414E-8D27-B4908E8639D9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22E35-BA63-4E6F-A52D-28633CDF047A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Rectangle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Rectangle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Rectangle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Rectangle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Rectangle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Rectangle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Rectangle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Rectangle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Rectangle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15AD2-BDAD-42AF-89D6-3494F419B9C7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8AE1F-C4E2-4F38-941B-718E32DAEDC3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Rectangle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Straight Connector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5" name="Group 19"/>
          <p:cNvGrpSpPr/>
          <p:nvPr/>
        </p:nvGrpSpPr>
        <p:grpSpPr>
          <a:xfrm>
            <a:off x="8516880" y="1217520"/>
            <a:ext cx="128520" cy="131400"/>
            <a:chOff x="8516880" y="1217520"/>
            <a:chExt cx="128520" cy="131400"/>
          </a:xfrm>
        </p:grpSpPr>
        <p:sp>
          <p:nvSpPr>
            <p:cNvPr id="316" name="Straight Connector 20"/>
            <p:cNvSpPr/>
            <p:nvPr/>
          </p:nvSpPr>
          <p:spPr>
            <a:xfrm>
              <a:off x="8575920" y="1217520"/>
              <a:ext cx="6948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Straight Connector 23"/>
            <p:cNvSpPr/>
            <p:nvPr/>
          </p:nvSpPr>
          <p:spPr>
            <a:xfrm>
              <a:off x="8516880" y="1282680"/>
              <a:ext cx="982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Straight Connector 24"/>
            <p:cNvSpPr/>
            <p:nvPr/>
          </p:nvSpPr>
          <p:spPr>
            <a:xfrm flipV="1">
              <a:off x="8575920" y="1282320"/>
              <a:ext cx="6948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9" name="Group 25"/>
          <p:cNvGrpSpPr/>
          <p:nvPr/>
        </p:nvGrpSpPr>
        <p:grpSpPr>
          <a:xfrm>
            <a:off x="8669160" y="1370160"/>
            <a:ext cx="128880" cy="131400"/>
            <a:chOff x="8669160" y="1370160"/>
            <a:chExt cx="128880" cy="131400"/>
          </a:xfrm>
        </p:grpSpPr>
        <p:sp>
          <p:nvSpPr>
            <p:cNvPr id="320" name="Straight Connector 26"/>
            <p:cNvSpPr/>
            <p:nvPr/>
          </p:nvSpPr>
          <p:spPr>
            <a:xfrm>
              <a:off x="8728200" y="1370160"/>
              <a:ext cx="6984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Straight Connector 27"/>
            <p:cNvSpPr/>
            <p:nvPr/>
          </p:nvSpPr>
          <p:spPr>
            <a:xfrm>
              <a:off x="8669160" y="1435320"/>
              <a:ext cx="9864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Straight Connector 28"/>
            <p:cNvSpPr/>
            <p:nvPr/>
          </p:nvSpPr>
          <p:spPr>
            <a:xfrm flipV="1">
              <a:off x="8728200" y="1434960"/>
              <a:ext cx="6984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3" name="Group 29"/>
          <p:cNvGrpSpPr/>
          <p:nvPr/>
        </p:nvGrpSpPr>
        <p:grpSpPr>
          <a:xfrm>
            <a:off x="8321760" y="1473120"/>
            <a:ext cx="128520" cy="131400"/>
            <a:chOff x="8321760" y="1473120"/>
            <a:chExt cx="128520" cy="131400"/>
          </a:xfrm>
        </p:grpSpPr>
        <p:sp>
          <p:nvSpPr>
            <p:cNvPr id="324" name="Straight Connector 30"/>
            <p:cNvSpPr/>
            <p:nvPr/>
          </p:nvSpPr>
          <p:spPr>
            <a:xfrm>
              <a:off x="8380800" y="1473120"/>
              <a:ext cx="6948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Straight Connector 31"/>
            <p:cNvSpPr/>
            <p:nvPr/>
          </p:nvSpPr>
          <p:spPr>
            <a:xfrm>
              <a:off x="8321760" y="1538280"/>
              <a:ext cx="982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Straight Connector 32"/>
            <p:cNvSpPr/>
            <p:nvPr/>
          </p:nvSpPr>
          <p:spPr>
            <a:xfrm flipV="1">
              <a:off x="8380800" y="1537920"/>
              <a:ext cx="6948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14713-118C-4E84-A46A-BEFFA89E9C67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Title 1" descr=""/>
          <p:cNvPicPr/>
          <p:nvPr/>
        </p:nvPicPr>
        <p:blipFill>
          <a:blip r:embed="rId1"/>
          <a:stretch/>
        </p:blipFill>
        <p:spPr>
          <a:xfrm>
            <a:off x="682560" y="4237200"/>
            <a:ext cx="8010720" cy="2517480"/>
          </a:xfrm>
          <a:prstGeom prst="rect">
            <a:avLst/>
          </a:prstGeom>
          <a:ln w="0">
            <a:noFill/>
          </a:ln>
        </p:spPr>
      </p:pic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914400" y="2835000"/>
            <a:ext cx="7772400" cy="1508040"/>
          </a:xfrm>
          <a:prstGeom prst="rect">
            <a:avLst/>
          </a:prstGeom>
          <a:noFill/>
          <a:ln w="0">
            <a:noFill/>
          </a:ln>
        </p:spPr>
        <p:txBody>
          <a:bodyPr lIns="100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Section 2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SQL Queries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Group Exercise 4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Find most frequently used word. 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With group-by: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SELECT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word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FROM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BOOK_WORDS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GROUP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BY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word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HAVING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count(*) &gt;= ALL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(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SELECT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count(*)  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FROM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BOOK_WORDS bw1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GROUP BY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bw1.word) 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Subqueries: Discussion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Where can sub-queries occur?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81288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SELECT / FROM / WHERE / HAVING 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If I make a subquery S in the ____ (one of the above) clause,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81288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Where can I access S?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81288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What properties must S have? 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Agenda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Insert, Update, and Delete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onstraint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Group by: Group practice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ub queries: Discussion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Schema for today’s queries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UTHOR(aid, name, age)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RITTEN_BY(bid, aid)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OOK (bid, title)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OOK_WORDS (bid, word)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RD(word) - we can do without this.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Insert, Update, and Delete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ourier New"/>
                <a:ea typeface="Courier New"/>
              </a:rPr>
              <a:t>INSERT</a:t>
            </a:r>
            <a:r>
              <a:rPr b="0" lang="en-US" sz="30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en-US" sz="3000" spc="-1" strike="noStrike">
                <a:solidFill>
                  <a:srgbClr val="ffffff"/>
                </a:solidFill>
                <a:latin typeface="Courier New"/>
                <a:ea typeface="Courier New"/>
              </a:rPr>
              <a:t>INTO</a:t>
            </a:r>
            <a:r>
              <a:rPr b="0" lang="en-US" sz="3000" spc="-1" strike="noStrike">
                <a:solidFill>
                  <a:srgbClr val="ffffff"/>
                </a:solidFill>
                <a:latin typeface="Courier New"/>
                <a:ea typeface="Courier New"/>
              </a:rPr>
              <a:t> AUTHOR </a:t>
            </a:r>
            <a:r>
              <a:rPr b="1" lang="en-US" sz="3000" spc="-1" strike="noStrike">
                <a:solidFill>
                  <a:srgbClr val="ffffff"/>
                </a:solidFill>
                <a:latin typeface="Courier New"/>
                <a:ea typeface="Courier New"/>
              </a:rPr>
              <a:t>VALUES</a:t>
            </a:r>
            <a:r>
              <a:rPr b="0" lang="en-US" sz="3000" spc="-1" strike="noStrike">
                <a:solidFill>
                  <a:srgbClr val="ffffff"/>
                </a:solidFill>
                <a:latin typeface="Courier New"/>
                <a:ea typeface="Courier New"/>
              </a:rPr>
              <a:t> (312,‘Michael Chabon’,45);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ourier New"/>
                <a:ea typeface="Courier New"/>
              </a:rPr>
              <a:t>UPDATE</a:t>
            </a:r>
            <a:r>
              <a:rPr b="0" lang="en-US" sz="3000" spc="-1" strike="noStrike">
                <a:solidFill>
                  <a:srgbClr val="ffffff"/>
                </a:solidFill>
                <a:latin typeface="Courier New"/>
                <a:ea typeface="Courier New"/>
              </a:rPr>
              <a:t> AUTHOR </a:t>
            </a:r>
            <a:r>
              <a:rPr b="1" lang="en-US" sz="3000" spc="-1" strike="noStrike">
                <a:solidFill>
                  <a:srgbClr val="ffffff"/>
                </a:solidFill>
                <a:latin typeface="Courier New"/>
                <a:ea typeface="Courier New"/>
              </a:rPr>
              <a:t>SET</a:t>
            </a:r>
            <a:r>
              <a:rPr b="0" lang="en-US" sz="3000" spc="-1" strike="noStrike">
                <a:solidFill>
                  <a:srgbClr val="ffffff"/>
                </a:solidFill>
                <a:latin typeface="Courier New"/>
                <a:ea typeface="Courier New"/>
              </a:rPr>
              <a:t> AGE=46 </a:t>
            </a:r>
            <a:r>
              <a:rPr b="1" lang="en-US" sz="3000" spc="-1" strike="noStrike">
                <a:solidFill>
                  <a:srgbClr val="ffffff"/>
                </a:solidFill>
                <a:latin typeface="Courier New"/>
                <a:ea typeface="Courier New"/>
              </a:rPr>
              <a:t>WHERE</a:t>
            </a:r>
            <a:r>
              <a:rPr b="0" lang="en-US" sz="3000" spc="-1" strike="noStrike">
                <a:solidFill>
                  <a:srgbClr val="ffffff"/>
                </a:solidFill>
                <a:latin typeface="Courier New"/>
                <a:ea typeface="Courier New"/>
              </a:rPr>
              <a:t> aid=312;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ourier New"/>
                <a:ea typeface="Courier New"/>
              </a:rPr>
              <a:t>DELETE</a:t>
            </a:r>
            <a:r>
              <a:rPr b="0" lang="en-US" sz="30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en-US" sz="3000" spc="-1" strike="noStrike">
                <a:solidFill>
                  <a:srgbClr val="ffffff"/>
                </a:solidFill>
                <a:latin typeface="Courier New"/>
                <a:ea typeface="Courier New"/>
              </a:rPr>
              <a:t>FROM</a:t>
            </a:r>
            <a:r>
              <a:rPr b="0" lang="en-US" sz="3000" spc="-1" strike="noStrike">
                <a:solidFill>
                  <a:srgbClr val="ffffff"/>
                </a:solidFill>
                <a:latin typeface="Courier New"/>
                <a:ea typeface="Courier New"/>
              </a:rPr>
              <a:t> AUTHOR </a:t>
            </a:r>
            <a:r>
              <a:rPr b="1" lang="en-US" sz="3000" spc="-1" strike="noStrike">
                <a:solidFill>
                  <a:srgbClr val="ffffff"/>
                </a:solidFill>
                <a:latin typeface="Courier New"/>
                <a:ea typeface="Courier New"/>
              </a:rPr>
              <a:t>WHERE</a:t>
            </a:r>
            <a:r>
              <a:rPr b="0" lang="en-US" sz="3000" spc="-1" strike="noStrike">
                <a:solidFill>
                  <a:srgbClr val="ffffff"/>
                </a:solidFill>
                <a:latin typeface="Courier New"/>
                <a:ea typeface="Courier New"/>
              </a:rPr>
              <a:t> aid=312; </a:t>
            </a:r>
            <a:r>
              <a:rPr b="0" lang="en-US" sz="30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                                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Note: for </a:t>
            </a:r>
            <a:r>
              <a:rPr b="1" lang="en-US" sz="3000" spc="-1" strike="noStrike">
                <a:solidFill>
                  <a:srgbClr val="ffffff"/>
                </a:solidFill>
                <a:latin typeface="Corbel"/>
              </a:rPr>
              <a:t>DELETE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[be careful! don’t forget the WHERE condition!]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onstraints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82320" indent="-31860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What are examples of ICs constraints that we might want?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55640" indent="-26568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Keys, foreign keys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55640" indent="-26568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Attribute-level constraints 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55640" indent="-26568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Tuple-level  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55640" indent="-26568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Global constraints 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82320" indent="-31860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Policie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55640" indent="-26568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Reject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55640" indent="-26568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Cascade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55640" indent="-26568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Set NULL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82320" indent="-31860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Group Exercises 1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914400" y="178452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ind names of authors who wrote more than 20 books. 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  <a:ea typeface="ヒラギノ角ゴ ProN W3"/>
              </a:rPr>
              <a:t>Without group-by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ヒラギノ角ゴ ProN W3"/>
              </a:rPr>
              <a:t>SELECT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ヒラギノ角ゴ ProN W3"/>
              </a:rPr>
              <a:t> name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ヒラギノ角ゴ ProN W3"/>
              </a:rPr>
              <a:t>FROM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ヒラギノ角ゴ ProN W3"/>
              </a:rPr>
              <a:t> AUTHOR a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ヒラギノ角ゴ ProN W3"/>
              </a:rPr>
              <a:t>WHERE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ヒラギノ角ゴ ProN W3"/>
              </a:rPr>
              <a:t> (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ヒラギノ角ゴ ProN W3"/>
              </a:rPr>
              <a:t>SELECT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ヒラギノ角ゴ ProN W3"/>
              </a:rPr>
              <a:t> COUNT(*) 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ヒラギノ角ゴ ProN W3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ヒラギノ角ゴ ProN W3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ヒラギノ角ゴ ProN W3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ヒラギノ角ゴ ProN W3"/>
              </a:rPr>
              <a:t>FROM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ヒラギノ角ゴ ProN W3"/>
              </a:rPr>
              <a:t> WRITTEN_BY wb 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ヒラギノ角ゴ ProN W3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ヒラギノ角ゴ ProN W3"/>
              </a:rPr>
              <a:t>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ヒラギノ角ゴ ProN W3"/>
              </a:rPr>
              <a:t>WHERE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ヒラギノ角ゴ ProN W3"/>
              </a:rPr>
              <a:t> wb.aid = a.aid) &gt; 20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With group-by: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SELECT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name 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FROM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AUTHOR a, WRITTEN_BY wb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WHERE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a.aid = wb.aid 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GROUP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BY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a.aid, a.name --note that we must include a.name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HAVING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COUNT(*) &gt; 20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Group by error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Corbel"/>
              </a:rPr>
              <a:t>Column '___' is invalid in the select list because it is not contained in either an aggregate function or the GROUP BY clause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Group Exercise 2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94560" indent="-32868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Find authors who have a vocabulary of more than 10k words. 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394560" indent="-328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Without group-by: </a:t>
            </a:r>
            <a:endParaRPr b="0" lang="en-US" sz="1400" spc="-1" strike="noStrike">
              <a:solidFill>
                <a:srgbClr val="ffffff"/>
              </a:solidFill>
              <a:latin typeface="Corbel"/>
            </a:endParaRPr>
          </a:p>
          <a:p>
            <a:pPr marL="394560" indent="-328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  <a:ea typeface="Courier New"/>
              </a:rPr>
              <a:t>SELECT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  <a:ea typeface="Courier New"/>
              </a:rPr>
              <a:t> name </a:t>
            </a: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  <a:p>
            <a:pPr marL="394560" indent="-328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  <a:ea typeface="Courier New"/>
              </a:rPr>
              <a:t>FROM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  <a:ea typeface="Courier New"/>
              </a:rPr>
              <a:t>   AUTHOR A</a:t>
            </a: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  <a:p>
            <a:pPr marL="394560" indent="-328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  <a:ea typeface="Courier New"/>
              </a:rPr>
              <a:t>WHERE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  <a:ea typeface="Courier New"/>
              </a:rPr>
              <a:t>  (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  <a:ea typeface="Courier New"/>
              </a:rPr>
              <a:t>SELECT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  <a:ea typeface="Courier New"/>
              </a:rPr>
              <a:t> COUNT(DISTINCT word) </a:t>
            </a: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  <a:p>
            <a:pPr marL="394560" indent="-328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  <a:ea typeface="Courier New"/>
              </a:rPr>
              <a:t>FROM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  <a:ea typeface="Courier New"/>
              </a:rPr>
              <a:t>   WRITTEN_BY wb, Book_Words bw</a:t>
            </a: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  <a:p>
            <a:pPr marL="394560" indent="-328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  <a:ea typeface="Courier New"/>
              </a:rPr>
              <a:t>WHERE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  <a:ea typeface="Courier New"/>
              </a:rPr>
              <a:t>  A.aid = wb.aid AND wb.bid = bw.bid) &gt; 10000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  <a:p>
            <a:pPr marL="394560" indent="-328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  <a:ea typeface="ヒラギノ角ゴ ProN W3"/>
              </a:rPr>
              <a:t>With group-by:</a:t>
            </a:r>
            <a:endParaRPr b="0" lang="en-US" sz="1400" spc="-1" strike="noStrike">
              <a:solidFill>
                <a:srgbClr val="ffffff"/>
              </a:solidFill>
              <a:latin typeface="Corbel"/>
            </a:endParaRPr>
          </a:p>
          <a:p>
            <a:pPr marL="394560" indent="-328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  <a:ea typeface="Courier New"/>
              </a:rPr>
              <a:t>SELECT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  <a:ea typeface="Courier New"/>
              </a:rPr>
              <a:t>   name </a:t>
            </a: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  <a:p>
            <a:pPr marL="394560" indent="-328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  <a:ea typeface="Courier New"/>
              </a:rPr>
              <a:t>FROM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AUTHOR a, WRITTEN_BY wb, BOOK_WORDS bw</a:t>
            </a: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  <a:p>
            <a:pPr marL="394560" indent="-328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  <a:ea typeface="Courier New"/>
              </a:rPr>
              <a:t>WHERE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a.aid = wb.aid AND wb.bid = bw.bid </a:t>
            </a: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  <a:p>
            <a:pPr marL="394560" indent="-328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  <a:ea typeface="Courier New"/>
              </a:rPr>
              <a:t>GROUP BY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  <a:ea typeface="Courier New"/>
              </a:rPr>
              <a:t> a.aid, a.name </a:t>
            </a: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  <a:p>
            <a:pPr marL="394560" indent="-328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  <a:ea typeface="Courier New"/>
              </a:rPr>
              <a:t>HAVING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  <a:ea typeface="Courier New"/>
              </a:rPr>
              <a:t>   COUNT(DISTINCT word) &gt; 10000</a:t>
            </a: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  <a:p>
            <a:pPr marL="394560" indent="-32868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394560" indent="-32868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Group Exercise 3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For each author, report average number of words per book. 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With group-by: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SELECT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aid, AVG(num)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FROM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(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SELECT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aid, bid, COUNT(*) num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ヒラギノ角ゴ ProN W3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FROM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AUTHOR a, WRITTEN_BY wb, BOOK_WORDS bw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ヒラギノ角ゴ ProN W3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WHERE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…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ヒラギノ角ゴ ProN W3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GROUP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BY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aid, bid) t 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GROUP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BY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aid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1T03:23:02Z</dcterms:created>
  <dc:creator>Tony Anderson;Paramjit Sandhu</dc:creator>
  <dc:description/>
  <dc:language>en-US</dc:language>
  <cp:lastModifiedBy>Tony Anderson</cp:lastModifiedBy>
  <dcterms:modified xsi:type="dcterms:W3CDTF">2009-10-08T16:12:21Z</dcterms:modified>
  <cp:revision>65</cp:revision>
  <dc:subject/>
  <dc:title>Introduction to Database Systems CSE 444</dc:title>
</cp:coreProperties>
</file>