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2E1-5F35-4491-B705-48278C06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907-5EFD-4197-B0B5-AFB5F3C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10E-98D0-48DD-A6E8-5050DFEE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DCC-2193-4C7E-B9D5-EA2462EA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6CF-DCA4-48FB-AC8E-A6033FDC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A9CA-AD10-4D47-BE97-87A4E4B2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031C-A91F-4BA5-98A3-1A17A3F1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292-C055-411F-8152-679A67CE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BE06-E0E9-4D63-81CC-D4C82740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3E59-11A6-4510-8FD3-C9A68F14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8C4D-9716-4FD4-BFFE-B80BB06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C22-C4B0-4E91-9B05-A27F5F0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EA5E-7A07-4EEE-B359-9DA5206B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D498-FE4F-4016-B3FD-5515409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497A-4C81-472F-BF0B-37A2F494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FE72-4775-4674-9744-A18D665B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122B-B71C-4D76-9A17-C8915354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7ECD-E2AB-4A37-9536-7207A14F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02D4-4197-4407-8904-9B598E2D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EC2F-C5F3-4380-99A5-E8909BB6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FB4F-E47E-4584-9C21-8D340115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5B43-FA10-4B88-BA4B-3913BC6E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E41-CE8B-4A2F-A07F-337FD30C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FCA6-47F6-4AD5-A266-7BB4537A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5F40-6B58-46D5-91E5-E666540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B155-0660-4A99-B262-1310BAD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3A75-8B28-49AA-B821-7897B87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BE9A-D15B-4E5A-B6D1-1BF33116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725C-456B-4778-8674-53464074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D12A-6CFA-464B-A5BB-C95519EB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CB0D-0A5E-4CBA-8796-BBE5159A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22F0-8B83-47BD-AB0F-8AE8BAD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D7AA-346F-403B-8F6F-D7A43D82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9B7-D06C-4FE0-91BE-F1C5CA3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195E-A2DC-4F6F-9197-481F0F46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4607-5122-4199-B565-042E0D8D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5099-4878-4AEE-9B4A-C1A24DAC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95D0-0386-4BE7-B0F1-73E1F948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027A-96D3-488F-A885-D995B0A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8989-0753-42F0-95E0-450FA2C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120F-5003-4107-AB9E-C44DD6CF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64C0-12F5-4B78-9800-93472C3D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A478-1065-4D50-BDB4-4792BEB3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094A0-E229-4691-A1CA-F3BB6A76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D75-266A-43F1-AD8A-2B690B6E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105B-7B85-4204-83FA-A49C713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8323-4AC1-4E45-8017-982E5D7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8732-C0DD-4AE7-9E10-1263D35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9B8A-2E8C-4BA2-AD03-6D1E0AF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C59E-C9BB-4770-AD4E-A04E4704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BC131-924D-440D-9F18-9B601A27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55F2-A6B1-482F-A1E5-6B2934B9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2E80-265F-4B53-BF31-4489F53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461B-BC06-405C-B2FB-6203F4CD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E845-443B-45EC-BB3E-306136C2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CB4-43B5-426F-8C37-3637C8D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12B5B-5CDF-4AE6-8256-8028409F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AF19C-48C3-4A86-A9EA-C77CA860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0286-260F-4CD3-9AE3-359FD736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2F75E-809E-4D20-923D-D3FC58EB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6C8F-FD6A-4201-A2AD-0205F0F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D34C-7B22-4528-A8AF-2BB75064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47F2-B301-4254-8E83-60E1AB0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8AD8-4613-4FE4-9CE7-824BE3B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CFBF-0F69-43FD-BDD0-9A05038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9362-266B-4CEE-A7D2-E1608F3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212-893B-4889-9022-81FF8726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23D68-9FD2-4F9C-9823-2149DE10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9360-CEFC-47BC-9F19-55255269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F163-E5CE-4FA4-A75B-D001AE26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BE36-F8FF-4ACF-B051-3DB4A68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765F-E171-4D2D-B66D-4B394EE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9DED-7962-46E8-AE9D-BAEA588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3B936-59BC-47C0-82B2-B5F109D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0B69-6806-4CD2-8E90-5EA2156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6878E-9104-4FD4-B7A7-4B87BD04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FDAA-E20C-4CE4-BAB1-CB76299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683-2283-4690-9D10-5C27D70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7B6F6-73F3-47ED-85D7-B2A833B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78ACB-6D1B-45E7-8D48-5FFAFC1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D575-EDEF-449A-85F7-1BAE4A8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C065-0DBA-4C10-A734-59BCC743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27AC-AD4F-4609-8D6D-B0917D14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193-6224-486E-897C-2D95F5E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AA2-6DEC-4435-83A5-8B28770DCE7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870B-C29B-4CD9-A16F-FF2027588B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6FB-F2E3-4A58-9BF1-8441EA0014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BE41-FA80-4BC4-BD24-FFC9A98EF7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8002-F8BA-4CE4-BA95-D21B038B5EB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7C2B-0FBA-4824-AA77-E6C7BFFF6D4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CE9-8C19-46B3-8F7C-B93AB6B32F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ge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rod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necting to SS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sic SQL De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ject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Ahem… Let’s Introduce Ourselv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r name (clear and loud pleas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 standing (freshman-xth year senio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mething interes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 am taking db because 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 climbed Mt. Everest this Summer 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 creative!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necting to SS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QL Server Management Studio (Microsoft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Log in to a lab PC, or rdesktop into ari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Run SQL Server Management Studio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ograms &gt;&gt; Microsoft SQL Server 2008 &gt;&gt;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65520" indent="-221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QL Server Management Studi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Login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name: &lt;your_uw_netid&gt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assword: &lt;see lecture 1 slides&gt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rver: iisqlsrv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uthentication: Sql Server Authent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rbel"/>
              </a:rPr>
              <a:t>CHANGE YOUR PASSWORD! (see link below for intruction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ttp://www.cs.washington.edu/education/courses/cse444/CurrentQtr/resources/SQLServerInstructr.html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mail TAs (paramsan preferably) in case of any issues with login asap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sic SQ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column(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M Table(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condition(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Corbel"/>
              </a:rPr>
              <a:t>GROUP BY column(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Corbel"/>
              </a:rPr>
              <a:t>HAVING special_condition(s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ry from Lecture 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*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 Actor, Casts, Movi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Actor.id = Casts.pid 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ts.mid = Movie.id 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lname='Hanks' 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Movie.year = 199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ore Quer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Courier New"/>
              </a:rPr>
              <a:t>Select actors from popular movies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DISTINCT Actor.id, Actor.fname, Actor.lname, Actor.gender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Movie, Casts, Actor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Movie.rank &gt; 9.5 AND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Casts.mid = Movie.id AND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Actor.id = Casts.pid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Courier New"/>
              </a:rPr>
              <a:t>Count of actors with same fname and gender, sorted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  <a:ea typeface="Courier New"/>
              </a:rPr>
              <a:t>Note: This was contributed by one of the students in section 2 near the end (and covered clauses not discussed so far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fname, gender, COUNT(*) AS 'count‘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Actor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 BY gender, fname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ORDER BY 'count' desc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  <a:ea typeface="Courier New"/>
              </a:rPr>
              <a:t>Note: 'count‘ can also be specified as [count]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to  avoid conflict with the function count()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oject 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Project1 link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726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Due 10/14/09, Wednesday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ttp://www.cs.washington.edu/education/courses/cse444/CurrentQtr/project/project1/project1.htm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ke sure everyone can log in to iisqlsrv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AND DON’T FORGET TO CHANGE YOUR PASSWORD! (see link below for intruction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Email TAs (paramsan preferably) in case of any issues with login asap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ttp://www.cs.washington.edu/education/courses/cse444/CurrentQtr/resources/SQLServerInstructr.htm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3:23:02Z</dcterms:created>
  <dc:creator>Tony Anderson;Paramjit Sandhu</dc:creator>
  <dc:description/>
  <dc:language>en-US</dc:language>
  <cp:lastModifiedBy>Tony Anderson</cp:lastModifiedBy>
  <dcterms:modified xsi:type="dcterms:W3CDTF">2009-10-02T01:22:26Z</dcterms:modified>
  <cp:revision>16</cp:revision>
  <dc:subject/>
  <dc:title>Introduction to Database Systems CSE 444</dc:title>
</cp:coreProperties>
</file>