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9739-5D34-47DD-BA71-D8F286232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551920-582B-431F-8556-A3CDD1777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8E6-8001-425F-A02C-16E0E142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4FA-4BA4-4DBF-B756-C4C3D7F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A17-846F-4AF9-95D9-5EF451DC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6C5-DCAE-4E43-813E-5D6035AD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890-E4E0-49B2-B476-2600F8D1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8BA-A416-406B-A8F2-63140F11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E6D-C0DD-424F-AE64-7F8496FD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40D-5091-4CE5-8F38-7B29331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0B8-A22A-4B91-BAB3-52B45602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0BE-578C-4998-B227-7C15AB5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8BF-5F84-4D1A-9C89-05328A2F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C0D-E034-495A-B1FB-B1C5FFC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5153-880F-471A-AACC-B91091076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4D7-1FE3-4848-A3A3-F66757A74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8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7567-FC9F-4FDD-A440-B291D2973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12:30-1:20,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design,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 little XML (very l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51560" y="6176880"/>
            <a:ext cx="3167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5E3-5113-453F-86F2-184CF5ABA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and GROUP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and non-monoton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/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0B74-5E22-4E15-8E8D-071EEB3C0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diagram ba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, relationships, IS-A, weak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slides - including weak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to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 The foreign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l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-one or one-on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653D-8265-4B49-A0AB-82CA39135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 FDs and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X --&gt; Y mean, how do we check if it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trong’s rules, X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how to use the algorithm on the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55B-372D-4E68-95D2-A1067E0DC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plan on reading during the midter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questions are easy, others are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ier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me definition of fu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4-28T02:08:12Z</dcterms:modified>
  <cp:revision>388</cp:revision>
  <dc:subject/>
  <dc:title>Lecture 09:</dc:title>
</cp:coreProperties>
</file>