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C960C-BD3D-476F-AC70-3643B4AF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ECD07-E8B1-4000-A6BC-AE98146F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4A5615-5B7F-4DC3-8042-BDBC565E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779A3E-EB90-4C9F-B501-9115E895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55E25C-4BDF-4B79-A41B-09DE9F925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D70BFC-09EF-4D07-80B2-66D28F21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FD4BD0-6F11-4CBF-BD19-B14C8F5D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796DB5-5866-455F-A8C3-59FA11929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6DDEC4-AE9A-4782-90FD-24E5FFFD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3027AA-D965-42B3-BD8A-5F498B583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4A9F02-7387-4575-9916-834CE814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F0B820-B1BE-4DC5-8B3E-6C00C089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436E0F-14B1-4E03-9960-7AABD0D1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1C68C7-E234-4FBB-B0A3-269BF632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467BC6-3E1F-4CD0-A682-AA38FB5F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E79893-DB42-4DAB-B267-39DCA95E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A6C274-BD24-40B0-8E0E-9C1CCDD5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7B3533-AF04-4AEB-A4D2-8998C1B8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F04-6E14-4801-8FF5-49A1FE4E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B62-731D-41CA-9571-FAF54888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DD2-8556-4FDE-B051-DC0D0711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84D-CAF2-49A7-A81E-78AAE067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0A7-265F-4B03-9A29-B5A5B71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EC9-BFA5-47A4-9788-86E3576E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492-59C8-4F08-8E1C-D02A4FA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167-CDD2-41D6-8430-6706FE6C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9AE-1ACD-41EA-B0E9-85A40B1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0B8-6837-411F-AC85-5002AC4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309-0E05-4D2C-86FA-8CA2246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256-C2E5-44E0-A95C-42D0934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06E-7179-4591-95BA-22D96304F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8533-3576-4C57-BDB0-85B3DE838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4095360"/>
            <a:ext cx="723924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5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CBD8-E701-4B3E-BF66-1599825A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328-2D20-4324-A7A9-B645470F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93F-1894-4EDD-BA89-B5AE347F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: Quer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587-A251-4CD0-A00C-C8CC17F5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7E68-21E6-428C-B358-04E311C3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097-55E5-4E9B-8608-2F684B96D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you know how to convert from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expressions are equal ? What if we have keys/foreign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be able to discuss alternative choices of query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926-8381-49E5-AA38-9D1DA1D5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38C-C92C-4CCF-9315-15D2C3D16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30F-F998-4E4D-A326-3562D716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Thursday, June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: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0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(textbook, course sl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94D-4D2D-45B9-B3FF-C69115F4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F52-10EF-42C9-9D82-F3BD1466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B4E7-614D-4151-AB4A-1A0BD38D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6AD3-26FB-473B-BEA7-479E87FA9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943-1BC3-4388-ACC8-C9E39DDC4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709-139A-4CB1-A352-16228440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: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/Xpath: expressions an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5DD-66C5-4A75-B54F-8CBFE604C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: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Hal Perkins</cp:lastModifiedBy>
  <dcterms:modified xsi:type="dcterms:W3CDTF">2008-06-06T02:01:59Z</dcterms:modified>
  <cp:revision>388</cp:revision>
  <dc:subject/>
  <dc:title>Lecture 09:</dc:title>
</cp:coreProperties>
</file>