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76647-EA4B-4BA3-B058-62B75307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430B4C-C1EC-48EB-874E-A4C00B96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5FB2C1-0042-4A6B-B4EC-9FE82FBDC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B610B0-E77F-47FF-B9A7-04CB0137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E6E4E3-3E9F-4243-B729-ED5ACD784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4C1A45-48D4-4F47-ACDC-CC7795036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763873-B671-49CC-B9FE-4AB3C643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6A6159-3E39-45E7-BBB3-7DEADBAB7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B9FC5D-1A1B-458D-9DD8-21753586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A18051-4845-48E6-A44E-DC011E4A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335B97-7204-421B-8D6E-C948C7B2C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BBBCE0-3005-40D1-9CB4-AEE6ABD30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DD592BC-22D3-4423-9BD8-1372BB70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AFE7C5-337B-4A60-B55E-17D5B28F2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5BA95BD-74AB-48C0-ABC2-135F95E1E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844B69B-35E0-4F65-B56F-8AD8448D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51F3A7-2C6F-4FAB-9B03-3187CF946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000577-024F-4483-BF02-ED927B3AE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65BEAD-A370-455A-8492-0EFFF52D2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2DD112-9927-4E2B-B6AE-B7B155F09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DC7626-2588-4606-857F-AE72B488B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8007BAD-3857-4C7E-800A-A00E783F4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49127F-55F7-4533-B2E5-3CDC6A133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5181D4-43A5-4B34-8C02-7817DF5D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1BA441-25CF-4C67-A2D4-15171B8F7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5D6FBC-9A32-4B3F-BE79-07B9F506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4F0A71-7E31-46E2-8762-4924E5DF5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A19A90-B7B9-49A8-A89D-D9A43E8B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DAD2102-1D27-42D0-B9B2-CC4DBFF5A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C5995D-2789-4295-9F71-F4A698E0F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C83652-D50B-4794-A4E1-455C1061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2981160" y="554040"/>
            <a:ext cx="3643560" cy="27338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DEB8DEA-B1C0-4203-861C-AA2056D79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6673D1-C488-4127-908A-FA62D6FC4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981160" y="554040"/>
            <a:ext cx="3643560" cy="2733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9F54BFC-BDE6-4B9B-993D-2B5C315D3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2981160" y="554040"/>
            <a:ext cx="3643560" cy="2733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9D10B0-E234-4311-BB96-0CDD50549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AF00E3-0012-4C6E-BAB7-4F0F8ABCB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344BF7C-005B-485D-87FA-618F964A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E9D661-D5DC-4AAD-835C-44ECDC9E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4DC83E-2C3D-423E-8DB4-095E39E4A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981160" y="554040"/>
            <a:ext cx="3643560" cy="2733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54F74C-E856-4FE4-8657-DDC73039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6CA28D-70E1-48D3-A020-8E4D003CF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DFD1BA-9311-4E39-BAFB-FA61271D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6EC8A7-B8E8-465C-9527-197DCBC5B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7C4FEC-193B-4600-A7A3-7F6ED7CDD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BE65FB-A046-4159-8D04-0185599B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020-73CC-4E47-88FA-9C2C8C08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610-FFAC-4EF0-B4EE-2D09CA07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404-B9A0-4E3C-AEF8-5281E259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B01-75AE-4D17-82CC-4204B34C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3E8-E7AB-4A7D-8F5A-4CEFBEAA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A97-E00B-4656-818A-57D0F173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0DE-0B70-49E2-9ABA-E4450B25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EE7-90D7-433F-A40E-410D6440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170-3136-4512-AD21-5582F3E4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682-ED0D-4BFD-AB40-FEE6DD7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F64-2DD9-48EF-9E9C-8DCE685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7F1-36A6-4CF5-A93E-34F4D97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C450-DEFC-42C7-8D35-976010BDC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79C-1EA2-4A9C-9B52-443314FE4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3-28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853F-BD66-4369-B8AA-A95A6BAAE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and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DAD-8353-4669-8880-6909E516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ata structure used in man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be used for indexes, as alternative to B+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sh function h(k) maps a key k to {0, 1, …, n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in bucket h(k) a pointer to record with key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FA1-4C6A-4765-803F-2E375DEB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416-8162-4ED4-9C37-9E94DA9B7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25A3-8D81-4C7F-899F-3096ED3F5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26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F22F-A964-4F34-A299-921645549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6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Line 41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004C-EDB9-4D0C-AEBE-B9C9526EB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3604-EB53-4BC4-999A-5AD511656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1"/>
          <p:cNvSpPr/>
          <p:nvPr/>
        </p:nvSpPr>
        <p:spPr>
          <a:xfrm rot="16200000">
            <a:off x="3067920" y="207252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B72C-04AC-45DB-8660-C8CB7A4D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3EAC-4D50-485F-A309-7499942A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369-DDBB-4B74-9BB4-E4210BF1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4FF5-F789-4869-B109-EDC389484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2000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A26C-BA2D-4114-A8C5-AEF0FBAE1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BAF-0E61-4A73-AE82-51F435915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87440" y="2743200"/>
            <a:ext cx="796104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r and s join”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F39D-C0AD-4211-BFD1-490A42022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457280" y="2979720"/>
            <a:ext cx="844560" cy="2026800"/>
            <a:chOff x="1457280" y="2979720"/>
            <a:chExt cx="844560" cy="2026800"/>
          </a:xfrm>
        </p:grpSpPr>
        <p:sp>
          <p:nvSpPr>
            <p:cNvPr id="166" name="Oval 5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1457280" y="4883040"/>
              <a:ext cx="838440" cy="123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9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166400" y="39355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757320" y="32479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1378440" y="2625840"/>
            <a:ext cx="94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266904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3216240" y="3811680"/>
            <a:ext cx="306360" cy="534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6119280" y="2979720"/>
            <a:ext cx="1404360" cy="2026800"/>
            <a:chOff x="6119280" y="2979720"/>
            <a:chExt cx="1404360" cy="2026800"/>
          </a:xfrm>
        </p:grpSpPr>
        <p:grpSp>
          <p:nvGrpSpPr>
            <p:cNvPr id="191" name="Group 30"/>
            <p:cNvGrpSpPr/>
            <p:nvPr/>
          </p:nvGrpSpPr>
          <p:grpSpPr>
            <a:xfrm>
              <a:off x="6334200" y="2979720"/>
              <a:ext cx="844560" cy="2026800"/>
              <a:chOff x="6334200" y="2979720"/>
              <a:chExt cx="844560" cy="2026800"/>
            </a:xfrm>
          </p:grpSpPr>
          <p:sp>
            <p:nvSpPr>
              <p:cNvPr id="192" name="Oval 31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2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3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rc 34"/>
              <p:cNvSpPr/>
              <p:nvPr/>
            </p:nvSpPr>
            <p:spPr>
              <a:xfrm>
                <a:off x="6334200" y="4883040"/>
                <a:ext cx="838080" cy="123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Rectangle 35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8"/>
            <p:cNvSpPr/>
            <p:nvPr/>
          </p:nvSpPr>
          <p:spPr>
            <a:xfrm>
              <a:off x="6119280" y="39337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39"/>
          <p:cNvSpPr/>
          <p:nvPr/>
        </p:nvSpPr>
        <p:spPr>
          <a:xfrm>
            <a:off x="5788440" y="2624040"/>
            <a:ext cx="186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90C-8B72-4FB0-968F-0287C44AB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1"/>
          <p:cNvSpPr/>
          <p:nvPr/>
        </p:nvSpPr>
        <p:spPr>
          <a:xfrm rot="16200000">
            <a:off x="1543680" y="56952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8DD9-4916-4819-8DC1-E2D91803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46120" y="2055960"/>
                <a:ext cx="5796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⊳</m:t>
                    </m:r>
                    <m:r>
                      <m:t xml:space="preserve">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5"/>
          <p:cNvSpPr/>
          <p:nvPr/>
        </p:nvSpPr>
        <p:spPr>
          <a:xfrm>
            <a:off x="717120" y="3124080"/>
            <a:ext cx="7857360" cy="16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 the tuple(s) s in S using the inde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E7FF-19D6-4845-B55D-BB2D18FE2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(Assuming R is cluster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0E7C-F84F-4513-B11D-AAA0917A4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that this is like a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443-2F2B-4FEC-8074-C06BFA742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749680" y="158904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4884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08F8-1546-4DBB-85D1-C31039AC0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Very Large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-sor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D62F-D6D2-43E7-8569-88E4937B0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17664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32532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8"/>
          <p:cNvCxnSpPr>
            <a:stCxn id="56" idx="2"/>
            <a:endCxn id="57" idx="0"/>
          </p:cNvCxnSpPr>
          <p:nvPr/>
        </p:nvCxnSpPr>
        <p:spPr>
          <a:xfrm>
            <a:off x="4478400" y="2717280"/>
            <a:ext cx="216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9"/>
          <p:cNvCxnSpPr>
            <a:stCxn id="57" idx="2"/>
            <a:endCxn id="58" idx="0"/>
          </p:cNvCxnSpPr>
          <p:nvPr/>
        </p:nvCxnSpPr>
        <p:spPr>
          <a:xfrm>
            <a:off x="4479480" y="357516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0"/>
          <p:cNvCxnSpPr>
            <a:stCxn id="58" idx="2"/>
            <a:endCxn id="59" idx="0"/>
          </p:cNvCxnSpPr>
          <p:nvPr/>
        </p:nvCxnSpPr>
        <p:spPr>
          <a:xfrm flipH="1">
            <a:off x="4478040" y="443232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11"/>
          <p:cNvCxnSpPr>
            <a:stCxn id="59" idx="2"/>
            <a:endCxn id="60" idx="1"/>
          </p:cNvCxnSpPr>
          <p:nvPr/>
        </p:nvCxnSpPr>
        <p:spPr>
          <a:xfrm>
            <a:off x="4478400" y="528948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Text Box 12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13"/>
          <p:cNvCxnSpPr>
            <a:stCxn id="65" idx="2"/>
            <a:endCxn id="56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AutoShape 14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97452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7127640" y="2725200"/>
            <a:ext cx="1582200" cy="1172520"/>
          </a:xfrm>
          <a:prstGeom prst="wedgeEllipseCallout">
            <a:avLst>
              <a:gd name="adj1" fmla="val -157912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7057800" y="4096800"/>
            <a:ext cx="1726560" cy="1172520"/>
          </a:xfrm>
          <a:prstGeom prst="wedgeEllipseCallout">
            <a:avLst>
              <a:gd name="adj1" fmla="val -157064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E8D-7885-445A-86F7-067DA2541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1589040" y="2895480"/>
            <a:ext cx="5639040" cy="2820960"/>
            <a:chOff x="1589040" y="2895480"/>
            <a:chExt cx="5639040" cy="2820960"/>
          </a:xfrm>
        </p:grpSpPr>
        <p:sp>
          <p:nvSpPr>
            <p:cNvPr id="228" name="Rectangle 5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6096240" y="4664880"/>
              <a:ext cx="40680" cy="59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6244200" y="4664880"/>
              <a:ext cx="40680" cy="59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2761200" y="3159720"/>
              <a:ext cx="2541960" cy="215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3096360" y="4402800"/>
              <a:ext cx="31860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14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38" name="Freeform 15"/>
              <p:cNvSpPr/>
              <p:nvPr/>
            </p:nvSpPr>
            <p:spPr>
              <a:xfrm>
                <a:off x="4764240" y="4583880"/>
                <a:ext cx="40680" cy="59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6"/>
              <p:cNvSpPr/>
              <p:nvPr/>
            </p:nvSpPr>
            <p:spPr>
              <a:xfrm>
                <a:off x="4901400" y="4583880"/>
                <a:ext cx="40680" cy="59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7"/>
              <p:cNvSpPr/>
              <p:nvPr/>
            </p:nvSpPr>
            <p:spPr>
              <a:xfrm>
                <a:off x="5049000" y="4583880"/>
                <a:ext cx="33120" cy="85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Freeform 18"/>
            <p:cNvSpPr/>
            <p:nvPr/>
          </p:nvSpPr>
          <p:spPr>
            <a:xfrm>
              <a:off x="5723280" y="3768840"/>
              <a:ext cx="238680" cy="2541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9"/>
            <p:cNvSpPr/>
            <p:nvPr/>
          </p:nvSpPr>
          <p:spPr>
            <a:xfrm>
              <a:off x="5999760" y="3768840"/>
              <a:ext cx="236880" cy="2541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0"/>
            <p:cNvSpPr/>
            <p:nvPr/>
          </p:nvSpPr>
          <p:spPr>
            <a:xfrm>
              <a:off x="5723280" y="4208760"/>
              <a:ext cx="23868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1"/>
            <p:cNvSpPr/>
            <p:nvPr/>
          </p:nvSpPr>
          <p:spPr>
            <a:xfrm>
              <a:off x="6008400" y="4208760"/>
              <a:ext cx="23724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22"/>
            <p:cNvSpPr/>
            <p:nvPr/>
          </p:nvSpPr>
          <p:spPr>
            <a:xfrm>
              <a:off x="5960160" y="4664880"/>
              <a:ext cx="40680" cy="59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23"/>
            <p:cNvSpPr/>
            <p:nvPr/>
          </p:nvSpPr>
          <p:spPr>
            <a:xfrm>
              <a:off x="6294240" y="4208760"/>
              <a:ext cx="236880" cy="2538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4"/>
            <p:cNvSpPr/>
            <p:nvPr/>
          </p:nvSpPr>
          <p:spPr>
            <a:xfrm>
              <a:off x="475092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25"/>
            <p:cNvSpPr/>
            <p:nvPr/>
          </p:nvSpPr>
          <p:spPr>
            <a:xfrm>
              <a:off x="5723280" y="4995000"/>
              <a:ext cx="238680" cy="2541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26"/>
            <p:cNvSpPr/>
            <p:nvPr/>
          </p:nvSpPr>
          <p:spPr>
            <a:xfrm>
              <a:off x="4718520" y="4954680"/>
              <a:ext cx="401760" cy="2703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"/>
            <p:cNvSpPr/>
            <p:nvPr/>
          </p:nvSpPr>
          <p:spPr>
            <a:xfrm>
              <a:off x="287352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8"/>
            <p:cNvSpPr/>
            <p:nvPr/>
          </p:nvSpPr>
          <p:spPr>
            <a:xfrm>
              <a:off x="4750920" y="3430440"/>
              <a:ext cx="275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9"/>
            <p:cNvSpPr/>
            <p:nvPr/>
          </p:nvSpPr>
          <p:spPr>
            <a:xfrm>
              <a:off x="340092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0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31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32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4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Group 35"/>
            <p:cNvGrpSpPr/>
            <p:nvPr/>
          </p:nvGrpSpPr>
          <p:grpSpPr>
            <a:xfrm>
              <a:off x="1812600" y="3524760"/>
              <a:ext cx="875880" cy="1839240"/>
              <a:chOff x="1812600" y="3524760"/>
              <a:chExt cx="875880" cy="1839240"/>
            </a:xfrm>
          </p:grpSpPr>
          <p:sp>
            <p:nvSpPr>
              <p:cNvPr id="259" name="Oval 36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7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8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Arc 39"/>
              <p:cNvSpPr/>
              <p:nvPr/>
            </p:nvSpPr>
            <p:spPr>
              <a:xfrm>
                <a:off x="1812600" y="5250600"/>
                <a:ext cx="868320" cy="113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0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41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42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3"/>
            <p:cNvSpPr/>
            <p:nvPr/>
          </p:nvSpPr>
          <p:spPr>
            <a:xfrm>
              <a:off x="1589040" y="435348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4"/>
            <p:cNvGrpSpPr/>
            <p:nvPr/>
          </p:nvGrpSpPr>
          <p:grpSpPr>
            <a:xfrm>
              <a:off x="5654880" y="3524760"/>
              <a:ext cx="1020960" cy="1860120"/>
              <a:chOff x="5654880" y="3524760"/>
              <a:chExt cx="1020960" cy="1860120"/>
            </a:xfrm>
          </p:grpSpPr>
          <p:sp>
            <p:nvSpPr>
              <p:cNvPr id="268" name="Oval 45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46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47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48"/>
              <p:cNvSpPr/>
              <p:nvPr/>
            </p:nvSpPr>
            <p:spPr>
              <a:xfrm>
                <a:off x="5654880" y="5271480"/>
                <a:ext cx="1013400" cy="113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Line 49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52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3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54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55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4718520" y="4165200"/>
              <a:ext cx="401760" cy="2703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4718520" y="3662640"/>
              <a:ext cx="401760" cy="27036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58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9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0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1"/>
          <p:cNvSpPr/>
          <p:nvPr/>
        </p:nvSpPr>
        <p:spPr>
          <a:xfrm>
            <a:off x="-130320" y="5867280"/>
            <a:ext cx="612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C98D-31F9-4745-A638-9B82A5ED7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C634-DE28-4AA2-B243-E81BBEFD0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EF1F-8116-4F09-A946-1FDE8095A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61"/>
          <p:cNvSpPr/>
          <p:nvPr/>
        </p:nvSpPr>
        <p:spPr>
          <a:xfrm rot="16200000">
            <a:off x="1158120" y="19962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4F7E-A6A2-48B3-8C5C-24645F09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303" name="Rectangle 9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0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1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2"/>
            <p:cNvSpPr/>
            <p:nvPr/>
          </p:nvSpPr>
          <p:spPr>
            <a:xfrm>
              <a:off x="5576760" y="5419800"/>
              <a:ext cx="230400" cy="2476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3"/>
            <p:cNvSpPr/>
            <p:nvPr/>
          </p:nvSpPr>
          <p:spPr>
            <a:xfrm>
              <a:off x="3749760" y="5505480"/>
              <a:ext cx="39600" cy="5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4"/>
            <p:cNvSpPr/>
            <p:nvPr/>
          </p:nvSpPr>
          <p:spPr>
            <a:xfrm>
              <a:off x="3881520" y="5505480"/>
              <a:ext cx="39600" cy="5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5"/>
            <p:cNvSpPr/>
            <p:nvPr/>
          </p:nvSpPr>
          <p:spPr>
            <a:xfrm>
              <a:off x="4024440" y="5505480"/>
              <a:ext cx="39600" cy="5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6"/>
            <p:cNvSpPr/>
            <p:nvPr/>
          </p:nvSpPr>
          <p:spPr>
            <a:xfrm>
              <a:off x="3521160" y="4702320"/>
              <a:ext cx="230040" cy="2476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7"/>
            <p:cNvSpPr/>
            <p:nvPr/>
          </p:nvSpPr>
          <p:spPr>
            <a:xfrm>
              <a:off x="3787920" y="4702320"/>
              <a:ext cx="228600" cy="2476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3521160" y="5062680"/>
              <a:ext cx="230040" cy="2458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9"/>
            <p:cNvSpPr/>
            <p:nvPr/>
          </p:nvSpPr>
          <p:spPr>
            <a:xfrm>
              <a:off x="3797280" y="5062680"/>
              <a:ext cx="228600" cy="2458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20"/>
            <p:cNvSpPr/>
            <p:nvPr/>
          </p:nvSpPr>
          <p:spPr>
            <a:xfrm>
              <a:off x="3843360" y="5824440"/>
              <a:ext cx="228600" cy="24624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3521160" y="5826240"/>
              <a:ext cx="23004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5464080" y="4692600"/>
              <a:ext cx="22860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5784840" y="4702320"/>
              <a:ext cx="23004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6837480" y="4702320"/>
              <a:ext cx="228600" cy="2476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6288120" y="4807080"/>
              <a:ext cx="39600" cy="568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6421320" y="4807080"/>
              <a:ext cx="38160" cy="568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7"/>
            <p:cNvSpPr/>
            <p:nvPr/>
          </p:nvSpPr>
          <p:spPr>
            <a:xfrm>
              <a:off x="6562800" y="4807080"/>
              <a:ext cx="39600" cy="56880"/>
            </a:xfrm>
            <a:prstGeom prst="pie">
              <a:avLst/>
            </a:pr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8"/>
            <p:cNvSpPr/>
            <p:nvPr/>
          </p:nvSpPr>
          <p:spPr>
            <a:xfrm>
              <a:off x="5410080" y="4648320"/>
              <a:ext cx="1749600" cy="366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9"/>
            <p:cNvSpPr/>
            <p:nvPr/>
          </p:nvSpPr>
          <p:spPr>
            <a:xfrm>
              <a:off x="6770520" y="5419800"/>
              <a:ext cx="230400" cy="247680"/>
            </a:xfrm>
            <a:prstGeom prst="pie">
              <a:avLst/>
            </a:pr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30"/>
            <p:cNvSpPr/>
            <p:nvPr/>
          </p:nvSpPr>
          <p:spPr>
            <a:xfrm>
              <a:off x="5122800" y="3962520"/>
              <a:ext cx="2422440" cy="2211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31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326" name="Freeform 32"/>
              <p:cNvSpPr/>
              <p:nvPr/>
            </p:nvSpPr>
            <p:spPr>
              <a:xfrm>
                <a:off x="8088480" y="5391000"/>
                <a:ext cx="39600" cy="590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33"/>
              <p:cNvSpPr/>
              <p:nvPr/>
            </p:nvSpPr>
            <p:spPr>
              <a:xfrm>
                <a:off x="8220240" y="5391000"/>
                <a:ext cx="39600" cy="590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34"/>
              <p:cNvSpPr/>
              <p:nvPr/>
            </p:nvSpPr>
            <p:spPr>
              <a:xfrm>
                <a:off x="8362800" y="5391000"/>
                <a:ext cx="38160" cy="590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35"/>
              <p:cNvSpPr/>
              <p:nvPr/>
            </p:nvSpPr>
            <p:spPr>
              <a:xfrm>
                <a:off x="8145360" y="4552920"/>
                <a:ext cx="228600" cy="24624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36"/>
              <p:cNvSpPr/>
              <p:nvPr/>
            </p:nvSpPr>
            <p:spPr>
              <a:xfrm>
                <a:off x="8145360" y="4910040"/>
                <a:ext cx="228600" cy="24768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37"/>
              <p:cNvSpPr/>
              <p:nvPr/>
            </p:nvSpPr>
            <p:spPr>
              <a:xfrm>
                <a:off x="8145360" y="5675400"/>
                <a:ext cx="228600" cy="245880"/>
              </a:xfrm>
              <a:prstGeom prst="pie">
                <a:avLst/>
              </a:pr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Rectangle 38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39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40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41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42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4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46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Group 47"/>
            <p:cNvGrpSpPr/>
            <p:nvPr/>
          </p:nvGrpSpPr>
          <p:grpSpPr>
            <a:xfrm>
              <a:off x="3422520" y="4197240"/>
              <a:ext cx="1073160" cy="2027520"/>
              <a:chOff x="3422520" y="4197240"/>
              <a:chExt cx="1073160" cy="2027520"/>
            </a:xfrm>
          </p:grpSpPr>
          <p:sp>
            <p:nvSpPr>
              <p:cNvPr id="342" name="Oval 48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9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50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Arc 51"/>
              <p:cNvSpPr/>
              <p:nvPr/>
            </p:nvSpPr>
            <p:spPr>
              <a:xfrm>
                <a:off x="3422520" y="6100920"/>
                <a:ext cx="1065240" cy="123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7842240" y="4273560"/>
              <a:ext cx="844560" cy="1876320"/>
              <a:chOff x="7842240" y="4273560"/>
              <a:chExt cx="844560" cy="187632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54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55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Arc 56"/>
              <p:cNvSpPr/>
              <p:nvPr/>
            </p:nvSpPr>
            <p:spPr>
              <a:xfrm>
                <a:off x="7842240" y="6033960"/>
                <a:ext cx="838080" cy="115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Line 57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9"/>
            <p:cNvSpPr/>
            <p:nvPr/>
          </p:nvSpPr>
          <p:spPr>
            <a:xfrm>
              <a:off x="5715000" y="5029200"/>
              <a:ext cx="306360" cy="458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61"/>
          <p:cNvGrpSpPr/>
          <p:nvPr/>
        </p:nvGrpSpPr>
        <p:grpSpPr>
          <a:xfrm>
            <a:off x="3282480" y="328680"/>
            <a:ext cx="5878080" cy="2971800"/>
            <a:chOff x="3282480" y="328680"/>
            <a:chExt cx="5878080" cy="2971800"/>
          </a:xfrm>
        </p:grpSpPr>
        <p:sp>
          <p:nvSpPr>
            <p:cNvPr id="356" name="Rectangle 62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63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64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65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6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67"/>
            <p:cNvSpPr/>
            <p:nvPr/>
          </p:nvSpPr>
          <p:spPr>
            <a:xfrm>
              <a:off x="8001000" y="2206800"/>
              <a:ext cx="42840" cy="6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68"/>
            <p:cNvSpPr/>
            <p:nvPr/>
          </p:nvSpPr>
          <p:spPr>
            <a:xfrm>
              <a:off x="8156520" y="2206800"/>
              <a:ext cx="42840" cy="6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69"/>
            <p:cNvSpPr/>
            <p:nvPr/>
          </p:nvSpPr>
          <p:spPr>
            <a:xfrm>
              <a:off x="4495680" y="609480"/>
              <a:ext cx="2671920" cy="2289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70"/>
            <p:cNvSpPr/>
            <p:nvPr/>
          </p:nvSpPr>
          <p:spPr>
            <a:xfrm>
              <a:off x="4848120" y="1928880"/>
              <a:ext cx="33516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71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366" name="Freeform 72"/>
              <p:cNvSpPr/>
              <p:nvPr/>
            </p:nvSpPr>
            <p:spPr>
              <a:xfrm>
                <a:off x="6600960" y="2120760"/>
                <a:ext cx="42840" cy="63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73"/>
              <p:cNvSpPr/>
              <p:nvPr/>
            </p:nvSpPr>
            <p:spPr>
              <a:xfrm>
                <a:off x="6745320" y="2120760"/>
                <a:ext cx="42840" cy="63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74"/>
              <p:cNvSpPr/>
              <p:nvPr/>
            </p:nvSpPr>
            <p:spPr>
              <a:xfrm>
                <a:off x="6900840" y="2120760"/>
                <a:ext cx="34920" cy="90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Freeform 75"/>
            <p:cNvSpPr/>
            <p:nvPr/>
          </p:nvSpPr>
          <p:spPr>
            <a:xfrm>
              <a:off x="7608960" y="1255680"/>
              <a:ext cx="250920" cy="2700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76"/>
            <p:cNvSpPr/>
            <p:nvPr/>
          </p:nvSpPr>
          <p:spPr>
            <a:xfrm>
              <a:off x="7899480" y="1255680"/>
              <a:ext cx="249120" cy="2700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77"/>
            <p:cNvSpPr/>
            <p:nvPr/>
          </p:nvSpPr>
          <p:spPr>
            <a:xfrm>
              <a:off x="7608960" y="1722600"/>
              <a:ext cx="25092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78"/>
            <p:cNvSpPr/>
            <p:nvPr/>
          </p:nvSpPr>
          <p:spPr>
            <a:xfrm>
              <a:off x="7908840" y="1722600"/>
              <a:ext cx="24948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79"/>
            <p:cNvSpPr/>
            <p:nvPr/>
          </p:nvSpPr>
          <p:spPr>
            <a:xfrm>
              <a:off x="7858080" y="2206800"/>
              <a:ext cx="42840" cy="63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80"/>
            <p:cNvSpPr/>
            <p:nvPr/>
          </p:nvSpPr>
          <p:spPr>
            <a:xfrm>
              <a:off x="8209080" y="1722600"/>
              <a:ext cx="249120" cy="26964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81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82"/>
            <p:cNvSpPr/>
            <p:nvPr/>
          </p:nvSpPr>
          <p:spPr>
            <a:xfrm>
              <a:off x="7608960" y="2557440"/>
              <a:ext cx="250920" cy="27000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83"/>
            <p:cNvSpPr/>
            <p:nvPr/>
          </p:nvSpPr>
          <p:spPr>
            <a:xfrm>
              <a:off x="6553080" y="2514600"/>
              <a:ext cx="422280" cy="2872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84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85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86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87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88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89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90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91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92"/>
            <p:cNvGrpSpPr/>
            <p:nvPr/>
          </p:nvGrpSpPr>
          <p:grpSpPr>
            <a:xfrm>
              <a:off x="3498840" y="996840"/>
              <a:ext cx="920880" cy="1952640"/>
              <a:chOff x="3498840" y="996840"/>
              <a:chExt cx="920880" cy="1952640"/>
            </a:xfrm>
          </p:grpSpPr>
          <p:sp>
            <p:nvSpPr>
              <p:cNvPr id="387" name="Oval 93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94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95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Arc 96"/>
              <p:cNvSpPr/>
              <p:nvPr/>
            </p:nvSpPr>
            <p:spPr>
              <a:xfrm>
                <a:off x="3498840" y="2828880"/>
                <a:ext cx="912960" cy="120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97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98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9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0"/>
            <p:cNvSpPr/>
            <p:nvPr/>
          </p:nvSpPr>
          <p:spPr>
            <a:xfrm>
              <a:off x="3282480" y="1876320"/>
              <a:ext cx="14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Group 101"/>
            <p:cNvGrpSpPr/>
            <p:nvPr/>
          </p:nvGrpSpPr>
          <p:grpSpPr>
            <a:xfrm>
              <a:off x="7537320" y="996840"/>
              <a:ext cx="1073160" cy="1974960"/>
              <a:chOff x="7537320" y="996840"/>
              <a:chExt cx="1073160" cy="1974960"/>
            </a:xfrm>
          </p:grpSpPr>
          <p:sp>
            <p:nvSpPr>
              <p:cNvPr id="396" name="Oval 102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103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104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Arc 105"/>
              <p:cNvSpPr/>
              <p:nvPr/>
            </p:nvSpPr>
            <p:spPr>
              <a:xfrm>
                <a:off x="7537320" y="2851200"/>
                <a:ext cx="1065240" cy="120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Line 106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07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08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09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10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11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12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13"/>
            <p:cNvSpPr/>
            <p:nvPr/>
          </p:nvSpPr>
          <p:spPr>
            <a:xfrm>
              <a:off x="6553080" y="1676520"/>
              <a:ext cx="422280" cy="2872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14"/>
            <p:cNvSpPr/>
            <p:nvPr/>
          </p:nvSpPr>
          <p:spPr>
            <a:xfrm>
              <a:off x="6553080" y="1143000"/>
              <a:ext cx="422280" cy="287280"/>
            </a:xfrm>
            <a:prstGeom prst="pie">
              <a:avLst/>
            </a:pr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115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26AB-7377-444D-8CDD-344F9CD9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672D-4DA5-4EDD-8A5F-8B094153E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a file of size B with memory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BY in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hysic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discuss only 2-pass sorting, for when B &lt;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F09D-B237-48A2-96AC-892F78F1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609480" y="518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04812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6"/>
          <p:cNvSpPr/>
          <p:nvPr/>
        </p:nvSpPr>
        <p:spPr>
          <a:xfrm>
            <a:off x="6761160" y="3030480"/>
            <a:ext cx="1393920" cy="2541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7"/>
          <p:cNvSpPr/>
          <p:nvPr/>
        </p:nvSpPr>
        <p:spPr>
          <a:xfrm>
            <a:off x="1122480" y="341964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8"/>
          <p:cNvSpPr/>
          <p:nvPr/>
        </p:nvSpPr>
        <p:spPr>
          <a:xfrm>
            <a:off x="1122480" y="4419720"/>
            <a:ext cx="1128600" cy="16668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9"/>
          <p:cNvSpPr/>
          <p:nvPr/>
        </p:nvSpPr>
        <p:spPr>
          <a:xfrm>
            <a:off x="976320" y="3065400"/>
            <a:ext cx="1387440" cy="2653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6877080" y="3505320"/>
            <a:ext cx="1119240" cy="1569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12"/>
          <p:cNvSpPr/>
          <p:nvPr/>
        </p:nvSpPr>
        <p:spPr>
          <a:xfrm>
            <a:off x="6891480" y="378612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2711520" y="2819520"/>
            <a:ext cx="3625920" cy="2492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4"/>
          <p:cNvSpPr/>
          <p:nvPr/>
        </p:nvSpPr>
        <p:spPr>
          <a:xfrm>
            <a:off x="7157880" y="48625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1295280" y="48960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6"/>
          <p:cNvSpPr/>
          <p:nvPr/>
        </p:nvSpPr>
        <p:spPr>
          <a:xfrm>
            <a:off x="99216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2359080" y="31878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18"/>
          <p:cNvGrpSpPr/>
          <p:nvPr/>
        </p:nvGrpSpPr>
        <p:grpSpPr>
          <a:xfrm>
            <a:off x="993600" y="4665600"/>
            <a:ext cx="1365480" cy="185400"/>
            <a:chOff x="993600" y="4665600"/>
            <a:chExt cx="1365480" cy="185400"/>
          </a:xfrm>
        </p:grpSpPr>
        <p:sp>
          <p:nvSpPr>
            <p:cNvPr id="435" name="Arc 19"/>
            <p:cNvSpPr/>
            <p:nvPr/>
          </p:nvSpPr>
          <p:spPr>
            <a:xfrm>
              <a:off x="993600" y="46656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Arc 20"/>
            <p:cNvSpPr/>
            <p:nvPr/>
          </p:nvSpPr>
          <p:spPr>
            <a:xfrm>
              <a:off x="1635120" y="46656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0240" y="4589640"/>
            <a:ext cx="1371600" cy="176040"/>
            <a:chOff x="6780240" y="4589640"/>
            <a:chExt cx="1371600" cy="176040"/>
          </a:xfrm>
        </p:grpSpPr>
        <p:sp>
          <p:nvSpPr>
            <p:cNvPr id="438" name="Arc 22"/>
            <p:cNvSpPr/>
            <p:nvPr/>
          </p:nvSpPr>
          <p:spPr>
            <a:xfrm>
              <a:off x="6780240" y="4589640"/>
              <a:ext cx="72684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rc 23"/>
            <p:cNvSpPr/>
            <p:nvPr/>
          </p:nvSpPr>
          <p:spPr>
            <a:xfrm>
              <a:off x="7424640" y="4589640"/>
              <a:ext cx="72720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Line 24"/>
          <p:cNvSpPr/>
          <p:nvPr/>
        </p:nvSpPr>
        <p:spPr>
          <a:xfrm>
            <a:off x="678492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25"/>
          <p:cNvSpPr/>
          <p:nvPr/>
        </p:nvSpPr>
        <p:spPr>
          <a:xfrm>
            <a:off x="8151840" y="31878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6"/>
          <p:cNvSpPr/>
          <p:nvPr/>
        </p:nvSpPr>
        <p:spPr>
          <a:xfrm>
            <a:off x="2198520" y="34639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7"/>
          <p:cNvSpPr/>
          <p:nvPr/>
        </p:nvSpPr>
        <p:spPr>
          <a:xfrm flipV="1">
            <a:off x="5867280" y="40176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28"/>
          <p:cNvSpPr/>
          <p:nvPr/>
        </p:nvSpPr>
        <p:spPr>
          <a:xfrm>
            <a:off x="1122480" y="369720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7010280" y="36036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0"/>
          <p:cNvSpPr/>
          <p:nvPr/>
        </p:nvSpPr>
        <p:spPr>
          <a:xfrm>
            <a:off x="6891480" y="434016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775800" y="36050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3276720" y="29718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3"/>
          <p:cNvSpPr/>
          <p:nvPr/>
        </p:nvSpPr>
        <p:spPr>
          <a:xfrm>
            <a:off x="2895480" y="49528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34"/>
          <p:cNvSpPr/>
          <p:nvPr/>
        </p:nvSpPr>
        <p:spPr>
          <a:xfrm>
            <a:off x="3455280" y="5792400"/>
            <a:ext cx="4329360" cy="627480"/>
          </a:xfrm>
          <a:prstGeom prst="wedgeRoundRectCallout">
            <a:avLst>
              <a:gd name="adj1" fmla="val 27481"/>
              <a:gd name="adj2" fmla="val -15400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of length M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8BB3-5D56-4E74-B5DB-D0E4CBF1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: Step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 – 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"/>
          <p:cNvSpPr/>
          <p:nvPr/>
        </p:nvSpPr>
        <p:spPr>
          <a:xfrm>
            <a:off x="6761160" y="3487680"/>
            <a:ext cx="1393920" cy="2541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7"/>
          <p:cNvSpPr/>
          <p:nvPr/>
        </p:nvSpPr>
        <p:spPr>
          <a:xfrm>
            <a:off x="1122480" y="387684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1122480" y="4876920"/>
            <a:ext cx="1128600" cy="16668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9"/>
          <p:cNvSpPr/>
          <p:nvPr/>
        </p:nvSpPr>
        <p:spPr>
          <a:xfrm>
            <a:off x="976320" y="3522600"/>
            <a:ext cx="1387440" cy="2653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11"/>
          <p:cNvSpPr/>
          <p:nvPr/>
        </p:nvSpPr>
        <p:spPr>
          <a:xfrm>
            <a:off x="6877080" y="3962520"/>
            <a:ext cx="1119240" cy="1569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12"/>
          <p:cNvSpPr/>
          <p:nvPr/>
        </p:nvSpPr>
        <p:spPr>
          <a:xfrm>
            <a:off x="6891480" y="424332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13"/>
          <p:cNvSpPr/>
          <p:nvPr/>
        </p:nvSpPr>
        <p:spPr>
          <a:xfrm>
            <a:off x="2711520" y="3276720"/>
            <a:ext cx="3625920" cy="2492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7157880" y="531972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295280" y="535320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7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993600" y="5122800"/>
            <a:ext cx="1365480" cy="185400"/>
            <a:chOff x="993600" y="5122800"/>
            <a:chExt cx="1365480" cy="185400"/>
          </a:xfrm>
        </p:grpSpPr>
        <p:sp>
          <p:nvSpPr>
            <p:cNvPr id="468" name="Arc 19"/>
            <p:cNvSpPr/>
            <p:nvPr/>
          </p:nvSpPr>
          <p:spPr>
            <a:xfrm>
              <a:off x="993600" y="51228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Arc 20"/>
            <p:cNvSpPr/>
            <p:nvPr/>
          </p:nvSpPr>
          <p:spPr>
            <a:xfrm>
              <a:off x="1635120" y="512280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6780240" y="5046840"/>
            <a:ext cx="1371600" cy="176040"/>
            <a:chOff x="6780240" y="5046840"/>
            <a:chExt cx="1371600" cy="176040"/>
          </a:xfrm>
        </p:grpSpPr>
        <p:sp>
          <p:nvSpPr>
            <p:cNvPr id="471" name="Arc 22"/>
            <p:cNvSpPr/>
            <p:nvPr/>
          </p:nvSpPr>
          <p:spPr>
            <a:xfrm>
              <a:off x="6780240" y="5046840"/>
              <a:ext cx="72684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Arc 23"/>
            <p:cNvSpPr/>
            <p:nvPr/>
          </p:nvSpPr>
          <p:spPr>
            <a:xfrm>
              <a:off x="7424640" y="5046840"/>
              <a:ext cx="72720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5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26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27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28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29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31"/>
          <p:cNvSpPr/>
          <p:nvPr/>
        </p:nvSpPr>
        <p:spPr>
          <a:xfrm>
            <a:off x="1122480" y="4154400"/>
            <a:ext cx="109836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32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33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4"/>
          <p:cNvSpPr/>
          <p:nvPr/>
        </p:nvSpPr>
        <p:spPr>
          <a:xfrm>
            <a:off x="7010280" y="4060800"/>
            <a:ext cx="822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35"/>
          <p:cNvSpPr/>
          <p:nvPr/>
        </p:nvSpPr>
        <p:spPr>
          <a:xfrm>
            <a:off x="6891480" y="4797360"/>
            <a:ext cx="112068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6"/>
          <p:cNvSpPr/>
          <p:nvPr/>
        </p:nvSpPr>
        <p:spPr>
          <a:xfrm>
            <a:off x="775800" y="406224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7"/>
          <p:cNvSpPr/>
          <p:nvPr/>
        </p:nvSpPr>
        <p:spPr>
          <a:xfrm>
            <a:off x="3282120" y="495648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38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9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40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41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2"/>
          <p:cNvSpPr/>
          <p:nvPr/>
        </p:nvSpPr>
        <p:spPr>
          <a:xfrm>
            <a:off x="1826640" y="6018840"/>
            <a:ext cx="49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3"/>
          <p:cNvSpPr/>
          <p:nvPr/>
        </p:nvSpPr>
        <p:spPr>
          <a:xfrm>
            <a:off x="2895480" y="5410080"/>
            <a:ext cx="32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A6F5-72E7-417C-8ECA-6E79B5F3F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+write+read = 3B(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303-A2CB-443F-BE9E-0F8CD4562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lgebra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1"/>
          <p:cNvSpPr/>
          <p:nvPr/>
        </p:nvSpPr>
        <p:spPr>
          <a:xfrm rot="16200000">
            <a:off x="2000880" y="386640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0B2F-4579-4209-BBC1-6F401E41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do a two step merge sort, but change one of the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ich step needs to be changed and how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9F8-6E79-48A4-BAB8-F6F8A54E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F030-82F5-47A4-9346-186B40BD2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a: initial runs for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b: initial runs for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erge and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61"/>
          <p:cNvSpPr/>
          <p:nvPr/>
        </p:nvSpPr>
        <p:spPr>
          <a:xfrm rot="16200000">
            <a:off x="2153520" y="207252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5F98-2795-429F-86FC-D98CB7B67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685800" y="437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124080" y="4370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6"/>
          <p:cNvSpPr/>
          <p:nvPr/>
        </p:nvSpPr>
        <p:spPr>
          <a:xfrm>
            <a:off x="6837480" y="2219400"/>
            <a:ext cx="1393560" cy="25380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1198440" y="2608200"/>
            <a:ext cx="109872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8"/>
          <p:cNvSpPr/>
          <p:nvPr/>
        </p:nvSpPr>
        <p:spPr>
          <a:xfrm>
            <a:off x="1198440" y="3608280"/>
            <a:ext cx="1128960" cy="16668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9"/>
          <p:cNvSpPr/>
          <p:nvPr/>
        </p:nvSpPr>
        <p:spPr>
          <a:xfrm>
            <a:off x="1052640" y="2254320"/>
            <a:ext cx="1387440" cy="26496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3067200" y="441972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1"/>
          <p:cNvSpPr/>
          <p:nvPr/>
        </p:nvSpPr>
        <p:spPr>
          <a:xfrm>
            <a:off x="6953400" y="2693880"/>
            <a:ext cx="1118880" cy="1573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2"/>
          <p:cNvSpPr/>
          <p:nvPr/>
        </p:nvSpPr>
        <p:spPr>
          <a:xfrm>
            <a:off x="6967440" y="2975040"/>
            <a:ext cx="112104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3"/>
          <p:cNvSpPr/>
          <p:nvPr/>
        </p:nvSpPr>
        <p:spPr>
          <a:xfrm>
            <a:off x="2787480" y="2008080"/>
            <a:ext cx="3625920" cy="2792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4"/>
          <p:cNvSpPr/>
          <p:nvPr/>
        </p:nvSpPr>
        <p:spPr>
          <a:xfrm>
            <a:off x="7234200" y="405144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1371600" y="4084560"/>
            <a:ext cx="7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>
            <a:off x="106848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7"/>
          <p:cNvSpPr/>
          <p:nvPr/>
        </p:nvSpPr>
        <p:spPr>
          <a:xfrm>
            <a:off x="2435400" y="237636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18"/>
          <p:cNvGrpSpPr/>
          <p:nvPr/>
        </p:nvGrpSpPr>
        <p:grpSpPr>
          <a:xfrm>
            <a:off x="1069920" y="3854520"/>
            <a:ext cx="1365480" cy="185400"/>
            <a:chOff x="1069920" y="3854520"/>
            <a:chExt cx="1365480" cy="185400"/>
          </a:xfrm>
        </p:grpSpPr>
        <p:sp>
          <p:nvSpPr>
            <p:cNvPr id="526" name="Arc 19"/>
            <p:cNvSpPr/>
            <p:nvPr/>
          </p:nvSpPr>
          <p:spPr>
            <a:xfrm>
              <a:off x="1069920" y="385452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rc 20"/>
            <p:cNvSpPr/>
            <p:nvPr/>
          </p:nvSpPr>
          <p:spPr>
            <a:xfrm>
              <a:off x="1711440" y="3854520"/>
              <a:ext cx="723960" cy="18540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21"/>
          <p:cNvGrpSpPr/>
          <p:nvPr/>
        </p:nvGrpSpPr>
        <p:grpSpPr>
          <a:xfrm>
            <a:off x="6856560" y="3778200"/>
            <a:ext cx="1371600" cy="176040"/>
            <a:chOff x="6856560" y="3778200"/>
            <a:chExt cx="1371600" cy="176040"/>
          </a:xfrm>
        </p:grpSpPr>
        <p:sp>
          <p:nvSpPr>
            <p:cNvPr id="529" name="Arc 22"/>
            <p:cNvSpPr/>
            <p:nvPr/>
          </p:nvSpPr>
          <p:spPr>
            <a:xfrm>
              <a:off x="6856560" y="3778200"/>
              <a:ext cx="72684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rc 23"/>
            <p:cNvSpPr/>
            <p:nvPr/>
          </p:nvSpPr>
          <p:spPr>
            <a:xfrm>
              <a:off x="7500960" y="3778200"/>
              <a:ext cx="727200" cy="176040"/>
            </a:xfrm>
            <a:prstGeom prst="pie">
              <a:avLst/>
            </a:pr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Line 24"/>
          <p:cNvSpPr/>
          <p:nvPr/>
        </p:nvSpPr>
        <p:spPr>
          <a:xfrm>
            <a:off x="686124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5"/>
          <p:cNvSpPr/>
          <p:nvPr/>
        </p:nvSpPr>
        <p:spPr>
          <a:xfrm>
            <a:off x="8228160" y="237636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6"/>
          <p:cNvSpPr/>
          <p:nvPr/>
        </p:nvSpPr>
        <p:spPr>
          <a:xfrm flipV="1">
            <a:off x="2274840" y="246852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7"/>
          <p:cNvSpPr/>
          <p:nvPr/>
        </p:nvSpPr>
        <p:spPr>
          <a:xfrm>
            <a:off x="2274840" y="30225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4527720" y="2652840"/>
            <a:ext cx="64260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 flipV="1">
            <a:off x="4527720" y="3300120"/>
            <a:ext cx="642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30"/>
          <p:cNvSpPr/>
          <p:nvPr/>
        </p:nvSpPr>
        <p:spPr>
          <a:xfrm>
            <a:off x="6216480" y="3206880"/>
            <a:ext cx="64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31"/>
          <p:cNvSpPr/>
          <p:nvPr/>
        </p:nvSpPr>
        <p:spPr>
          <a:xfrm>
            <a:off x="1198440" y="2886120"/>
            <a:ext cx="1098720" cy="1825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2"/>
          <p:cNvSpPr/>
          <p:nvPr/>
        </p:nvSpPr>
        <p:spPr>
          <a:xfrm>
            <a:off x="2355840" y="366876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4527720" y="3022560"/>
            <a:ext cx="64260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4"/>
          <p:cNvSpPr/>
          <p:nvPr/>
        </p:nvSpPr>
        <p:spPr>
          <a:xfrm>
            <a:off x="7086600" y="2792520"/>
            <a:ext cx="8222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35"/>
          <p:cNvSpPr/>
          <p:nvPr/>
        </p:nvSpPr>
        <p:spPr>
          <a:xfrm>
            <a:off x="6967440" y="3529080"/>
            <a:ext cx="1121040" cy="142920"/>
          </a:xfrm>
          <a:prstGeom prst="pi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36"/>
          <p:cNvSpPr/>
          <p:nvPr/>
        </p:nvSpPr>
        <p:spPr>
          <a:xfrm>
            <a:off x="852120" y="2793960"/>
            <a:ext cx="1708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7"/>
          <p:cNvSpPr/>
          <p:nvPr/>
        </p:nvSpPr>
        <p:spPr>
          <a:xfrm>
            <a:off x="3358440" y="3803760"/>
            <a:ext cx="1172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8"/>
          <p:cNvSpPr/>
          <p:nvPr/>
        </p:nvSpPr>
        <p:spPr>
          <a:xfrm>
            <a:off x="3352680" y="21639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9"/>
          <p:cNvSpPr/>
          <p:nvPr/>
        </p:nvSpPr>
        <p:spPr>
          <a:xfrm>
            <a:off x="3352680" y="2849760"/>
            <a:ext cx="144792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0"/>
          <p:cNvSpPr/>
          <p:nvPr/>
        </p:nvSpPr>
        <p:spPr>
          <a:xfrm>
            <a:off x="3643200" y="319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1"/>
          <p:cNvSpPr/>
          <p:nvPr/>
        </p:nvSpPr>
        <p:spPr>
          <a:xfrm>
            <a:off x="5201640" y="292608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2"/>
          <p:cNvSpPr/>
          <p:nvPr/>
        </p:nvSpPr>
        <p:spPr>
          <a:xfrm>
            <a:off x="1829880" y="5236920"/>
            <a:ext cx="494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R)/M runs for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B(S)/M runs for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we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3CE-F937-490F-A6EF-58E32CA2F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1"/>
          <p:cNvSpPr/>
          <p:nvPr/>
        </p:nvSpPr>
        <p:spPr>
          <a:xfrm rot="16200000">
            <a:off x="1981800" y="207252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E7A-1EE4-4173-9BF9-4E3A844D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ternal Joi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Nested Loop: B(S) + B(R)*B(S)/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Join: B(R) + T(R)B(S)/V(S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ed Hash: 3B(R)+3B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B(R),B(S)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Join: 3B(R)+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+B(S) 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CEE6-D681-4409-821F-78B5A9A34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learn today and the following le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-memory hash based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-based nested-loop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ed hash-based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-by / Duplicate-elimi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802-1A8C-4199-A5D2-54BB1BE7E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1"/>
          <p:cNvSpPr/>
          <p:nvPr/>
        </p:nvSpPr>
        <p:spPr>
          <a:xfrm rot="16200000">
            <a:off x="4482360" y="2520000"/>
            <a:ext cx="193680" cy="385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72D5-4FE7-4AEA-9A89-D45D05597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1"/>
          <p:cNvSpPr/>
          <p:nvPr/>
        </p:nvSpPr>
        <p:spPr>
          <a:xfrm rot="16200000">
            <a:off x="3686760" y="2018520"/>
            <a:ext cx="193680" cy="3855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8DCC-1D45-4213-8EEA-6B185630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assumed to be delivered in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size of main memory buffer pool, in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C6B-D614-42A2-824C-4AB664735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&lt;&lt;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5-23T18:45:19Z</dcterms:modified>
  <cp:revision>369</cp:revision>
  <dc:subject/>
  <dc:title>Lecture 09:</dc:title>
</cp:coreProperties>
</file>