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175D-AD1C-4977-8618-060396E54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48A2F3-0A93-4A03-B73B-D5EE81AF0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FAD4-DE87-46A5-9069-1465A962B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stamp of U is given by WT(X) or by RT(X)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649-F10C-4FB5-8E1C-4C83B3B2E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27D-ACC2-465D-95FF-E88107B33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9C6-4C9B-4E08-A569-B4F837D9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473-314D-4389-B0E5-B0D8DD4B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B0D-A172-4824-B884-F093B954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EBA-1813-4922-89DC-F28DAB8C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872-24F3-4FD4-8021-0BF06AF9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78B-525F-4AFF-9919-90615ACF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705-FFED-4687-8748-5D83E78E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96D-A127-41C3-9333-5B97D93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23F-7040-410D-BAB7-E1557291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48B-3F83-49EB-89BA-71B3A9F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EA2-4D96-4A0C-B1F3-37D4C619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046-5C25-4019-AAA3-B5FF8479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A224-D26B-4055-A408-D5E705E1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ED1-5642-4203-AA65-9634CBE70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s 17-1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2-14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284B-50D3-40E0-92A3-1E9B5D3BF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90920" y="2057400"/>
          <a:ext cx="4038480" cy="4516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BA47-FF5C-4A07-B6CF-F183049D5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5753-7EDE-417E-BEF3-0A954C0EB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7400" y="1676520"/>
          <a:ext cx="5638680" cy="451620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49"/>
          <p:cNvSpPr/>
          <p:nvPr/>
        </p:nvSpPr>
        <p:spPr>
          <a:xfrm>
            <a:off x="223920" y="61722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7163-CE70-4EEE-8325-6C547D056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62320" y="1825560"/>
          <a:ext cx="4724280" cy="451656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264-8865-47DB-939E-B34327B9B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ansactions’ actions may commute accidentally because of specific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is undecidabl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shouldn’t look at the transactions’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orst case updates, only care about reads r(A) and writes w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2D99-9BCA-4C43-AEFC-B2D0D3D83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2160" y="2763720"/>
            <a:ext cx="6134400" cy="132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F084-64CB-439D-8FCE-8C5899C6E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28600" y="19810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642000" y="286704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50480" y="2773440"/>
            <a:ext cx="6055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ctions by same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642000" y="4152960"/>
            <a:ext cx="22460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54440" y="4068720"/>
            <a:ext cx="622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ites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642000" y="5295960"/>
            <a:ext cx="2087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54800" y="5288040"/>
            <a:ext cx="6165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am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642000" y="5981760"/>
            <a:ext cx="2087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B43C-65AD-4CBB-86E5-6F91A09DB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formed into a serial schedule by a series of swappings of adjacent non-conflict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1920" y="386712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080" y="59817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36080" y="461016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41972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487-C5FE-403A-8A94-992A78AC1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nflict serializable schedule is also a serializable schedule 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true, even under the “worst case update” as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401200" y="613404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325240" y="4915080"/>
            <a:ext cx="603828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267080" y="5638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4038480" y="571464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7590600" y="3563640"/>
            <a:ext cx="1148400" cy="1172520"/>
          </a:xfrm>
          <a:prstGeom prst="wedgeEllipseCallout">
            <a:avLst>
              <a:gd name="adj1" fmla="val -161750"/>
              <a:gd name="adj2" fmla="val 72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2840" y="5883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’t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7F69-7E55-467C-8804-7E9C5240B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cedence Graph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chedule conflict-serializ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graph of all transaction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n action that conflicts with one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m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st: if the graph has no cycles, then it is conflict serializ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4E5D-1606-4ACE-BD66-A168E16B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and Serializable Schedules (1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 (18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(18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ock modes (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protocol (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timestamps 1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by validation 18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00A6-AB39-4094-B6A1-1421A1AE8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36080" y="2708280"/>
            <a:ext cx="877464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12"/>
          <p:cNvCxnSpPr>
            <a:stCxn id="130" idx="6"/>
            <a:endCxn id="131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13"/>
          <p:cNvCxnSpPr>
            <a:stCxn id="131" idx="6"/>
            <a:endCxn id="132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14"/>
          <p:cNvSpPr/>
          <p:nvPr/>
        </p:nvSpPr>
        <p:spPr>
          <a:xfrm>
            <a:off x="1896840" y="563868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71060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2957760" y="418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374-C84D-4CD8-B57E-7B459C6BF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6080" y="2705040"/>
            <a:ext cx="8775000" cy="53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;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38098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556272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7"/>
          <p:cNvCxnSpPr>
            <a:stCxn id="141" idx="6"/>
            <a:endCxn id="142" idx="2"/>
          </p:cNvCxnSpPr>
          <p:nvPr/>
        </p:nvCxnSpPr>
        <p:spPr>
          <a:xfrm>
            <a:off x="2590920" y="47239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8"/>
          <p:cNvCxnSpPr>
            <a:stCxn id="142" idx="6"/>
            <a:endCxn id="143" idx="2"/>
          </p:cNvCxnSpPr>
          <p:nvPr/>
        </p:nvCxnSpPr>
        <p:spPr>
          <a:xfrm>
            <a:off x="4266720" y="472392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Rectangle 9"/>
          <p:cNvSpPr/>
          <p:nvPr/>
        </p:nvSpPr>
        <p:spPr>
          <a:xfrm>
            <a:off x="1897920" y="56386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dule is NOT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10"/>
          <p:cNvCxnSpPr>
            <a:stCxn id="142" idx="1"/>
            <a:endCxn id="141" idx="7"/>
          </p:cNvCxnSpPr>
          <p:nvPr/>
        </p:nvCxnSpPr>
        <p:spPr>
          <a:xfrm rot="5400000">
            <a:off x="3198960" y="3886920"/>
            <a:ext cx="2160" cy="1353600"/>
          </a:xfrm>
          <a:prstGeom prst="curvedConnector5">
            <a:avLst>
              <a:gd name="adj1" fmla="val -18600000"/>
              <a:gd name="adj2" fmla="val 49986"/>
              <a:gd name="adj3" fmla="val -18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11"/>
          <p:cNvSpPr/>
          <p:nvPr/>
        </p:nvSpPr>
        <p:spPr>
          <a:xfrm>
            <a:off x="4736160" y="4206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067200" y="4648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102120" y="383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65C3-D422-4351-9080-54591DF9B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the module that schedules the transaction’s actions, ensuring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  Three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B05F-3EB4-4C84-A05B-236E173AA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uniqu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must first acquire the lock before reading/writing tha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ock is taken by another transaction, then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must release the lock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BCDD-6555-4AF2-9D87-7C7461536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2920" y="2895480"/>
            <a:ext cx="833256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quir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 =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eases lock for eleme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7FE-4067-4DA5-BD72-D70DA5D09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447920"/>
          <a:ext cx="8458200" cy="486396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9"/>
          <p:cNvSpPr/>
          <p:nvPr/>
        </p:nvSpPr>
        <p:spPr>
          <a:xfrm>
            <a:off x="522720" y="62485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r has ensured a conflict-serializabl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3FF3-DA45-4F9C-BAEC-65925D599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1523880"/>
          <a:ext cx="7696080" cy="45165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73"/>
          <p:cNvSpPr/>
          <p:nvPr/>
        </p:nvSpPr>
        <p:spPr>
          <a:xfrm>
            <a:off x="586440" y="6172200"/>
            <a:ext cx="57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 did not enforce conflict-serializabil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F28-3AFC-41DD-A33F-0D3FB314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hase Locking (2P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PL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very transaction, all lock requests must preceed all un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sures conflict serializability !  (wh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7B5-2CA0-490D-9E4F-B6344CF1F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2PL transact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371600"/>
          <a:ext cx="8153640" cy="486396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READ(A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READ(A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IE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TED;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; 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51"/>
          <p:cNvSpPr/>
          <p:nvPr/>
        </p:nvSpPr>
        <p:spPr>
          <a:xfrm>
            <a:off x="298800" y="60958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conflict-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158D-B326-4EF6-88F2-BFE5F4E79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actio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its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voided, by ordering all elements (see book); or deadlock detection plus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6970-232A-4E9C-8C7C-89E54ABA6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actions are running concurr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ad/write some common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prevent unwanted interferenc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is responsible for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62E0-8036-48B9-B6E8-C08668A4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hared lock (for 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exclusive lock (for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upda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lik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may be upgraded to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crement lock (for A := A + some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PTER 18.4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16F0-C5D8-46DC-832E-6E42A4814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k/unlock requests to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all READ(A) or WRITE(A)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ppropriate lock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2P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8975-B3CD-4E68-AFC9-99650D0E9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cking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the locks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able: a big, critical data structure in a DBM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quested, check the lock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, or add the transaction to the element’s wai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ock is released, re-activate a transaction from its wai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transaction aborts, release all its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deadlock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F37-2BB2-43FD-B8F4-D89B89C82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2PL, for tre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-trees (the indexes of choice in data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A6C1-11E9-4380-BEE6-286EFE656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e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lock may be any node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, a lock on a node A may only be acquired if the transaction holds a lock on its pare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can be unlocked in any order (no 2PL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protocol is NOT 2PL, yet ensures conflict-serializabilit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D8BA-80E6-42DE-910F-A39619354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ansaction receives a unique timestam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’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counter, incremented by the 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4375-1C20-4CCC-9CB4-3954F3AE9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758160" y="4038480"/>
            <a:ext cx="69534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stamp order def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rialization order of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89640" y="2590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nvari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12B-2EAF-4B7C-BAA5-CFA0ED5DD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to each element 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(X) = the highest timestamp of any transaction that rea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= the highest timestamp of any transaction that wrot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X) = the commit bit: says if the transaction with highest timestamp that wrote X com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135800" y="60958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ssociated to each page X in the buffer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486-22D2-489E-BA01-C62F04C23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two conflicting actions, ensure that their order is the serialized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of the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S(U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2240" y="5638680"/>
            <a:ext cx="732384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 wants to read X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how do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U, and TS(U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5679720" y="2344320"/>
            <a:ext cx="1809000" cy="1172520"/>
          </a:xfrm>
          <a:prstGeom prst="wedgeEllipseCallout">
            <a:avLst>
              <a:gd name="adj1" fmla="val -145541"/>
              <a:gd name="adj2" fmla="val 3179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972840" y="3106440"/>
            <a:ext cx="1908720" cy="1172520"/>
          </a:xfrm>
          <a:prstGeom prst="wedgeEllipseCallout">
            <a:avLst>
              <a:gd name="adj1" fmla="val -205458"/>
              <a:gd name="adj2" fmla="val 2099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o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212160" y="4325400"/>
            <a:ext cx="2339280" cy="1172520"/>
          </a:xfrm>
          <a:prstGeom prst="wedgeEllipseCallout">
            <a:avLst>
              <a:gd name="adj1" fmla="val -139597"/>
              <a:gd name="adj2" fmla="val -28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EA5-83CD-4F48-8029-5F19A4DD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TS(T) &lt; W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51520" y="3886200"/>
            <a:ext cx="76518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662920" y="57913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A5E-7596-44F3-A56F-F323771FC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amous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if we didn’t have concurrency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t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9120" y="5791320"/>
            <a:ext cx="77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Many other things may go wrong, but have no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7281-A9D9-4A37-8A68-5B9D86EDB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T(X) &lt; TS(T) &lt; RT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51880" y="3886200"/>
            <a:ext cx="765144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U) …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586960" y="495288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ollback 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49920" y="60199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check WT(X) &lt; TS(T) 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7C59-67FF-497C-A7F9-7695C30EB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oo late, but we can still handl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T) &lt; RT(X)  but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51880" y="3886200"/>
            <a:ext cx="781020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(T) … START(V) …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. . .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588040" y="5334120"/>
            <a:ext cx="360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rite X at al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ut see later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C5C-2853-4572-9E02-5927B3CC2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read X, and WT(X) &l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38600" y="4191120"/>
            <a:ext cx="8742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U) … START(T) 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8640" y="571500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571500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E507-5D37-485E-8434-D19C0B096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irty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wants to write X, and WT(X) &gt; TS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s OK not to write at all, bu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21320" y="4191120"/>
            <a:ext cx="87915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(T) … START(U)…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. . .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… ABORT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68640" y="5638680"/>
            <a:ext cx="83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(X)=1, then T needs to wait for it to beco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715000" y="4038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A95-4C1A-4351-B474-F803AAEBC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T requests r(X) or w(X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r examines RT(X), WT(X), C(X), and decides on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rant the request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ollback T (and restart with later timest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lay T until C(X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23C-EB16-454E-BE85-4CCF026E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based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4 long rules in the textbook, on page 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understand them, or even derive them yourself, based on the previous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understand the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460880" y="6019920"/>
            <a:ext cx="522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: 18.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44E9-127F-43C1-BEC4-72014456F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ersion Timest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action T requests r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T(X) &gt; TS(T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 must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keep multiple versions of 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 read an older version, with appropriate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409760" y="4267080"/>
            <a:ext cx="569916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T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39C9-1999-434A-95CE-7E9A1548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 create a new version, denoted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t = T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occurs, find a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&lt; TS(T) and t is the largest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T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t and it never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also be maintained, to reject certain writes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n we delet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we have a later versi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ll active transactions T have TS(T) &gt;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7BF7-42FC-4A36-9F62-0ACAE54E7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many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when there are many conflicts (rollba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hen there are few confli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NLY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/WRITE trans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0B9D-BFB1-47DA-8F25-E06FF8B97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 by 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T defines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S(T) and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e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proceeds in three ph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ll elements in RS(T).  Time = START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e (may need to rollback).  Time = VAL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ll elements in WS(T). Time = FIN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919440" y="5562720"/>
            <a:ext cx="7168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nvariant: the serialization order is VAL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D2AA-8317-48D6-9CF9-F5D6F8C2B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03080" y="3086280"/>
            <a:ext cx="3143520" cy="23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B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893120" y="3162240"/>
            <a:ext cx="28278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21F4-0FEB-4C9B-8B33-9CB83FCA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2819520"/>
          <a:ext cx="632448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6380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7"/>
          <p:cNvSpPr/>
          <p:nvPr/>
        </p:nvSpPr>
        <p:spPr>
          <a:xfrm>
            <a:off x="612360" y="1981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426996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647964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20"/>
          <p:cNvCxnSpPr>
            <a:stCxn id="263" idx="2"/>
          </p:cNvCxnSpPr>
          <p:nvPr/>
        </p:nvCxnSpPr>
        <p:spPr>
          <a:xfrm flipH="1">
            <a:off x="1390320" y="2437920"/>
            <a:ext cx="7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1"/>
          <p:cNvCxnSpPr>
            <a:stCxn id="264" idx="2"/>
          </p:cNvCxnSpPr>
          <p:nvPr/>
        </p:nvCxnSpPr>
        <p:spPr>
          <a:xfrm>
            <a:off x="4884480" y="236232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22"/>
          <p:cNvCxnSpPr>
            <a:stCxn id="265" idx="2"/>
          </p:cNvCxnSpPr>
          <p:nvPr/>
        </p:nvCxnSpPr>
        <p:spPr>
          <a:xfrm flipH="1">
            <a:off x="7009560" y="236232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69" name=""/>
          <p:cNvGraphicFramePr/>
          <p:nvPr/>
        </p:nvGraphicFramePr>
        <p:xfrm>
          <a:off x="3524400" y="3733920"/>
          <a:ext cx="45529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3840"/>
                <a:gridCol w="1924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35"/>
          <p:cNvSpPr/>
          <p:nvPr/>
        </p:nvSpPr>
        <p:spPr>
          <a:xfrm>
            <a:off x="34502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36"/>
          <p:cNvCxnSpPr>
            <a:stCxn id="270" idx="0"/>
          </p:cNvCxnSpPr>
          <p:nvPr/>
        </p:nvCxnSpPr>
        <p:spPr>
          <a:xfrm flipV="1">
            <a:off x="42177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Rectangle 37"/>
          <p:cNvSpPr/>
          <p:nvPr/>
        </p:nvSpPr>
        <p:spPr>
          <a:xfrm>
            <a:off x="533160" y="5181480"/>
            <a:ext cx="773208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R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START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beg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38"/>
          <p:cNvCxnSpPr/>
          <p:nvPr/>
        </p:nvCxnSpPr>
        <p:spPr>
          <a:xfrm flipH="1">
            <a:off x="5190840" y="3336480"/>
            <a:ext cx="7912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Rectangle 39"/>
          <p:cNvSpPr/>
          <p:nvPr/>
        </p:nvSpPr>
        <p:spPr>
          <a:xfrm>
            <a:off x="587088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8CC7-871A-4DEB-92E8-D294893A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- 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Confl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2971800"/>
          <a:ext cx="6324480" cy="51768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6380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17"/>
          <p:cNvSpPr/>
          <p:nvPr/>
        </p:nvSpPr>
        <p:spPr>
          <a:xfrm>
            <a:off x="155160" y="2133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3812760" y="20574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60224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AutoShape 20"/>
          <p:cNvCxnSpPr>
            <a:stCxn id="278" idx="2"/>
          </p:cNvCxnSpPr>
          <p:nvPr/>
        </p:nvCxnSpPr>
        <p:spPr>
          <a:xfrm flipH="1">
            <a:off x="933120" y="2590920"/>
            <a:ext cx="720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21"/>
          <p:cNvCxnSpPr>
            <a:stCxn id="279" idx="2"/>
          </p:cNvCxnSpPr>
          <p:nvPr/>
        </p:nvCxnSpPr>
        <p:spPr>
          <a:xfrm>
            <a:off x="4427280" y="2514600"/>
            <a:ext cx="68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22"/>
          <p:cNvCxnSpPr>
            <a:stCxn id="280" idx="2"/>
          </p:cNvCxnSpPr>
          <p:nvPr/>
        </p:nvCxnSpPr>
        <p:spPr>
          <a:xfrm flipH="1">
            <a:off x="6552360" y="2514600"/>
            <a:ext cx="18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84" name=""/>
          <p:cNvGraphicFramePr/>
          <p:nvPr/>
        </p:nvGraphicFramePr>
        <p:xfrm>
          <a:off x="1600200" y="3733920"/>
          <a:ext cx="6705720" cy="517320"/>
        </p:xfrm>
        <a:graphic>
          <a:graphicData uri="http://schemas.openxmlformats.org/drawingml/2006/table">
            <a:tbl>
              <a:tblPr/>
              <a:tblGrid>
                <a:gridCol w="704880"/>
                <a:gridCol w="1924200"/>
                <a:gridCol w="1923840"/>
                <a:gridCol w="2152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phas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39"/>
          <p:cNvSpPr/>
          <p:nvPr/>
        </p:nvSpPr>
        <p:spPr>
          <a:xfrm>
            <a:off x="1526040" y="4479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5583960" y="4800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41"/>
          <p:cNvCxnSpPr>
            <a:stCxn id="285" idx="0"/>
          </p:cNvCxnSpPr>
          <p:nvPr/>
        </p:nvCxnSpPr>
        <p:spPr>
          <a:xfrm flipV="1">
            <a:off x="2293560" y="4236840"/>
            <a:ext cx="1188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AutoShape 42"/>
          <p:cNvCxnSpPr>
            <a:stCxn id="286" idx="0"/>
          </p:cNvCxnSpPr>
          <p:nvPr/>
        </p:nvCxnSpPr>
        <p:spPr>
          <a:xfrm flipH="1" flipV="1">
            <a:off x="6152400" y="4250880"/>
            <a:ext cx="291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Rectangle 43"/>
          <p:cNvSpPr/>
          <p:nvPr/>
        </p:nvSpPr>
        <p:spPr>
          <a:xfrm>
            <a:off x="530640" y="5283360"/>
            <a:ext cx="8073360" cy="126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WS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S(U) and FIN(U) &gt; VAL(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U has validated and  U has not finished before T valid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OLLBACK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6937920" y="33526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AutoShape 45"/>
          <p:cNvCxnSpPr/>
          <p:nvPr/>
        </p:nvCxnSpPr>
        <p:spPr>
          <a:xfrm>
            <a:off x="5524560" y="3489120"/>
            <a:ext cx="17056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8122-F6D5-4C91-A7B5-B0A70B13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nd timestamps: SQL Server, 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656520" y="51055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DCB6-FE88-4ED9-B4C3-8DFD7A19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160280" y="2514600"/>
            <a:ext cx="3029040" cy="34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+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665960" y="2590920"/>
            <a:ext cx="3041280" cy="35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A := A*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RITE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B8CD-090F-4292-B96D-89AFEE84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nsistent 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96560" y="2367000"/>
            <a:ext cx="4204080" cy="29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A := 20;  B := 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WRITE(B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4969800" y="2362320"/>
            <a:ext cx="3042720" cy="297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A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READ(B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7EE1-5E05-4F47-AFEE-856F64C5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ultiple trans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interleaved actions from al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ial 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ne whose actions consist of all those of one transaction, followed by all those of another transactio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A52E-7628-44ED-B46A-D01E2BAB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33720" y="2057400"/>
          <a:ext cx="4647960" cy="3627360"/>
        </p:xfrm>
        <a:graphic>
          <a:graphicData uri="http://schemas.openxmlformats.org/drawingml/2006/table">
            <a:tbl>
              <a:tblPr/>
              <a:tblGrid>
                <a:gridCol w="2324160"/>
                <a:gridCol w="2323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, 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 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:= t+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:= s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5-10T22:56:16Z</dcterms:modified>
  <cp:revision>385</cp:revision>
  <dc:subject/>
  <dc:title>Lecture 09:</dc:title>
</cp:coreProperties>
</file>