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6600-7963-40F0-AE64-3CEFEE514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94DF68-5680-4A96-90D8-A1A57F450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B525-1860-485F-8432-5597D93D5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DEA4-8FD2-45B7-8A52-E587C01B8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576B-6F18-41D2-B902-2E658EA1D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8B95-847E-4EF3-8EF2-C7F2FF062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220D-509D-4C1E-870E-6F41036B8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E46D-20BC-468C-BB8D-56B923716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EED2-D940-4410-9F79-59248AA35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B2F-1CB7-4663-88DF-2EBB7D2EE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62B0-E35D-4EED-9F63-5D243259B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A264-4F81-44E3-920F-D78FCFB26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6A96-E364-4FCA-8632-EB71BA9E5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CD5D-A123-4F5E-8A90-AD9442F00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6B62-C752-4793-9A2A-FE1B5A2A2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3BEC-B1CA-4F3D-8B33-0948639B9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3990-2954-4E23-9B68-202A95940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C7D8-6BAD-41AD-BF26-5D0F31F50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63E-2B03-4016-8C98-26AAC34D5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EC96-C946-46E7-9852-1F109B7E1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7ECC-F0C2-4D5D-A1AC-634F596B7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3881-EC8F-4D53-8803-8046FA43A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CD8E-26A1-42CF-AE2F-4E562D0BC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C1A0-54D6-40A7-87E2-13981F753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1BF7-803E-44E9-AD3E-C85F113CF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982960" y="554040"/>
            <a:ext cx="3639960" cy="2732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0D68-32E6-44F4-B675-B45756DCA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A00-DC20-4F59-BF18-5D69FADB7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FE30-D083-4D28-8BE0-A16DA21EB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9D17-3EA5-4857-8C1F-BF4560F96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FD2D-316B-483B-8245-BAB809873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293C-5629-4616-B7F6-C4EFAA5DA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E72-14E2-4A2B-B934-6469772E9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A4EB-DCB3-491C-960D-7521996F2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792-8A92-4CFA-A0D1-80F8185C8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B6DA-0812-4D08-8E9F-715E1D717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56C-AB6A-40B3-AD78-C5F9612D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A35-6756-4313-AFA8-BAFE2963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140-C4B0-4F77-AF22-41E198B2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15B-F8B5-4FEC-9ED5-AD6FE8DF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110-24D2-4AE7-8CF3-CAFDEEF1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744-E6E8-49F0-8255-A0BB624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2B6-C1A2-43BF-98C5-6210142B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BC7-A7B0-4A46-8B00-4513E587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DF4-CB6C-46BC-B4F6-A4F0D1A8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2E8-2437-4406-BEF9-27CA05C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34A-F160-4725-84A0-9EA6A7E9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B84-A071-4A91-B425-8097E0AD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C6C7-4E22-40E3-BE46-5935139F6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8873-E3F4-4349-B0C4-2CC6F4CC5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d a bit about disk sto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5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6202-219B-4A82-8B92-012771ED8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ne or more operations, which reflects a single real-world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real world, this happened completely or not at 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money between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 a group of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for a class (either waitlist or alloc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grouped in transactions, all problems in previous slides dis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DE74-B63E-4958-9CAE-510D81C46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633360" y="3508200"/>
            <a:ext cx="2200320" cy="1191240"/>
          </a:xfrm>
          <a:prstGeom prst="wedgeRectCallout">
            <a:avLst>
              <a:gd name="adj1" fmla="val -123824"/>
              <a:gd name="adj2" fmla="val 243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mitt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QL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EE39-283A-4741-BF6E-86BCB238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11480" y="1981080"/>
            <a:ext cx="38797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285640" y="59425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works like a c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B1B9-5837-44BC-B5DD-728A2AC8A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pe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shows either all the effects of transaction, or n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oves from a state where integrity holds, to another where integrity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transactions is the same as transactions running one after another (ie looks like batch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transaction has committed, its effects remain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EC8-7837-4F79-8339-7E8FF8CD9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outcomes for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 the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change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ransaction’s activities are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F0C6-70B0-4F36-8D6B-58B4A8879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 of the tables is restricted by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number is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amount can’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nsistency is achie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makes sure a transaction takes a consistent state to a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akes sure that the transaction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3AE3-9BB7-4EE6-A3DF-3ECFC0459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executes concurrently with other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: the effect is as if each transaction executes in isolation of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E5E7-8843-4B06-80AF-1F6D1F355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: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transaction must continue to exists after the transaction, or the whole program has termin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: write data to disk (stable stor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7CC4-CE84-4B49-94B1-C1C4BB51D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pp gets to a place where it can’t complete the transaction successfully, it can execute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system to “abort”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returns to the state without any of the previous changes made by activity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D141-4D0A-48C8-88B6-63FD67D2E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oll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hanges their mind (“ctl-C”/can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 program, when application program finds a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hen qty on hand &lt; qty being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initiated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ue to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621-EBD6-46AB-A202-9240C872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component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for most applications; arguably more so tha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ing awards to database research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les Bachman 19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ar Codd 1981 for inventing relational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Gray 1998 for invent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2C5B-6A7B-4E74-8A12-BE7AF306E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992520" y="1600200"/>
            <a:ext cx="502704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TRANSACTION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6248520" y="4061880"/>
            <a:ext cx="1904760" cy="1172520"/>
          </a:xfrm>
          <a:prstGeom prst="wedgeEllipseCallout">
            <a:avLst>
              <a:gd name="adj1" fmla="val -89152"/>
              <a:gd name="adj2" fmla="val -89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B595-E732-40C0-837A-B4B06F481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8B20-4343-485D-92A6-6836E431B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673000" y="1600200"/>
            <a:ext cx="495684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llocateSeat( %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UN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== 1)  /* occupied */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ccupied =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28960" y="17524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 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81240" y="35053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8600" y="4724280"/>
            <a:ext cx="206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if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Se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2251-050B-4D57-BF58-D8D6F37A4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43200" y="914400"/>
            <a:ext cx="4967640" cy="53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ransferMoney( %amount, %acc1, %ac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R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x &lt; %amount)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+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lance = balance-%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%ac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47760" y="219240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rty rea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91320" y="390204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pd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3BBD-9211-47DA-9E1A-14CF9AF11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ad Commit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586680" y="2057400"/>
            <a:ext cx="46278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AD COM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.occup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t.number = %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0640" y="198108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72600" y="3325680"/>
            <a:ext cx="21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twi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t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CD87-A584-4945-A5BC-928DFBA9D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Repeatable R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585600" y="2057400"/>
            <a:ext cx="48456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REPEATABLE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x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55555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. . . . . More stuff here . . . 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.am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.number = ‘77777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e may have a wrong x+y   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9560" y="198108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27160" y="3429000"/>
            <a:ext cx="287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ee incompat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xn trans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acc. 55555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8CE7-C9B7-4874-AE3B-37A2F6683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: Serializ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66840" y="2590920"/>
            <a:ext cx="431856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08760" y="26668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91440" y="4267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138040" y="571500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TUDY IN DETAILS IN A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7610-A242-4E7F-9B2E-D301CACAA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57" name="Freeform 6"/>
            <p:cNvSpPr/>
            <p:nvPr/>
          </p:nvSpPr>
          <p:spPr>
            <a:xfrm>
              <a:off x="5208480" y="3374640"/>
              <a:ext cx="3149640" cy="1214640"/>
            </a:xfrm>
            <a:prstGeom prst="pie">
              <a:avLst/>
            </a:pr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5208480" y="2787480"/>
              <a:ext cx="3149640" cy="1214280"/>
            </a:xfrm>
            <a:prstGeom prst="pie">
              <a:avLst/>
            </a:pr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8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60" name="Group 9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61" name="Group 10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62" name="Freeform 11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2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17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Freeform 18"/>
              <p:cNvSpPr/>
              <p:nvPr/>
            </p:nvSpPr>
            <p:spPr>
              <a:xfrm>
                <a:off x="5181480" y="5435640"/>
                <a:ext cx="3164040" cy="12160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19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171" name="Freeform 20"/>
              <p:cNvSpPr/>
              <p:nvPr/>
            </p:nvSpPr>
            <p:spPr>
              <a:xfrm>
                <a:off x="5181480" y="5370480"/>
                <a:ext cx="3164040" cy="12160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5286240" y="5475240"/>
                <a:ext cx="2941920" cy="10191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5429160" y="5567400"/>
                <a:ext cx="2654280" cy="7840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23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175" name="Freeform 24"/>
              <p:cNvSpPr/>
              <p:nvPr/>
            </p:nvSpPr>
            <p:spPr>
              <a:xfrm>
                <a:off x="6553080" y="2239920"/>
                <a:ext cx="393840" cy="1176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6553080" y="2057400"/>
                <a:ext cx="393840" cy="2491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6553080" y="4587840"/>
                <a:ext cx="393840" cy="146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6462720" y="2344680"/>
                <a:ext cx="681120" cy="392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Freeform 28"/>
          <p:cNvSpPr/>
          <p:nvPr/>
        </p:nvSpPr>
        <p:spPr>
          <a:xfrm>
            <a:off x="7050240" y="2344680"/>
            <a:ext cx="171360" cy="17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9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0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1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2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3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34"/>
          <p:cNvSpPr/>
          <p:nvPr/>
        </p:nvSpPr>
        <p:spPr>
          <a:xfrm>
            <a:off x="5378400" y="5985000"/>
            <a:ext cx="157320" cy="7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35"/>
          <p:cNvSpPr/>
          <p:nvPr/>
        </p:nvSpPr>
        <p:spPr>
          <a:xfrm>
            <a:off x="5378400" y="3282840"/>
            <a:ext cx="157320" cy="684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36"/>
          <p:cNvSpPr/>
          <p:nvPr/>
        </p:nvSpPr>
        <p:spPr>
          <a:xfrm>
            <a:off x="5378400" y="3909960"/>
            <a:ext cx="157320" cy="666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7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8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9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0"/>
          <p:cNvSpPr/>
          <p:nvPr/>
        </p:nvSpPr>
        <p:spPr>
          <a:xfrm>
            <a:off x="75780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1"/>
          <p:cNvSpPr/>
          <p:nvPr/>
        </p:nvSpPr>
        <p:spPr>
          <a:xfrm>
            <a:off x="6946920" y="2184480"/>
            <a:ext cx="695160" cy="117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456660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43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195" name="Freeform 44"/>
            <p:cNvSpPr/>
            <p:nvPr/>
          </p:nvSpPr>
          <p:spPr>
            <a:xfrm>
              <a:off x="4943520" y="4708440"/>
              <a:ext cx="1373040" cy="1969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45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3731040" y="5670720"/>
            <a:ext cx="1396800" cy="798480"/>
            <a:chOff x="3731040" y="5670720"/>
            <a:chExt cx="1396800" cy="798480"/>
          </a:xfrm>
        </p:grpSpPr>
        <p:sp>
          <p:nvSpPr>
            <p:cNvPr id="198" name="Rectangle 47"/>
            <p:cNvSpPr/>
            <p:nvPr/>
          </p:nvSpPr>
          <p:spPr>
            <a:xfrm>
              <a:off x="373104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48"/>
            <p:cNvSpPr/>
            <p:nvPr/>
          </p:nvSpPr>
          <p:spPr>
            <a:xfrm>
              <a:off x="4191120" y="5670720"/>
              <a:ext cx="406440" cy="484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Freeform 49"/>
          <p:cNvSpPr/>
          <p:nvPr/>
        </p:nvSpPr>
        <p:spPr>
          <a:xfrm>
            <a:off x="5183280" y="2592360"/>
            <a:ext cx="288720" cy="731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0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202" name="Freeform 51"/>
            <p:cNvSpPr/>
            <p:nvPr/>
          </p:nvSpPr>
          <p:spPr>
            <a:xfrm>
              <a:off x="7765920" y="2563920"/>
              <a:ext cx="590760" cy="484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Group 52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204" name="Rectangle 53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54"/>
              <p:cNvSpPr/>
              <p:nvPr/>
            </p:nvSpPr>
            <p:spPr>
              <a:xfrm>
                <a:off x="7675560" y="2563920"/>
                <a:ext cx="484200" cy="393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Freeform 55"/>
          <p:cNvSpPr/>
          <p:nvPr/>
        </p:nvSpPr>
        <p:spPr>
          <a:xfrm>
            <a:off x="8199360" y="3127320"/>
            <a:ext cx="174600" cy="4446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57"/>
          <p:cNvSpPr/>
          <p:nvPr/>
        </p:nvSpPr>
        <p:spPr>
          <a:xfrm>
            <a:off x="6946920" y="3127320"/>
            <a:ext cx="1471680" cy="484200"/>
          </a:xfrm>
          <a:prstGeom prst="pie">
            <a:avLst/>
          </a:pr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58"/>
          <p:cNvSpPr/>
          <p:nvPr/>
        </p:nvSpPr>
        <p:spPr>
          <a:xfrm>
            <a:off x="8372520" y="3075120"/>
            <a:ext cx="520560" cy="276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9"/>
          <p:cNvSpPr/>
          <p:nvPr/>
        </p:nvSpPr>
        <p:spPr>
          <a:xfrm>
            <a:off x="54075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0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304560" y="4648320"/>
            <a:ext cx="339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read or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: 4k or 8k or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9C7A-E32D-413F-8278-4DAFB1670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s read/write one block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0BBE-6E97-44C7-9361-1B22EAF63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disks that work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: use parity to recover from disk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read from several disk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configuration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1 =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4 = n disks + 1 parity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5 = n+1 disks, assign parity blocks round 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6 = “Hamming cod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5B2D-049D-49B5-8F61-2A0CC3BC5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04920" y="44956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following examples, think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meaning a proced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it ends successfu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ls 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it ab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9A02-1DB7-473D-A851-017DC656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225" name="Rectangle 7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7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18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237" name="Group 19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23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Rectangle 24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Line 25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6"/>
          <p:cNvSpPr/>
          <p:nvPr/>
        </p:nvSpPr>
        <p:spPr>
          <a:xfrm>
            <a:off x="1222920" y="379080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1087560" y="42894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8"/>
          <p:cNvSpPr/>
          <p:nvPr/>
        </p:nvSpPr>
        <p:spPr>
          <a:xfrm>
            <a:off x="1454040" y="2270160"/>
            <a:ext cx="1041480" cy="301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1056600" y="2548080"/>
            <a:ext cx="141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30"/>
          <p:cNvSpPr/>
          <p:nvPr/>
        </p:nvSpPr>
        <p:spPr>
          <a:xfrm>
            <a:off x="1697040" y="2967120"/>
            <a:ext cx="1039680" cy="29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1088640" y="32418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3"/>
          <p:cNvSpPr/>
          <p:nvPr/>
        </p:nvSpPr>
        <p:spPr>
          <a:xfrm>
            <a:off x="1727280" y="1038240"/>
            <a:ext cx="603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4"/>
          <p:cNvSpPr/>
          <p:nvPr/>
        </p:nvSpPr>
        <p:spPr>
          <a:xfrm>
            <a:off x="2458080" y="179856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35"/>
          <p:cNvSpPr/>
          <p:nvPr/>
        </p:nvSpPr>
        <p:spPr>
          <a:xfrm>
            <a:off x="4762440" y="4105440"/>
            <a:ext cx="1022400" cy="153720"/>
          </a:xfrm>
          <a:prstGeom prst="pie">
            <a:avLst/>
          </a:prstGeom>
          <a:noFill/>
          <a:ln cap="rnd" w="12600">
            <a:solidFill>
              <a:srgbClr val="b2b2b2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5050440" y="4343400"/>
            <a:ext cx="347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38"/>
          <p:cNvSpPr/>
          <p:nvPr/>
        </p:nvSpPr>
        <p:spPr>
          <a:xfrm>
            <a:off x="7281000" y="1201320"/>
            <a:ext cx="1627200" cy="1172520"/>
          </a:xfrm>
          <a:prstGeom prst="wedgeEllipseCallout">
            <a:avLst>
              <a:gd name="adj1" fmla="val -131662"/>
              <a:gd name="adj2" fmla="val -46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39"/>
          <p:cNvSpPr/>
          <p:nvPr/>
        </p:nvSpPr>
        <p:spPr>
          <a:xfrm>
            <a:off x="7118640" y="3182400"/>
            <a:ext cx="1960560" cy="1172520"/>
          </a:xfrm>
          <a:prstGeom prst="wedgeEllipseCallout">
            <a:avLst>
              <a:gd name="adj1" fmla="val -110194"/>
              <a:gd name="adj2" fmla="val 29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EA5A-39CB-4D1C-BD6C-4208E59C4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214560" y="1828800"/>
            <a:ext cx="8390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work well in OS, but not always in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8300-0E31-40F2-9259-06F59952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t Recently Used (LR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pages by the time of last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replace the least recently ac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653400" y="34290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5, P2, P8, P4, P1, P9, P6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886200" y="4267080"/>
            <a:ext cx="9907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5451480" y="4479120"/>
            <a:ext cx="2049480" cy="652680"/>
          </a:xfrm>
          <a:prstGeom prst="wedgeEllipseCallout">
            <a:avLst>
              <a:gd name="adj1" fmla="val -38620"/>
              <a:gd name="adj2" fmla="val -9382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85080" y="5257800"/>
            <a:ext cx="7043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6, P5, P2, P8, P4, P1, P9, P3, P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453600" y="6172200"/>
            <a:ext cx="78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U is expensive (why ?); the clock algorithm is good appr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4296-1E79-4292-A183-B30E157C0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87240" y="160020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ason: need fine grained control fo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 recover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275A-8377-42B6-9C1A-8BE335D0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action Management and the Buffer Mana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anager operates on the buffer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‘log-file write-ahead’, then careful policy about which pages to force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urrency contr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ocks at the page level, multiversion 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672560" y="6023160"/>
            <a:ext cx="604368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details during the next few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53DB-441D-44FB-9165-5383AB66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urrency contro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reads data written by T’ while T’ has not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go wrong: T’ writes more data (which T has already read), or T’ ab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asks T and T’ both modify the sam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and T’ both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ate shows effects of only T, but not of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ask T sees some but not all changes made by 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5828-9A12-410E-8218-4195EC513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75480" y="1905120"/>
            <a:ext cx="49496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ransfer $100  from account 1 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1.balance &gt;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n Account1.balance = Account1.balance - 10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+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5945400" y="1981080"/>
            <a:ext cx="270432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Compute total amou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= Account1.bala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= Account2.bala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X +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(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353760" y="586728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oe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C7FB-BDB8-4412-8D23-10E77F139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78360" y="1905120"/>
            <a:ext cx="48852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ransfer $100  from account 1 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tentatively move money into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+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1.balance &gt;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n Account1.balance = Account1.balance -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/* oops: remove $100 from Account 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2.balance = Account2.balance -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482800" y="1981080"/>
            <a:ext cx="33552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withdraw $100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ccount2.balance &gt;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n Account2.balance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Account2.balance - 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ENSE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O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77440" y="563868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oe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09800" y="5394960"/>
            <a:ext cx="1904400" cy="1170360"/>
          </a:xfrm>
          <a:prstGeom prst="wedgeEllipseCallout">
            <a:avLst>
              <a:gd name="adj1" fmla="val 11953"/>
              <a:gd name="adj2" fmla="val -946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nee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one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LB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C46A-4D21-404E-9CC3-95788DF88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6960" y="2895480"/>
            <a:ext cx="4426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207440" y="564228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ifferent users attempt to apply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715280" y="2895480"/>
            <a:ext cx="4274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9390-964A-411B-BAF1-4564E4733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578760" y="6018840"/>
            <a:ext cx="41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s a 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919080" y="2286000"/>
            <a:ext cx="36144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+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-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adg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491440" y="2819520"/>
            <a:ext cx="31633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quantity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AF69-93F1-4177-838A-A95D055B6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19080" y="2286000"/>
            <a:ext cx="36144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+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 = quantity - 5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= ‘gadge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5-04T07:10:38Z</dcterms:modified>
  <cp:revision>437</cp:revision>
  <dc:subject/>
  <dc:title>Lecture 09:</dc:title>
</cp:coreProperties>
</file>