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6090-22F5-4D57-8B6D-A4A7A0AB8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2B74296B-E70E-4E87-9C00-E389587C4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64C7-565F-42F8-ACE8-43B2E0139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allow SELECT count(*) FROM Patients WHERE Patient.disease = %d,  but only when the count is &gt; 10.  Suppose that there are &gt; 10 patients with flue, and the user knows that.  Adopting an instance-independent definition, this query is invalid; but with an instance-dependent definition the query is 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EEA-2A8A-44DF-8122-62221E3C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A32-1D2D-4CC4-A3DE-D1FBD039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9EB-77AA-400A-BA16-7B3580AC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7C4-8BBE-4E74-8DEB-F2AB222C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19D-C5CA-4CAE-9EF0-B39DC2C1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21F-52A0-4095-A9D2-F05EABE3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A6C-89CE-4BE0-8293-C49106F9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59B-49E6-4438-83C5-3F9FE840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037-4ADD-4E6F-BB67-4E10F5B7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853-2AE4-4E5E-AC2B-00C7A1B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93A-69DF-43FF-82D5-4C9FA0E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22C-6A06-40D9-8302-8A133F3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6B8-5AD8-4E67-B889-EFF29198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0F9B-D09C-4FD4-B4B0-17B4924A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AB12-1F02-4573-BF77-BCEAD3FF8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236232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Group 41"/>
          <p:cNvGrpSpPr/>
          <p:nvPr/>
        </p:nvGrpSpPr>
        <p:grpSpPr>
          <a:xfrm>
            <a:off x="1487520" y="4175640"/>
            <a:ext cx="7861680" cy="2525400"/>
            <a:chOff x="1487520" y="4175640"/>
            <a:chExt cx="7861680" cy="2525400"/>
          </a:xfrm>
        </p:grpSpPr>
        <p:sp>
          <p:nvSpPr>
            <p:cNvPr id="98" name="Rectangle 4"/>
            <p:cNvSpPr/>
            <p:nvPr/>
          </p:nvSpPr>
          <p:spPr>
            <a:xfrm>
              <a:off x="1487520" y="4778280"/>
              <a:ext cx="786168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BadCredit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Balance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BadCreditCustomers TO 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37"/>
            <p:cNvSpPr/>
            <p:nvPr/>
          </p:nvSpPr>
          <p:spPr>
            <a:xfrm>
              <a:off x="7110720" y="4175640"/>
              <a:ext cx="1726560" cy="522360"/>
            </a:xfrm>
            <a:prstGeom prst="wedgeEllipseCallout">
              <a:avLst>
                <a:gd name="adj1" fmla="val -20694"/>
                <a:gd name="adj2" fmla="val 16294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AutoShape 38"/>
          <p:cNvSpPr/>
          <p:nvPr/>
        </p:nvSpPr>
        <p:spPr>
          <a:xfrm>
            <a:off x="112320" y="516960"/>
            <a:ext cx="2040480" cy="566640"/>
          </a:xfrm>
          <a:prstGeom prst="wedgeEllipseCallout">
            <a:avLst>
              <a:gd name="adj1" fmla="val -5814"/>
              <a:gd name="adj2" fmla="val 1886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9"/>
          <p:cNvSpPr/>
          <p:nvPr/>
        </p:nvSpPr>
        <p:spPr>
          <a:xfrm>
            <a:off x="306720" y="1828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0"/>
          <p:cNvSpPr/>
          <p:nvPr/>
        </p:nvSpPr>
        <p:spPr>
          <a:xfrm>
            <a:off x="5512680" y="1505520"/>
            <a:ext cx="1930320" cy="1866240"/>
          </a:xfrm>
          <a:prstGeom prst="wedgeEllipseCallout">
            <a:avLst>
              <a:gd name="adj1" fmla="val -79254"/>
              <a:gd name="adj2" fmla="val 31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only &lt;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731C-F88F-460E-B1C6-525D397CA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ustomer should see only her/his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336560" y="2514600"/>
            <a:ext cx="53622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Mar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Mary TO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50120" y="5486400"/>
            <a:ext cx="403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w-lev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259884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AutoShape 32"/>
          <p:cNvSpPr/>
          <p:nvPr/>
        </p:nvSpPr>
        <p:spPr>
          <a:xfrm>
            <a:off x="7282800" y="364680"/>
            <a:ext cx="1726560" cy="523080"/>
          </a:xfrm>
          <a:prstGeom prst="wedgeEllipseCallout">
            <a:avLst>
              <a:gd name="adj1" fmla="val -18731"/>
              <a:gd name="adj2" fmla="val 333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4322160" y="4343400"/>
            <a:ext cx="53622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Sue TO 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6629400" y="59976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E74F-B930-4EAE-AC8E-AD19C4B8C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-1909440" y="2666880"/>
            <a:ext cx="12799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47960" y="41911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5480" y="4876920"/>
            <a:ext cx="859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-477000" y="586728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BadCredi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ABFD-9BF6-4CA0-B0BD-FFE997135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-44280" y="1905120"/>
            <a:ext cx="65815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5092920" y="1351440"/>
            <a:ext cx="4154400" cy="1692360"/>
          </a:xfrm>
          <a:prstGeom prst="wedgeEllipseCallout">
            <a:avLst>
              <a:gd name="adj1" fmla="val -47949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902960" y="49244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A196-7420-4665-B1C1-717466B8D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8"/>
          <p:cNvCxnSpPr>
            <a:stCxn id="125" idx="4"/>
            <a:endCxn id="126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9"/>
          <p:cNvCxnSpPr>
            <a:stCxn id="126" idx="6"/>
            <a:endCxn id="127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132" name="AutoShape 10"/>
          <p:cNvCxnSpPr>
            <a:stCxn id="126" idx="4"/>
            <a:endCxn id="128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11"/>
          <p:cNvCxnSpPr>
            <a:stCxn id="128" idx="6"/>
            <a:endCxn id="129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12"/>
          <p:cNvCxnSpPr>
            <a:stCxn id="127" idx="5"/>
            <a:endCxn id="129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13"/>
          <p:cNvCxnSpPr>
            <a:stCxn id="129" idx="1"/>
            <a:endCxn id="127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Rectangle 14"/>
          <p:cNvSpPr/>
          <p:nvPr/>
        </p:nvSpPr>
        <p:spPr>
          <a:xfrm>
            <a:off x="1786680" y="2879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3666600" y="3438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736600" y="437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733280" y="447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181548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3644280" y="54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0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93960" y="61722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A4BE-CFFB-494B-B0C5-1394E37D3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SQL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ow level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creator owns the data: that’s unfa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4800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spectacular fail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0% assign privileges to users/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to protect entire tables, not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-1833120" y="3943440"/>
            <a:ext cx="12768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control = great success story of the DB commun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E1A9-EB88-4D13-AA3B-8FEA7463A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licies in middleware: slow, error pr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P has 10**4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TE over 10**5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okerage house has 80,000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S government entity thinks that it has 35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the database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center of the policy administration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126720" y="6248520"/>
            <a:ext cx="36097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DC50-798E-4CD7-8917-3C104CA07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’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5643-13A4-42E1-99A3-948ABB31B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2"/>
          <p:cNvGrpSpPr/>
          <p:nvPr/>
        </p:nvGrpSpPr>
        <p:grpSpPr>
          <a:xfrm>
            <a:off x="1219320" y="4673160"/>
            <a:ext cx="6781680" cy="1191240"/>
            <a:chOff x="1219320" y="4673160"/>
            <a:chExt cx="6781680" cy="1191240"/>
          </a:xfrm>
        </p:grpSpPr>
        <p:sp>
          <p:nvSpPr>
            <p:cNvPr id="158" name="Rectangle 3"/>
            <p:cNvSpPr/>
            <p:nvPr/>
          </p:nvSpPr>
          <p:spPr>
            <a:xfrm>
              <a:off x="1219320" y="467316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4267080" y="5045040"/>
              <a:ext cx="29527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-1458000" y="1600200"/>
            <a:ext cx="113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ealth insurance company lets you see the claims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99240" y="404964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earch through the cl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818440" y="5054760"/>
            <a:ext cx="5850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4920" y="2666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1941480" y="2603520"/>
            <a:ext cx="6764400" cy="1191240"/>
            <a:chOff x="1941480" y="2603520"/>
            <a:chExt cx="6764400" cy="1191240"/>
          </a:xfrm>
        </p:grpSpPr>
        <p:sp>
          <p:nvSpPr>
            <p:cNvPr id="166" name="Rectangle 11"/>
            <p:cNvSpPr/>
            <p:nvPr/>
          </p:nvSpPr>
          <p:spPr>
            <a:xfrm>
              <a:off x="1941480" y="2603520"/>
              <a:ext cx="676440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word: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534200" y="2666880"/>
              <a:ext cx="2741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d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5066280" y="3276720"/>
              <a:ext cx="1643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14"/>
          <p:cNvSpPr/>
          <p:nvPr/>
        </p:nvSpPr>
        <p:spPr>
          <a:xfrm>
            <a:off x="-572040" y="6095880"/>
            <a:ext cx="102391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…FROM…WHERE doctor=‘Dr. Lee’ and patientID=‘f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-813240" y="76320"/>
            <a:ext cx="63529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hris Anley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vanced SQL Injection In SQ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6"/>
          <p:cNvGrpSpPr/>
          <p:nvPr/>
        </p:nvGrpSpPr>
        <p:grpSpPr>
          <a:xfrm>
            <a:off x="5105520" y="2666880"/>
            <a:ext cx="3595680" cy="3929040"/>
            <a:chOff x="5105520" y="2666880"/>
            <a:chExt cx="3595680" cy="3929040"/>
          </a:xfrm>
        </p:grpSpPr>
        <p:sp>
          <p:nvSpPr>
            <p:cNvPr id="172" name="Oval 17"/>
            <p:cNvSpPr/>
            <p:nvPr/>
          </p:nvSpPr>
          <p:spPr>
            <a:xfrm>
              <a:off x="5105520" y="2666880"/>
              <a:ext cx="9144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8"/>
            <p:cNvSpPr/>
            <p:nvPr/>
          </p:nvSpPr>
          <p:spPr>
            <a:xfrm>
              <a:off x="8167680" y="6138720"/>
              <a:ext cx="53352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AutoShape 19"/>
            <p:cNvCxnSpPr>
              <a:stCxn id="172" idx="4"/>
              <a:endCxn id="173" idx="1"/>
            </p:cNvCxnSpPr>
            <p:nvPr/>
          </p:nvCxnSpPr>
          <p:spPr>
            <a:xfrm>
              <a:off x="5562720" y="3137040"/>
              <a:ext cx="2683440" cy="30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75" name="Group 20"/>
          <p:cNvGrpSpPr/>
          <p:nvPr/>
        </p:nvGrpSpPr>
        <p:grpSpPr>
          <a:xfrm>
            <a:off x="4282920" y="4976640"/>
            <a:ext cx="1779840" cy="1652760"/>
            <a:chOff x="4282920" y="4976640"/>
            <a:chExt cx="1779840" cy="1652760"/>
          </a:xfrm>
        </p:grpSpPr>
        <p:sp>
          <p:nvSpPr>
            <p:cNvPr id="176" name="Oval 21"/>
            <p:cNvSpPr/>
            <p:nvPr/>
          </p:nvSpPr>
          <p:spPr>
            <a:xfrm>
              <a:off x="4282920" y="4976640"/>
              <a:ext cx="106704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22"/>
            <p:cNvSpPr/>
            <p:nvPr/>
          </p:nvSpPr>
          <p:spPr>
            <a:xfrm>
              <a:off x="5148360" y="6095880"/>
              <a:ext cx="91440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AutoShape 23"/>
            <p:cNvCxnSpPr>
              <a:stCxn id="176" idx="5"/>
              <a:endCxn id="177" idx="0"/>
            </p:cNvCxnSpPr>
            <p:nvPr/>
          </p:nvCxnSpPr>
          <p:spPr>
            <a:xfrm>
              <a:off x="5194440" y="5510160"/>
              <a:ext cx="411840" cy="57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BCC3-89C9-49E5-8293-2C64BC85F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-78120" y="16002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762120" y="2311200"/>
            <a:ext cx="7619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963080" y="2692800"/>
            <a:ext cx="7495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   OR patientID = ‘suciu’;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09600" y="4343400"/>
            <a:ext cx="8072280" cy="1902240"/>
            <a:chOff x="309600" y="4343400"/>
            <a:chExt cx="8072280" cy="1902240"/>
          </a:xfrm>
        </p:grpSpPr>
        <p:sp>
          <p:nvSpPr>
            <p:cNvPr id="185" name="Rectangle 7"/>
            <p:cNvSpPr/>
            <p:nvPr/>
          </p:nvSpPr>
          <p:spPr>
            <a:xfrm>
              <a:off x="309600" y="4343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762120" y="5054400"/>
              <a:ext cx="76197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2129760" y="5413680"/>
              <a:ext cx="58500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. Lee’      OR   1 = 1;   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10"/>
          <p:cNvSpPr/>
          <p:nvPr/>
        </p:nvSpPr>
        <p:spPr>
          <a:xfrm>
            <a:off x="-1550880" y="3782880"/>
            <a:ext cx="12067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WHERE doctor=‘Dr. Lee’  OR patientID=‘suciu’;      --’ and patientID=‘fr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444B-3E7F-4B62-AFCB-07E5D2B4C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ew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4343400" y="3276720"/>
            <a:ext cx="378000" cy="1500120"/>
          </a:xfrm>
          <a:custGeom>
            <a:avLst/>
            <a:gdLst>
              <a:gd name="textAreaLeft" fmla="*/ 0 w 378000"/>
              <a:gd name="textAreaRight" fmla="*/ 136440 w 378000"/>
              <a:gd name="textAreaTop" fmla="*/ 38880 h 1500120"/>
              <a:gd name="textAreaBottom" fmla="*/ 146124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4857480" y="3368520"/>
            <a:ext cx="3675240" cy="131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 mater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have time to co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36BA-381D-47A6-B3BB-351BC0D12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-407160" y="16002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’re done, do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62120" y="2593800"/>
            <a:ext cx="77724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340720" y="2975040"/>
            <a:ext cx="6764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;    DROP TABLE Patients;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3B73-65A6-453A-BEB8-00FC6DA64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programming:  use stored procedur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er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policy implementation from apps to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3249-49F8-4534-A2C3-BB234D365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ssachusetts, the Group Insurance Commission (GIC) is responsible for purchasing health insurance for stat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 has to publish th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-1133640" y="5105520"/>
            <a:ext cx="1115316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127C-4F65-482A-A77C-A8D19CFC4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paid $20 and bought the voter registration list for Cambridge Massachuset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-1133640" y="4724280"/>
            <a:ext cx="11153160" cy="107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(name, party, ..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14D2-5A83-46C8-AADC-C85A52DEF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Weld (former governor) lives in Cambridge, hence is in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ople in VOTER share 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 of them were man (s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d was the only one in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learned Weld’s medical record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-140760" y="2057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C91B-DD68-4501-B563-C60CCC94E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ystems worked as specified, yet an important data has lea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-1036080" y="5257800"/>
            <a:ext cx="107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me of today’s research in data security address breach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happen even if all systems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CB29-6B2B-482F-98D1-A5F8AE31F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inj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rrectness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policy implemented poorly in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ney’s fi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correct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kage occurred when all systems work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270-57A2-4EAE-870F-2DB1720FA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Nove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-anonymity, information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w-level acc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6789-CE70-47AA-B712-8FEF251E7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2895480"/>
          <a:ext cx="6705720" cy="2590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y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t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914400" y="2895480"/>
          <a:ext cx="6705720" cy="2590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Anonym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7"/>
          <p:cNvSpPr/>
          <p:nvPr/>
        </p:nvSpPr>
        <p:spPr>
          <a:xfrm>
            <a:off x="-1245240" y="1708200"/>
            <a:ext cx="100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ch tuple is equal to at least k-1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izing: through suppression and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8"/>
          <p:cNvSpPr/>
          <p:nvPr/>
        </p:nvSpPr>
        <p:spPr>
          <a:xfrm>
            <a:off x="-978480" y="5756400"/>
            <a:ext cx="93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:  NP-complete for suppress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 exists; but work poorly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9"/>
          <p:cNvSpPr/>
          <p:nvPr/>
        </p:nvSpPr>
        <p:spPr>
          <a:xfrm>
            <a:off x="-432000" y="76320"/>
            <a:ext cx="5423400" cy="33732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amarati&amp;Sweeney’98, Meyerson&amp;Williams’0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0120" y="2895480"/>
          <a:ext cx="1447560" cy="259560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BE2F-EA25-40A7-A01F-4F96C2F74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-view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49360" y="2949480"/>
          <a:ext cx="7543800" cy="1036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 Qu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losur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49360" y="398628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(name,dept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(dept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49360" y="4930920"/>
          <a:ext cx="7543800" cy="51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dep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549360" y="545616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HR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RD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47"/>
          <p:cNvSpPr/>
          <p:nvPr/>
        </p:nvSpPr>
        <p:spPr>
          <a:xfrm>
            <a:off x="677520" y="1981080"/>
            <a:ext cx="822744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Employee(name, dept, ph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-241200" y="1981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6429600" y="348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6630120" y="416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1"/>
          <p:cNvSpPr/>
          <p:nvPr/>
        </p:nvSpPr>
        <p:spPr>
          <a:xfrm>
            <a:off x="6572880" y="4930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2"/>
          <p:cNvSpPr/>
          <p:nvPr/>
        </p:nvSpPr>
        <p:spPr>
          <a:xfrm>
            <a:off x="6565680" y="569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3"/>
          <p:cNvSpPr/>
          <p:nvPr/>
        </p:nvSpPr>
        <p:spPr>
          <a:xfrm>
            <a:off x="-424800" y="76320"/>
            <a:ext cx="607860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iklau&amp;S’04, Miklau&amp;Dalvi&amp;S’05,Yang&amp;L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DADA-A3AF-4BB6-89E8-F29FC098F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20480" y="2087640"/>
            <a:ext cx="53013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privileg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ON obje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WITH GRANT OPTION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6440" y="4114800"/>
            <a:ext cx="822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UPDATE(column-name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A38-2D14-4A9E-9059-536F3E3BD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-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at the tupl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specificatio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573E-C813-40F2-B254-AF0E303D7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Specifica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62000" y="2666880"/>
            <a:ext cx="877608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UTHORIZATION VIEW PatientsForDoctor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HERE Patient.doctorID = Doctor.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Doctor.login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044520" y="5239800"/>
            <a:ext cx="2854800" cy="1172520"/>
          </a:xfrm>
          <a:prstGeom prst="wedgeEllipseCallout">
            <a:avLst>
              <a:gd name="adj1" fmla="val 35587"/>
              <a:gd name="adj2" fmla="val -94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-1080720" y="167652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ndard, but usually based on parameterized 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DFC1-5285-4B58-8028-BB2FFE429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27760" y="1706400"/>
            <a:ext cx="60328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5360" y="4168800"/>
            <a:ext cx="74959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tient.doctorID = Doctor.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Patient.login = 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4267080" y="3200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051680" y="4800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7DBC-BE8C-4F93-8C2E-EE54BAD2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man Model = filter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al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RITE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misleading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n-Truman model = deny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or 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query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define multiple security views for a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7417080" y="6400800"/>
            <a:ext cx="15523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zv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084640" y="2514600"/>
            <a:ext cx="4234680" cy="137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ount(*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Pati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isease=‘flu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483C-8D43-4048-AA30-FAE7C947A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Information Dis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tical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ing new connections between databases and information theory, probability theory,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year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5763600" y="3581280"/>
            <a:ext cx="32288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adi&amp;Warinschi’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5308-98DA-49E0-91D0-0BDB65D58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Fine 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n industry: label-base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ler app: application h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franchises share a single table at headquarters (e.g., Holiday I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runs under requester’s label, cannot see oth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quarters runs Read queries ove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’s Virtual Privat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5908680" y="6442200"/>
            <a:ext cx="36097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24BA-A74B-4007-8FB2-C9F30C1D3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-125640" y="1940040"/>
            <a:ext cx="7435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INSERT, DELETE ON Custo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914040" y="309888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914400" y="56386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93400" y="3632040"/>
            <a:ext cx="67338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356360" y="5562720"/>
            <a:ext cx="36860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3361-FED7-450E-8F5C-72FEC6BFE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-251640" y="2498760"/>
            <a:ext cx="7861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69920" y="38862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E955-D061-41B4-92E9-588E24385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-183600" y="2544840"/>
            <a:ext cx="6215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72560" y="3962520"/>
            <a:ext cx="621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B324-CDCC-4069-9E71-A2A02298F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349200" y="2422440"/>
            <a:ext cx="8715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25360" y="411480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6D34-B71C-428A-8E2C-398DFB26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45960" y="4525920"/>
            <a:ext cx="8044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-1234800" y="1889280"/>
            <a:ext cx="112755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ame, address, balanc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s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d, amount)            cid= foreig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99072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3880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7CE5-52EE-4543-B7BA-BABB0DB77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53"/>
          <p:cNvGrpSpPr/>
          <p:nvPr/>
        </p:nvGrpSpPr>
        <p:grpSpPr>
          <a:xfrm>
            <a:off x="1211400" y="4098240"/>
            <a:ext cx="7712640" cy="2584440"/>
            <a:chOff x="1211400" y="4098240"/>
            <a:chExt cx="7712640" cy="2584440"/>
          </a:xfrm>
        </p:grpSpPr>
        <p:sp>
          <p:nvSpPr>
            <p:cNvPr id="88" name="Rectangle 4"/>
            <p:cNvSpPr/>
            <p:nvPr/>
          </p:nvSpPr>
          <p:spPr>
            <a:xfrm>
              <a:off x="1211400" y="5125680"/>
              <a:ext cx="73130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Public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Name, 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PublicCustomers TO F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8"/>
            <p:cNvSpPr/>
            <p:nvPr/>
          </p:nvSpPr>
          <p:spPr>
            <a:xfrm>
              <a:off x="7025760" y="4098240"/>
              <a:ext cx="1898280" cy="566640"/>
            </a:xfrm>
            <a:prstGeom prst="wedgeEllipseCallout">
              <a:avLst>
                <a:gd name="adj1" fmla="val -83768"/>
                <a:gd name="adj2" fmla="val 17298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0" name=""/>
          <p:cNvGraphicFramePr/>
          <p:nvPr/>
        </p:nvGraphicFramePr>
        <p:xfrm>
          <a:off x="2286000" y="266688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91" name="AutoShape 49"/>
          <p:cNvSpPr/>
          <p:nvPr/>
        </p:nvSpPr>
        <p:spPr>
          <a:xfrm>
            <a:off x="329760" y="1105920"/>
            <a:ext cx="2040480" cy="566640"/>
          </a:xfrm>
          <a:prstGeom prst="wedgeEllipseCallout">
            <a:avLst>
              <a:gd name="adj1" fmla="val 41263"/>
              <a:gd name="adj2" fmla="val 14885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1"/>
          <p:cNvSpPr/>
          <p:nvPr/>
        </p:nvSpPr>
        <p:spPr>
          <a:xfrm>
            <a:off x="2211480" y="2009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2"/>
          <p:cNvSpPr/>
          <p:nvPr/>
        </p:nvSpPr>
        <p:spPr>
          <a:xfrm>
            <a:off x="7052400" y="1436400"/>
            <a:ext cx="1884600" cy="1432800"/>
          </a:xfrm>
          <a:prstGeom prst="wedgeEllipseCallout">
            <a:avLst>
              <a:gd name="adj1" fmla="val -71939"/>
              <a:gd name="adj2" fmla="val 935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5-01T03:59:58Z</dcterms:modified>
  <cp:revision>391</cp:revision>
  <dc:subject/>
  <dc:title>Lecture 09:</dc:title>
</cp:coreProperties>
</file>