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8583-9FAF-4094-A574-B061D855E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7159643-7AD1-499A-98A2-0B726F6099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C62F-97C1-4598-A7B5-5D80E8FB3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A917-E1B3-42C0-A605-BC225BC3B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D670-0AAF-4E4B-B068-5DB51A00D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F2C7-4BE0-4911-946B-700685D82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4E66-86D3-48C2-9064-D84D1D0EA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2F3D-39EB-4B5A-9AF5-F816C2409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F6C2-6C22-4B9D-9724-8FAE51BFC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326C-0C3F-4586-A47A-9569FE896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ED0A-55B4-4AA4-8613-0460C17AA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9301-E0C8-4381-9607-83C6831A8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A8D6-DF08-46D9-BA65-70824105C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852-89A5-44E8-A32E-D8FF75B9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90F-0D99-451D-9A81-417638FD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529-E03A-4C9A-8B2D-8226FFB1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EA2-69AD-4A23-8877-784FCADF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F4B-F869-4A7B-A792-E67FA30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B02-9E35-4180-8074-8D02D511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5BF-F6CA-4443-BADD-65A6D4F4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C53-D9A0-4788-A821-F4D82F9B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94E-21F6-4D0D-BD88-65CD8A04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373-B1FC-402A-A4F8-88D4BCB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C9B-1C21-4C04-B8EC-D6A038A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3A4-CAFC-4CCE-B38E-9C36A8D2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2E21-2192-41CC-AA00-00438BE19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392E-99F6-4E46-9525-186AD1F0A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query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5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E275-A1D6-4C89-A6D4-91F12CB4E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47776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A153-7B08-4C4F-8479-DF186C6C2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1308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765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A943-E1AF-42CC-9F6D-2B6F1B173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F266-98AC-4C89-A0C4-25E21DDB7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41684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1E9E-D7D0-4C84-9E6C-A6F0C4C32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n SQL Serve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s with attributes of type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Xquer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the slides are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nkar Pal et al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ing XML data stored in a relational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LDB’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483D-7A1B-4005-868A-FA4DDFF3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765440" y="1295280"/>
            <a:ext cx="40302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ID int primary ke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XDOC 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880" y="3448080"/>
            <a:ext cx="88783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D, XDOC.query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for $s in  /BOOK[@ISBN= “1-55860-438-3”]//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&lt;topic&gt;{data($s/TITLE)} &lt;/topi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47AF-0FC6-4522-A8A1-D92DEA1EF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Method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() = returns XML data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() = extracts scalar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() = checks conditions on XM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() = returns a rowset of XML nodes that the Xquery expression evaluat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57F0-0A44-4ACE-AFC5-E70B0AB54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msdn.microsoft.com/library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.asp?url=/library/en-us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ql90/html/sql2k5xml.a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5AA9-EF69-4446-9A58-C0D13310F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058120" y="3124080"/>
            <a:ext cx="508032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ABLE docs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 INT PRIMARY KE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Col XML not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EF9C-1A90-419E-8A77-16E443412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ng an XML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65960" y="2666880"/>
            <a:ext cx="875016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docs VALUES (2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&lt;doc id="123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1"&gt;&lt;title&gt;XML Schema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3"&gt;&lt;title&gt;Benefit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ction num="4"&gt;&lt;title&gt;Features&lt;/title&gt;&lt;/se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section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doc&gt;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9F73-778A-489C-A15B-7F20750D6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2 due Saturday 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olution available Tuesday morning (after late day deadline exp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term Next Wednesday. To study (tent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dependencies and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Basics (notation, DTDs, maybe basic x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hw3 is xquery/xpath, so most XML details o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or closed book ex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D721-08B4-4856-A0E9-D63C0EB7F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22480" y="3124080"/>
            <a:ext cx="8721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pk, xCol.query('/doc[@id = 123]//section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82BA-B914-444F-BB7E-07D3DDF11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93360" y="3276720"/>
            <a:ext cx="73634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query('/doc[@id = 123]//section'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xCol.exist ('/doc[@id = 123]'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7AE2-2C73-46A7-8DF4-D4E53E339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58040" y="3200400"/>
            <a:ext cx="879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xCol.valu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data((/doc//section[@num = 3]/title)[1])', 'nvarchar(max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A083-D7D9-4E4E-B05E-B84E9CA5A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88440" y="2895480"/>
            <a:ext cx="747468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ref.value('first-name[1]', 'nvarchar(50)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 First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ref.value('last-name[1]', 'nvarchar(50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  @xVar.nodes('//author') AS R(n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nref.exist('.[first-name != "David"]'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AC97-6DAA-4C65-A558-BC8669359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(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27680" y="3448080"/>
            <a:ext cx="82472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nref.value('@genre', 'varchar(max)') Last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ocs CROSS APP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xCol.nodes('//book') AS R(n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E33D-9D77-4C46-B089-D72C3E11C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“shredded” as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important id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ey decimal numbering of nodes; store in clustered B-tree i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nly odd numbers to allow in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PATH-ID encoding, for efficient processing of postfix expressions like //a/b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more indexes, e.g. on data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7E79-18FB-450E-9460-608B5F9D3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906200" y="1295280"/>
            <a:ext cx="545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BN=“1-55860-438-3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Bad Bu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loves bad bu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PTION=“Sample bu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Tree Frogs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ight-thinki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lov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fr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DBFA-0C27-43C9-B1EA-40267997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80880" y="1758960"/>
            <a:ext cx="84582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0445-04AC-4CD5-8328-2508825FA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990720" y="547560"/>
            <a:ext cx="7277040" cy="5830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1473840" y="63342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se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0321-DD5D-4811-92B7-D475A9368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74240" y="990720"/>
            <a:ext cx="610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BOOK[@ISBN = “1-55860-438-3”]/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4360" y="3498840"/>
            <a:ext cx="79743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erializeXML (N2.ID, 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fosettab N1  JOIN infosettab N2 ON (N1.ID = N2.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1.PATH_ID = PATH_ID(/BOOK/@IS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1.VALUE = '1-55860-438-3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2.PATH_ID = PATH_ID(BOOK/S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rent (N1.ORDPATH) = Parent (N2.ORD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191120" y="190512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F88E-CAA0-4494-A840-E47C3DC82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57320" y="1828800"/>
            <a:ext cx="836568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“97”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/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13F7-FD3A-471F-B6CD-80467E3C4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35440" y="1981080"/>
            <a:ext cx="709272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D9D7-D0D3-470D-AE3C-811497F9C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25240" y="2133720"/>
            <a:ext cx="816228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EC5E-CD2B-4B3B-8CFB-0598906F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08760" y="2362320"/>
            <a:ext cx="7634160" cy="280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AE57-6C90-4CA6-AD3E-078B76560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st-of-text-val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eliminate duplicate “tuples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5520" y="3276720"/>
            <a:ext cx="5094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5791320" y="3886200"/>
            <a:ext cx="609480" cy="485640"/>
          </a:xfrm>
          <a:prstGeom prst="rightArrow">
            <a:avLst>
              <a:gd name="adj1" fmla="val 50000"/>
              <a:gd name="adj2" fmla="val 31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889440" y="5486400"/>
            <a:ext cx="5017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8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00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616D-E48A-4ABD-89E9-8911A3703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88FC-EA8F-4055-A917-37DF23C62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08720" y="243828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8720" y="4343400"/>
            <a:ext cx="5217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5330520" y="2236680"/>
            <a:ext cx="3661560" cy="3980160"/>
            <a:chOff x="5330520" y="2236680"/>
            <a:chExt cx="3661560" cy="3980160"/>
          </a:xfrm>
        </p:grpSpPr>
        <p:sp>
          <p:nvSpPr>
            <p:cNvPr id="80" name="Text Box 4"/>
            <p:cNvSpPr/>
            <p:nvPr/>
          </p:nvSpPr>
          <p:spPr>
            <a:xfrm>
              <a:off x="5330520" y="2236680"/>
              <a:ext cx="366156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5683680" y="4294080"/>
              <a:ext cx="2835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...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/</a:t>
              </a: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resul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4-24T20:23:56Z</dcterms:modified>
  <cp:revision>378</cp:revision>
  <dc:subject/>
  <dc:title>Lecture 09:</dc:title>
</cp:coreProperties>
</file>