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754-EDCF-40C1-AAD5-CFA2B2CB9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A57886-9180-4695-8E2A-F013ED25B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6438-F50D-40C0-BB0F-E9E5F8CBE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F06-F166-4CF3-A276-09E61CED3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C93E-F2D4-428B-819F-4E9D3C337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93E-4CE4-4802-AFB4-9C54EF681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CB6-F10E-4FA6-83A6-D3E879319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819-A44A-4CF6-9364-93280D6CB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26B-241C-45CB-B42C-07A20DBC8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B527-1574-43BA-B425-5CC75D099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448-5F50-44BC-844A-B327E8C5C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9A3C-C151-4CEB-8224-462181BB0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E4FD-116D-4F32-A51D-C52E974D0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DCB-1D7B-4CA9-B964-2FF2FD857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9F7-9197-440D-8953-3F1123931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3DD9-B65C-4150-AA31-CECB0CC47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3C0E-E067-46BA-9B6A-CA82FFD96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104-1F85-40EB-816F-3C172D16E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DEB-2C66-4300-86A4-56DA6171E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2DEC-316D-4F12-A4BC-AF2B1C7C7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A7D6-8B60-40E2-A6FE-D0BC8E435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7CB-C8A2-46B7-A0AF-145B372FA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0FFB-C96F-41BD-83D3-88373E7FA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A168-6E62-4DF7-91B1-46BE75046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81160" y="554040"/>
            <a:ext cx="3641760" cy="273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4760" y="3473280"/>
            <a:ext cx="70502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A61F-35AE-4E4E-92E3-14F5ECD31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C9D-D532-4149-B063-8C7B1B7C7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54C-FA15-4F67-AA82-0244FBA7D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E3DB-451D-40F1-9E26-2549BA25E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266F-0117-469A-8DAD-DFB60770C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8B8-8FBB-4782-9211-D8FB694B9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EB5-DFAB-45CD-A565-9C500848B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3FDC-81E8-40CD-A5C4-8B765E811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0E3B-FAF1-4A2E-BDCE-8EEFF9BAC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BC8F-2F58-4DB8-84EA-A2EF0FBF2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A369-AEED-463B-9EE9-E5AEF3300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7E03-59D8-4C5F-B10F-254490010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003-ECE8-4C74-9F98-E8D5B0239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9FCB-C0B1-4CEA-9142-3D56E0B27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8757-8C52-4FE5-9FA7-8B177816A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062-6274-42BF-9C28-F28265177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F4C3-2611-4E06-9C6C-9C4ED5E0D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615A-1A90-4703-B282-2C926DA7A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746-0E5A-444C-93F5-D110D7CE9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F9F-4FA4-4433-9EA6-90AD6302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56B-2BF0-4DF5-AF98-F2E21B5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F3B-2E4D-461D-BB19-AFF119F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7C7-340E-437B-9574-C692B468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C28-1D6B-48ED-A7E9-33CC672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606-027B-4267-A9AC-0F7D092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0D6-ACBB-4897-82E4-70EC00F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A93-57E0-409F-BBC3-516D6DAD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80B-017A-41C1-9E7A-AE735CA5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674-FA98-43A8-AC82-054932E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275-99EF-4A9D-BB1E-DA5476F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25B-C80F-4532-8F0E-96B4B87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B2B-E0AA-40A1-BAFE-6C82D604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339-E196-4629-8D91-26330867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3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8656-2D9D-4A72-9715-04D12CDF3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75248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D94-F911-4163-9E25-FC9EA844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4280" y="182880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8D2-463F-40CD-B894-D34A1425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46920" y="4965840"/>
            <a:ext cx="338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416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D27-D991-4F2F-BFAF-438D404C5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02240" y="335268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7760" y="44197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0AE-C561-4EAF-8516-011A2425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59360" y="2362320"/>
            <a:ext cx="2219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77640" y="4363920"/>
            <a:ext cx="4921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year = 1998] 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17680" y="5506920"/>
            <a:ext cx="4819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[@year = 19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5601600" y="2269440"/>
            <a:ext cx="2662200" cy="652680"/>
          </a:xfrm>
          <a:prstGeom prst="wedgeEllipseCallout">
            <a:avLst>
              <a:gd name="adj1" fmla="val -82097"/>
              <a:gd name="adj2" fmla="val 10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59000" y="3449520"/>
            <a:ext cx="2852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last(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5778360" y="3402720"/>
            <a:ext cx="2616480" cy="652680"/>
          </a:xfrm>
          <a:prstGeom prst="wedgeEllipseCallout">
            <a:avLst>
              <a:gd name="adj1" fmla="val -82009"/>
              <a:gd name="adj2" fmla="val 10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6266880" y="4255560"/>
            <a:ext cx="2712600" cy="1172520"/>
          </a:xfrm>
          <a:prstGeom prst="wedgeEllipseCallout">
            <a:avLst>
              <a:gd name="adj1" fmla="val -83449"/>
              <a:gd name="adj2" fmla="val -5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of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6131160" y="5551200"/>
            <a:ext cx="2725200" cy="1172520"/>
          </a:xfrm>
          <a:prstGeom prst="wedgeEllipseCallout">
            <a:avLst>
              <a:gd name="adj1" fmla="val -74527"/>
              <a:gd name="adj2" fmla="val -16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book IF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osition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71E-8118-4657-822F-CD7A175B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429720" y="2286000"/>
            <a:ext cx="3452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91240" y="24289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81600" y="3581280"/>
            <a:ext cx="334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03920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639760" y="3581280"/>
            <a:ext cx="3125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77040" y="5257800"/>
            <a:ext cx="393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 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067640" y="53341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411160" y="5181480"/>
            <a:ext cx="362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CE87-3C00-4D07-B141-FE5ADC16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6800" y="4343400"/>
            <a:ext cx="555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/../commen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80520" y="2209680"/>
            <a:ext cx="27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582000" y="49528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185400" y="2743200"/>
            <a:ext cx="4155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. 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4725000" y="2819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6174360" y="2743200"/>
            <a:ext cx="2581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01320" y="5410080"/>
            <a:ext cx="5875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*[comments][review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326760" y="6248520"/>
            <a:ext cx="2241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don’t us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BF4-D398-43BB-9329-8887C3D8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421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1660-1871-402B-98D8-B3494C4D3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22B-F575-409E-BF92-7AC1DAD28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A864-E3FA-4511-9029-4E4B138F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recommend readings in previou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3F4-6CE8-4FE6-8984-3E8D0C080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467-58EA-417B-BDE1-04B56E3F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2F5-E0EA-49B6-BB47-18664A20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R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195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0240" y="2895480"/>
            <a:ext cx="77767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75840" y="4495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written by the system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21400" y="54100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7859-9863-4B6E-81ED-EC5744AA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F225-38BD-48F8-9761-48CE109D8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98040" y="304812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93640" y="5334120"/>
            <a:ext cx="776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5F6-9770-45CC-991C-22E97566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7B3-6753-4877-9F29-35E40479D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2D2-475C-4369-9B43-880E74A3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62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6E3-D62B-4BCD-A95B-3670520F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6700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F35A-6772-4E2B-AAD2-3DA429736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77320" y="3276720"/>
            <a:ext cx="6211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9960" y="5410080"/>
            <a:ext cx="76910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istinct-values applies ONLY to values, NO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EC6-1B40-4F6F-940F-E5335733D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8B0-5C84-47B9-9D22-04CB27663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T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9128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AA14-B65C-4018-A104-875C89317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list of (author, titl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638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721840" y="3870360"/>
            <a:ext cx="327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707440" y="1828800"/>
            <a:ext cx="32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EF0-E133-441A-9DA9-08BA5EFE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5BD9-EC6D-48DE-9716-864E4EE23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8E8-AC76-4C1E-9D06-AA2618DD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004-F3E0-4F67-B309-AE53DCFEC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245" name="Rectangle 6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8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248" name="Rectangle 9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8FC-D215-4F33-9D31-02A474C4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66D-92B4-4FFC-8F54-1ED9A2874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EE5-847D-4503-8812-0C7EC97C7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624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B11B-B913-4A23-AF8D-A3475FD98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66" name="Rectangle 6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7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69" name="Rectangle 9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0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1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72" name="Rectangle 12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13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2B9-1432-4082-A334-5F3320E7F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56E-C286-4645-8356-E7B1F7DF7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AD3-8090-405B-8621-545C3A5DB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DD8A-5C86-4A74-899C-176CD179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5A1-20DA-4193-B863-CDB8E4525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63" name="Oval 4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5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Oval 6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1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378-649C-4848-BDE5-769BA971B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9"/>
          <p:cNvCxnSpPr>
            <a:stCxn id="88" idx="2"/>
            <a:endCxn id="86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0"/>
          <p:cNvCxnSpPr>
            <a:stCxn id="88" idx="6"/>
            <a:endCxn id="87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0CA-E100-4B78-BF3E-17E3CCA95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62840" y="48006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792-0D8D-4C8B-B681-4EBE6906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7600" y="169704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476D-3149-4DC0-BB3F-B673A3EA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4-22T21:36:54Z</dcterms:modified>
  <cp:revision>223</cp:revision>
  <dc:subject/>
  <dc:title>Lecture 09:</dc:title>
</cp:coreProperties>
</file>