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8C8-4753-42D2-A3EF-41074546F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84833E-7E81-4CAC-B232-77FE4309F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B7BF-1247-4EFF-B49A-5265792F1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E68-8D3F-4F55-8A59-3DEC5B938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49F0-EFBA-4FBF-8BA8-3B8D9B865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CD9-6020-49BA-84FA-3A5955D15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86E-B8CF-4933-A69A-A8BD76A58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66E-3840-40BE-B5D8-551854C28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may be non-well formed: e.g. &lt;br&gt; without &lt;/br&gt;.  Better: &lt;br/&gt;; XML must be well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has semantics: &lt;br&gt; means newline, &lt;i&gt; means italic etc.  XML has no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04FA-FE50-4F67-832A-2237CD2D1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34F-EA26-44F6-83DF-DF13FE280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6CDF-C097-4903-B636-85ABB1F42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96A-01B5-4589-AF88-30D40E65A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CCA-5FA5-4013-BF88-E04BC823B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FC68-5FB2-4BAE-8560-68EBE5551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C581-60DC-4EAB-8A99-C0A610B95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239-7296-4023-B8A5-2BB2A6DB5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AFD0-4B65-4B17-8E29-30D7320AB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E30C-48F8-4C60-B641-1D89770D4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77A9-D2AB-4ADF-85CC-1FA2FC18A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5C3C-8759-497F-8BB4-DD360EFB5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341-BBA1-4D4D-9233-70E912AAB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3668-AA5F-40C8-B7BB-D0424F5A1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2CA6-102A-46BB-8B39-CB86DB9B1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1C8-E901-4852-AD8E-A914527D1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8617-E532-437C-88B1-5195405E7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C53C-4678-4F26-9D45-CD6744B68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C58-7E99-477B-A852-37DAA3636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C2A9-F4B5-449D-AA95-7F58D8015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E89-D706-47E9-9A46-48E4020B1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509-01A9-4EC3-9FA3-4268C5554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25EB-AAE2-493D-A650-475CBB9E6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D9F1-2E45-44D0-927F-3AC4ADBAD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8E9-8051-4A9C-A845-E22FB6357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FC11-5CC0-497B-9F78-767491DDA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C81-3484-40D1-8B82-FB3019C07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EB87-F90F-4514-868D-ECDFA1347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0F6-869D-4693-95D8-C77E2AB3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DCA-3287-44D9-BBAC-F76B743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0A2-C4DB-4A17-8D87-5B245258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A81-F775-40AA-932B-1837176A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686-62FE-4A0C-999C-E7C1A49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2BC-3DE9-4E03-AFBB-F6D2C85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109-BD30-43D1-B76B-333F8E3E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1C6-A8AF-459E-A58B-BF1904AE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FA7-32AB-4F5A-8F8B-BF549844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C8B-480B-41C2-BBDE-D272BDC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B2A-FAD4-461C-A8EE-6FB5A72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DE2-C304-4A71-BEBD-BF9F2DF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08F9-C1DB-4B37-BBA5-C617DC165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451F-4F9C-4743-95EA-D472E7F39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1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3D7-982F-4B29-898C-B85ACA52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A0E1-1AFB-4D69-8F8D-F66AC007C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A92F-6163-40EB-ADC0-4F3C8A090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3E1E-70C6-4424-A1BD-A2AB455A0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262400" cy="25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04680" y="2133720"/>
            <a:ext cx="460836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Foundations of DB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A9D-7DC8-481C-B5F8-08A735657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514600"/>
          <a:ext cx="6858000" cy="2997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0BB0-DB8A-47ED-8B50-B2A884DA7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.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ifferences between XML and HTM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6A1-B270-4855-8D9D-478AF8E35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040" y="465120"/>
            <a:ext cx="7691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17720" cy="391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46520" y="2726280"/>
            <a:ext cx="434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just keys/ foreign keys 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omeone who didn’t take 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m: use your 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s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135B-A2DD-4685-9595-8BE50589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2385-98E7-4246-BC9D-93BFC372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00600" y="3886200"/>
          <a:ext cx="3124080" cy="2819520"/>
        </p:xfrm>
        <a:graphic>
          <a:graphicData uri="http://schemas.openxmlformats.org/drawingml/2006/table">
            <a:tbl>
              <a:tblPr/>
              <a:tblGrid>
                <a:gridCol w="1104840"/>
                <a:gridCol w="201924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4E2-FC19-45A7-B613-A7B053CB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0828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A00-1FFA-4D50-A986-10C5618B2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F945-7FC4-41C2-B03B-A532EB57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F56-D022-4EBC-A0AD-448571B34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5440" y="2828880"/>
            <a:ext cx="598248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292720" y="5009040"/>
            <a:ext cx="3567960" cy="1692360"/>
          </a:xfrm>
          <a:prstGeom prst="wedgeEllipseCallout">
            <a:avLst>
              <a:gd name="adj1" fmla="val -38287"/>
              <a:gd name="adj2" fmla="val -147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nothing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; just a un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C2CF-9678-4D7A-9DF7-8DEF28A35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05160" y="3886200"/>
            <a:ext cx="824040" cy="54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898880" y="4267080"/>
            <a:ext cx="663840" cy="67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5819760" y="3605040"/>
            <a:ext cx="1038240" cy="28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35" name="Oval 10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1983-2FC8-4E00-AD08-D9BBA01D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-262800" y="2133720"/>
            <a:ext cx="3899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pl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Thai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62618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51530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74390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85848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500868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660168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736308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1038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429120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60786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9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AutoShape 20"/>
          <p:cNvCxnSpPr>
            <a:stCxn id="140" idx="3"/>
            <a:endCxn id="142" idx="7"/>
          </p:cNvCxnSpPr>
          <p:nvPr/>
        </p:nvCxnSpPr>
        <p:spPr>
          <a:xfrm flipH="1">
            <a:off x="600192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21"/>
          <p:cNvCxnSpPr>
            <a:stCxn id="140" idx="5"/>
            <a:endCxn id="143" idx="1"/>
          </p:cNvCxnSpPr>
          <p:nvPr/>
        </p:nvCxnSpPr>
        <p:spPr>
          <a:xfrm>
            <a:off x="686736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22"/>
          <p:cNvCxnSpPr>
            <a:stCxn id="142" idx="3"/>
            <a:endCxn id="144" idx="7"/>
          </p:cNvCxnSpPr>
          <p:nvPr/>
        </p:nvCxnSpPr>
        <p:spPr>
          <a:xfrm flipH="1">
            <a:off x="4586040" y="2897280"/>
            <a:ext cx="73872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23"/>
          <p:cNvCxnSpPr>
            <a:stCxn id="142" idx="4"/>
            <a:endCxn id="145" idx="0"/>
          </p:cNvCxnSpPr>
          <p:nvPr/>
        </p:nvCxnSpPr>
        <p:spPr>
          <a:xfrm flipH="1">
            <a:off x="55666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24"/>
          <p:cNvCxnSpPr>
            <a:stCxn id="143" idx="3"/>
            <a:endCxn id="146" idx="0"/>
          </p:cNvCxnSpPr>
          <p:nvPr/>
        </p:nvCxnSpPr>
        <p:spPr>
          <a:xfrm flipH="1">
            <a:off x="703980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AutoShape 25"/>
          <p:cNvCxnSpPr>
            <a:stCxn id="143" idx="4"/>
            <a:endCxn id="147" idx="0"/>
          </p:cNvCxnSpPr>
          <p:nvPr/>
        </p:nvCxnSpPr>
        <p:spPr>
          <a:xfrm flipH="1">
            <a:off x="79210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26"/>
          <p:cNvCxnSpPr>
            <a:stCxn id="144" idx="4"/>
            <a:endCxn id="141" idx="0"/>
          </p:cNvCxnSpPr>
          <p:nvPr/>
        </p:nvCxnSpPr>
        <p:spPr>
          <a:xfrm flipH="1">
            <a:off x="4250880" y="4181400"/>
            <a:ext cx="468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27"/>
          <p:cNvCxnSpPr>
            <a:stCxn id="145" idx="3"/>
            <a:endCxn id="148" idx="0"/>
          </p:cNvCxnSpPr>
          <p:nvPr/>
        </p:nvCxnSpPr>
        <p:spPr>
          <a:xfrm flipH="1">
            <a:off x="5058720" y="4039920"/>
            <a:ext cx="1357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28"/>
          <p:cNvCxnSpPr>
            <a:stCxn id="145" idx="4"/>
            <a:endCxn id="149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29"/>
          <p:cNvCxnSpPr>
            <a:stCxn id="145" idx="5"/>
            <a:endCxn id="150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30"/>
          <p:cNvCxnSpPr>
            <a:stCxn id="148" idx="4"/>
            <a:endCxn id="151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31"/>
          <p:cNvCxnSpPr>
            <a:stCxn id="149" idx="4"/>
            <a:endCxn id="152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32"/>
          <p:cNvCxnSpPr>
            <a:stCxn id="150" idx="4"/>
            <a:endCxn id="153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33"/>
          <p:cNvCxnSpPr>
            <a:stCxn id="146" idx="4"/>
            <a:endCxn id="154" idx="0"/>
          </p:cNvCxnSpPr>
          <p:nvPr/>
        </p:nvCxnSpPr>
        <p:spPr>
          <a:xfrm>
            <a:off x="7040160" y="4410000"/>
            <a:ext cx="1422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34"/>
          <p:cNvCxnSpPr>
            <a:stCxn id="147" idx="4"/>
            <a:endCxn id="155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Oval 35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37"/>
          <p:cNvCxnSpPr>
            <a:stCxn id="143" idx="5"/>
            <a:endCxn id="171" idx="0"/>
          </p:cNvCxnSpPr>
          <p:nvPr/>
        </p:nvCxnSpPr>
        <p:spPr>
          <a:xfrm>
            <a:off x="8288280" y="3201840"/>
            <a:ext cx="3326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38"/>
          <p:cNvCxnSpPr>
            <a:stCxn id="171" idx="4"/>
            <a:endCxn id="172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Oval 39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41"/>
          <p:cNvCxnSpPr>
            <a:stCxn id="142" idx="2"/>
            <a:endCxn id="175" idx="7"/>
          </p:cNvCxnSpPr>
          <p:nvPr/>
        </p:nvCxnSpPr>
        <p:spPr>
          <a:xfrm flipH="1">
            <a:off x="4014360" y="2738160"/>
            <a:ext cx="11692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42"/>
          <p:cNvCxnSpPr>
            <a:stCxn id="175" idx="3"/>
            <a:endCxn id="176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9" name="Group 43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80" name="AutoShape 44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45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46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47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B78D-CB07-4659-A260-7CEBF2BA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8F0-6723-4F93-983B-4964F4CFD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160" y="121680"/>
            <a:ext cx="89838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577800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3581280"/>
          <a:ext cx="3504960" cy="182880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48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E2A-0BEB-4B66-9B0B-1CD227212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320" y="121680"/>
            <a:ext cx="89834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2666880"/>
          <a:ext cx="3504960" cy="137160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9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80880" y="4800600"/>
          <a:ext cx="3886200" cy="182880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43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5CE9-74C1-4F01-9CEA-83226AE0D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834200" y="2565360"/>
            <a:ext cx="442620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207840" y="3886200"/>
            <a:ext cx="1811520" cy="566640"/>
          </a:xfrm>
          <a:prstGeom prst="wedgeEllipseCallout">
            <a:avLst>
              <a:gd name="adj1" fmla="val -73601"/>
              <a:gd name="adj2" fmla="val 149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29200" y="5029200"/>
          <a:ext cx="2133720" cy="15541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68C2-C82C-4067-AA0E-68EE454AE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986480" y="2590920"/>
            <a:ext cx="42739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19720" y="5105520"/>
          <a:ext cx="3200400" cy="137160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29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0"/>
          <p:cNvSpPr/>
          <p:nvPr/>
        </p:nvSpPr>
        <p:spPr>
          <a:xfrm>
            <a:off x="6142680" y="3886200"/>
            <a:ext cx="2253240" cy="566640"/>
          </a:xfrm>
          <a:prstGeom prst="wedgeEllipseCallout">
            <a:avLst>
              <a:gd name="adj1" fmla="val -70638"/>
              <a:gd name="adj2" fmla="val -62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0C86-4E0A-4884-921C-FE1E17A5C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6216480" y="3822840"/>
            <a:ext cx="1765800" cy="999720"/>
          </a:xfrm>
          <a:prstGeom prst="wedgeEllipseCallout">
            <a:avLst>
              <a:gd name="adj1" fmla="val -87319"/>
              <a:gd name="adj2" fmla="val -880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8C7-A73B-4492-AE49-34E53D5F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 on XML, but hard to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XM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utorials out of myria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XML/1999/XML-in-10-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zvon.org/xxl/XMLTutorial/General/book_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059200" y="5870880"/>
            <a:ext cx="506484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ad this for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31FD-87EE-4156-8EC2-23BC178E7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7AB6-7154-4A90-9B65-096FC3AB6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what tags and attributes ar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n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how they 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seded by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plex: DTDs still used wid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446-B77F-41EA-A7A3-E058DFB19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9504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D9D-97F0-4FC6-8298-2DF1421D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12372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A9FF-5A22-4551-9678-EA7371921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84032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61376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61E-4B16-423C-A79D-E327A67F1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9480" y="2489040"/>
            <a:ext cx="4363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493600" y="2517840"/>
            <a:ext cx="3352320" cy="92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53360" y="4013280"/>
            <a:ext cx="5301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53720" y="5079960"/>
            <a:ext cx="4651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152280" y="6146640"/>
            <a:ext cx="5397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472428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510552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646240" y="4422600"/>
            <a:ext cx="274248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757-786D-4A00-BFBB-89F51788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reading on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w3.org/TR/xquery-use-cas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uggested r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TR/xquer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laxque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70640" y="5946840"/>
            <a:ext cx="66103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ML/XQuery is NOT covered in the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3F2-D854-42EB-ACE9-E5F0955C8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exible syntax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databases: e.g. propert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files: e.g. Web.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markup: e.g.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- a very nast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05760" y="6062400"/>
            <a:ext cx="4894200" cy="5767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 only XML a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632-99B8-4888-A146-48390DF48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 Ex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syntaxes: CSV (comma-separated-values), ASN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= syntax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: Databa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/transform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: XM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bases o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BAB-2F97-4037-BEA9-2817B7BAA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s have rigid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evolution is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flexible: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data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: not normal form!  Not even 1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ry this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9352-978C-4E4D-94E2-CB752AC5D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7460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D719-416F-4CB7-9618-F0B4556BA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4-19T00:59:22Z</dcterms:modified>
  <cp:revision>239</cp:revision>
  <dc:subject/>
  <dc:title>Lecture 09:</dc:title>
</cp:coreProperties>
</file>