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68B7-0C3E-4E44-A0F4-DF66380CAE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44A7003-5846-4D83-99E9-5BC873F47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37F9-5E84-4B55-8DA2-6EFC33F70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4832-3F90-42D7-AC27-613A0D929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C07B-BAB9-4F04-B98B-B001EDE13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9570-3306-49ED-8836-84CC263753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A977-A0E1-4C85-A4D1-24D8AE598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BBA7-7B5E-48E6-B6A9-87A231A5D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E5E4-D82D-4392-8F70-9531D898A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: color,categor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ice doesn’t 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24A2-CC44-40FA-85C3-779EBA619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F9AD-1EBA-429F-9AB5-BEFE1A6A4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248F-6E9C-4381-AC90-83843BF85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0087-0621-4E15-AD2E-5E8B7E88F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B8DD-10D2-44B7-8BF0-9CF0856BF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5B58-380C-4D15-9D75-FE764A28F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89CA-382E-42C4-8A8F-EF2F8CBB6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0EA8-F7BA-4712-9C0D-D3EF13BD9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0EA2-AA62-4A5C-8021-60E9A7E69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8EB9-63F2-4314-A8B9-E45F708BF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3498-9B78-4F73-821D-3F29EE3E2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F857-A1FB-4A68-B3DD-1193EE326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7335-EFE5-4700-8ECA-4278CFC8C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8550-7E63-4D2E-A439-5DD47B492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67FD-4757-4AE6-88FF-70088775C9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DCE0-FABD-4569-ABB7-83EB681DB9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0CE7-6E99-4ED6-A059-06EC8AF70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C7AE-2781-4906-B6E4-632F111AB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9BC1-D9F2-4617-AF3D-9B60B7932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08B0-BF05-446E-A895-32A4B868C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6819-E289-4AC8-A44F-721BF1F0A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0BED-C84B-4421-95C1-9544FE7F9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A70A-5F8D-4923-8B9A-0D82E9DB32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E9FC-D649-4C81-8539-E39DE578B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E7CF-901C-4651-A0EF-DCEC202A84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56C9-F784-4354-B3F2-F0982A0CE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4CCB-5AC2-433F-ABF3-5DEFD44CE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AE28-C77B-4B95-95F8-05F530896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506B-C7FD-4782-BDA6-A7A169183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16BD-7C45-47AE-A2BA-3890B1526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FB3A-6B16-4A51-96EB-B59F7A873E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FD69-BDC6-4295-B6A4-7356787825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24EC-D456-40D7-88C9-ADAFABC70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BF72-88C9-48C7-AC5B-98E17D635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4F4A-C1F3-465E-96F0-C5414B0FC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D01B-8D6D-4080-811A-BC7400483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BB1D-D68A-4030-A349-D9CC2AFD0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6110-CE7A-463C-BE7E-5EF6E9382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D7B5-1852-4C52-89F2-30FB068FD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D5CE-BE1F-4B6A-A86C-2EFA0308A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E484-9EA2-4846-BF51-77E74AD27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F193-3485-4BA0-81A2-1F78258BD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EFE2-0B31-4692-B12F-99A56E483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518A-FC0B-4109-B56D-670EB9C7A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3C0-DC85-4A10-994A-96842963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1BD-5568-4346-9329-C652AF11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5C8-BFA8-4AA9-85BE-F7E02C14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531-6018-4CAF-A1F2-7F5E6CE7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CBC-5893-478B-B652-2B16E869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7CE-F8FB-44A1-BAA0-C12397CC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38A-DDDF-4D6E-8E8B-772FCAC5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717-D8FF-4F55-8244-0657D8B8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25F-B2CE-4FCC-86BE-F96DF713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FE0-3EE3-43E4-A0EC-E13ED313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969-D780-4885-9958-E4EDAA77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39C-FB67-4401-B86F-C60DD391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1DD0-63E3-4A29-9E6E-475E49117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6389-DC59-463B-B60E-435A96AA9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s 8 &amp; 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16 &amp; 18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E47C-75FE-42E3-9F5A-6C6569FEA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part of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EE08-12F4-425E-9723-DAC9178CC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0168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36728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4136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800720" y="561708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998800" y="3040560"/>
            <a:ext cx="18669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002760" y="4093200"/>
            <a:ext cx="18648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5B70-0555-4576-A4BA-3177D62AC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oes an FD 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in R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t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(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66680" y="3622680"/>
          <a:ext cx="6400800" cy="2246400"/>
        </p:xfrm>
        <a:graphic>
          <a:graphicData uri="http://schemas.openxmlformats.org/drawingml/2006/table">
            <a:tbl>
              <a:tblPr/>
              <a:tblGrid>
                <a:gridCol w="639720"/>
                <a:gridCol w="641520"/>
                <a:gridCol w="638280"/>
                <a:gridCol w="641160"/>
                <a:gridCol w="639720"/>
                <a:gridCol w="639720"/>
                <a:gridCol w="641520"/>
                <a:gridCol w="638280"/>
                <a:gridCol w="641160"/>
                <a:gridCol w="639720"/>
              </a:tblGrid>
              <a:tr h="55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42" name="AutoShape 83"/>
          <p:cNvSpPr/>
          <p:nvPr/>
        </p:nvSpPr>
        <p:spPr>
          <a:xfrm rot="16200000">
            <a:off x="26287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84"/>
          <p:cNvSpPr/>
          <p:nvPr/>
        </p:nvSpPr>
        <p:spPr>
          <a:xfrm rot="16200000">
            <a:off x="51433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6868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6"/>
          <p:cNvSpPr/>
          <p:nvPr/>
        </p:nvSpPr>
        <p:spPr>
          <a:xfrm>
            <a:off x="686520" y="5181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7"/>
          <p:cNvSpPr/>
          <p:nvPr/>
        </p:nvSpPr>
        <p:spPr>
          <a:xfrm>
            <a:off x="3826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A516-F4DF-4FD5-8419-FD1311C17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hone,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 not  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14720" y="1533600"/>
            <a:ext cx="57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F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14400" y="2133720"/>
          <a:ext cx="6629400" cy="259056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2F65-1DDD-431E-BAAF-29DAC55E9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3198240" y="5334120"/>
            <a:ext cx="26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90720" y="2362320"/>
          <a:ext cx="6629400" cy="2590560"/>
        </p:xfrm>
        <a:graphic>
          <a:graphicData uri="http://schemas.openxmlformats.org/drawingml/2006/table">
            <a:tbl>
              <a:tblPr/>
              <a:tblGrid>
                <a:gridCol w="1657080"/>
                <a:gridCol w="1657440"/>
                <a:gridCol w="165744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6EDC-07B3-4500-B777-0FF701548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14400" y="2133720"/>
          <a:ext cx="6629400" cy="259056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r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w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48"/>
          <p:cNvSpPr/>
          <p:nvPr/>
        </p:nvSpPr>
        <p:spPr>
          <a:xfrm>
            <a:off x="2816280" y="5257800"/>
            <a:ext cx="37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not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3349-9359-42CE-A450-FD1AD9ABB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04560" y="1676520"/>
            <a:ext cx="38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ar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ome instances they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thers they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14400" y="3505320"/>
          <a:ext cx="7391520" cy="24127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30"/>
          <p:cNvSpPr/>
          <p:nvPr/>
        </p:nvSpPr>
        <p:spPr>
          <a:xfrm>
            <a:off x="530640" y="61722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instance satisfy all the F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5715000" y="19080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09E7-7AD1-46CA-9BBC-0B4336B20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2514600"/>
          <a:ext cx="7391520" cy="321624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o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-sup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35"/>
          <p:cNvSpPr/>
          <p:nvPr/>
        </p:nvSpPr>
        <p:spPr>
          <a:xfrm>
            <a:off x="532800" y="6172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i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5867280" y="91728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1CBA-6C9F-404B-BA54-D278108EA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esting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41560" y="37339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hese FDs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4724280" y="33555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143000" y="5280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is FD also ho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725000" y="5267520"/>
            <a:ext cx="311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1982520" y="60958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y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97E4-4FB7-47BD-9803-264BA38FF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: Find ALL 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malies occur when certain “bad” FDs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some of the F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Ds, then look for the bad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10F9-D98C-4AA6-BAA4-959822ECB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C476-9EE4-43DD-A030-A13E2862A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strong’s Rule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9144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09768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11" name="Text Box 77"/>
          <p:cNvSpPr/>
          <p:nvPr/>
        </p:nvSpPr>
        <p:spPr>
          <a:xfrm>
            <a:off x="810360" y="2264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8"/>
          <p:cNvSpPr/>
          <p:nvPr/>
        </p:nvSpPr>
        <p:spPr>
          <a:xfrm>
            <a:off x="1406160" y="4422960"/>
            <a:ext cx="266436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FB1E-FED5-406F-8C6E-11DD3871A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strong’s Rule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09624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419720" y="4724280"/>
          <a:ext cx="3085920" cy="182880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18" name="Text Box 49"/>
          <p:cNvSpPr/>
          <p:nvPr/>
        </p:nvSpPr>
        <p:spPr>
          <a:xfrm>
            <a:off x="364284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0"/>
          <p:cNvSpPr/>
          <p:nvPr/>
        </p:nvSpPr>
        <p:spPr>
          <a:xfrm>
            <a:off x="713520" y="2416680"/>
            <a:ext cx="25923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9A3F-A1B7-4F46-AF1A-3C8EDCC73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strong’s Rule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1307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8088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943720" y="3407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954880" y="4474080"/>
            <a:ext cx="4002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939400" y="5464800"/>
            <a:ext cx="39600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6DAE-29BF-42AE-8984-36E090644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3520" y="2514600"/>
          <a:ext cx="8024760" cy="182880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  <a:gridCol w="617760"/>
                <a:gridCol w="617400"/>
                <a:gridCol w="615960"/>
                <a:gridCol w="617400"/>
                <a:gridCol w="617760"/>
                <a:gridCol w="617400"/>
                <a:gridCol w="617400"/>
                <a:gridCol w="6177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B87E-F4E1-4B49-B49E-1239FC9FF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761040" y="20574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85440" y="304812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5029200" y="19839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838080" y="3581280"/>
          <a:ext cx="6782040" cy="3108600"/>
        </p:xfrm>
        <a:graphic>
          <a:graphicData uri="http://schemas.openxmlformats.org/drawingml/2006/table">
            <a:tbl>
              <a:tblPr/>
              <a:tblGrid>
                <a:gridCol w="472464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E606-71EC-485D-A843-B0DB30F68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9062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38080" y="3048120"/>
          <a:ext cx="7772400" cy="3108240"/>
        </p:xfrm>
        <a:graphic>
          <a:graphicData uri="http://schemas.openxmlformats.org/drawingml/2006/table">
            <a:tbl>
              <a:tblPr/>
              <a:tblGrid>
                <a:gridCol w="47246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4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/combine on 5,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3,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 Box 27"/>
          <p:cNvSpPr/>
          <p:nvPr/>
        </p:nvSpPr>
        <p:spPr>
          <a:xfrm>
            <a:off x="5105520" y="15267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837360" y="62406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OO HARD !  Let’s see an easie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F1B6-B708-4154-A1AB-DC7494D6F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725040" y="1625760"/>
            <a:ext cx="7473240" cy="197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et of attributes 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the set of attributes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s.t.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2286000" y="40413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34240" y="4038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06720" y="5029200"/>
            <a:ext cx="85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nam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{name, color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name, category, color, department, price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l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colo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96C2-3AE3-4209-B0A1-20A20C112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58280" y="1946160"/>
            <a:ext cx="4658760" cy="27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is a F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all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990720" y="50292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{                                       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5410080" y="25938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410800" y="1981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708200" y="539424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category, 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1036440" y="60260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2207880" y="6023160"/>
            <a:ext cx="542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AD21-EC26-4B40-AA6D-24005A05B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84852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4060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2846-1AD4-4BEF-994D-C411D6BA4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losure we can find all FD’s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heck i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71E2-64E8-4CD5-B146-E78641905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Refinements = 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Normal Form =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 Normal Form = obso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ce Codd Normal Form = will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rd Normal Form = se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021E-6CCC-4190-9F0C-7104BFFBB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losure to Infer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371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12480" y="327672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21840" y="3782160"/>
            <a:ext cx="79621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ABCD, AC+=AC, AD+=ABC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BC+=BCD,  BD+=BD,  CD+=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602280" y="57913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60696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34DF-09DE-4739-948C-F9A15916C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, or at ho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DEF4-434F-47E9-8D62-7F6A9BB5F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.t. for any other attribute B, we hav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inimal super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set of attributes which is a superkey and for which no subset is a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9931-F9A3-4ADD-B500-E330C8D6F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(Super)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sets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ll attributes, then X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nly the minimal X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FC40-18BF-4B58-B867-EC6979287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2595960" y="2971800"/>
            <a:ext cx="3591360" cy="95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135080" y="4584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BC0A-119E-4A5D-BFFB-7F7C9C3B6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2595960" y="2971800"/>
            <a:ext cx="3591360" cy="95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135080" y="4584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2052720" y="533412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, category) +  = name, category, price,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2055600" y="59436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(name, category) is a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7E3E-103C-473A-9D50-5C4908283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590560" y="3016080"/>
            <a:ext cx="381096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2770920" y="50785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nd keys at h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18FE-F8CC-4750-BE49-19E6E36EA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is OK if X is a (super)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is not OK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B8E4-0085-4666-8F18-B4EB9017E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764280" y="54100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143000" y="1828800"/>
          <a:ext cx="7010280" cy="228600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Rectangle 36"/>
          <p:cNvSpPr/>
          <p:nvPr/>
        </p:nvSpPr>
        <p:spPr>
          <a:xfrm>
            <a:off x="612360" y="4419720"/>
            <a:ext cx="267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7"/>
          <p:cNvSpPr/>
          <p:nvPr/>
        </p:nvSpPr>
        <p:spPr>
          <a:xfrm>
            <a:off x="4951440" y="5715000"/>
            <a:ext cx="35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“bad”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6CF7-085F-404A-AA0E-72C4BFCC6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or Key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have more than one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define FD’s s.t. there are two or mor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FEC6-0164-42F4-AE27-7AD4A278C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Normal Form (1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schema is in First Normal Form if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9480" y="3200400"/>
          <a:ext cx="2743200" cy="34290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666880" y="4172040"/>
          <a:ext cx="457200" cy="7318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666880" y="5153040"/>
          <a:ext cx="457200" cy="4874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676600" y="5972040"/>
          <a:ext cx="457200" cy="4874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52"/>
          <p:cNvSpPr/>
          <p:nvPr/>
        </p:nvSpPr>
        <p:spPr>
          <a:xfrm>
            <a:off x="213840" y="270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410080" y="2743200"/>
          <a:ext cx="1828800" cy="1373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70"/>
          <p:cNvSpPr/>
          <p:nvPr/>
        </p:nvSpPr>
        <p:spPr>
          <a:xfrm>
            <a:off x="541116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72400" y="4876920"/>
          <a:ext cx="914400" cy="12189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486400" y="4583160"/>
          <a:ext cx="1828800" cy="21337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09"/>
          <p:cNvSpPr/>
          <p:nvPr/>
        </p:nvSpPr>
        <p:spPr>
          <a:xfrm>
            <a:off x="5411160" y="418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0"/>
          <p:cNvSpPr/>
          <p:nvPr/>
        </p:nvSpPr>
        <p:spPr>
          <a:xfrm>
            <a:off x="7624440" y="42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11"/>
          <p:cNvSpPr/>
          <p:nvPr/>
        </p:nvSpPr>
        <p:spPr>
          <a:xfrm>
            <a:off x="36576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12"/>
          <p:cNvSpPr/>
          <p:nvPr/>
        </p:nvSpPr>
        <p:spPr>
          <a:xfrm>
            <a:off x="3706560" y="5505480"/>
            <a:ext cx="1740240" cy="912600"/>
          </a:xfrm>
          <a:prstGeom prst="wedgeEllipseCallout">
            <a:avLst>
              <a:gd name="adj1" fmla="val 2263"/>
              <a:gd name="adj2" fmla="val -9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e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d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FC86-0B84-4CA8-B072-5BA41D07C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or Key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have more than one k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define FD’s s.t. there are two or mor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601280" y="4419720"/>
            <a:ext cx="1424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649400" y="4419720"/>
            <a:ext cx="14245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365904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2590560" y="579132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 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105200" y="6235560"/>
            <a:ext cx="65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design FDs such that the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A688-4299-41FB-BE13-FB6F7D5F3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2704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211320" y="4572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: there are no “bad”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70056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,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super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850680" y="5334120"/>
            <a:ext cx="59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l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either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)    or  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B770-C757-4C8B-90F6-3BDE7D02A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4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57652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869080" y="38862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3697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BNC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4950360" y="5943600"/>
            <a:ext cx="39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we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etter algorithm (coming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2ADF-9EC0-498D-B72E-BB6A84691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764280" y="5410080"/>
            <a:ext cx="38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143000" y="1828800"/>
          <a:ext cx="7010280" cy="228600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Rectangle 36"/>
          <p:cNvSpPr/>
          <p:nvPr/>
        </p:nvSpPr>
        <p:spPr>
          <a:xfrm>
            <a:off x="612360" y="4419720"/>
            <a:ext cx="267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37"/>
          <p:cNvSpPr/>
          <p:nvPr/>
        </p:nvSpPr>
        <p:spPr>
          <a:xfrm>
            <a:off x="4950720" y="5715000"/>
            <a:ext cx="316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F0E5-4B16-4D78-9816-D596C9FD5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600200" y="2209680"/>
          <a:ext cx="4514760" cy="118908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1676520" y="3886200"/>
          <a:ext cx="3962160" cy="198108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Rectangle 41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5789880" y="380988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check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9AFD-30E2-42C3-98CA-32E2F4F74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1720" y="167652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669600" y="308916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C97A-1F5C-4658-A4D0-9F51C6E6A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847080" y="1752480"/>
            <a:ext cx="700056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_Decompose(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found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R is in BCNF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Z = [all attributes]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ecompose R into R1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and R2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ontinue to decompose recursively R1 and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BD1A-CD48-46CA-A7F3-067716B50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1588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572400" y="2922480"/>
            <a:ext cx="59781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1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+ = SSN, name,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to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2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+ = age,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opl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ag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Hair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4075560" y="228600"/>
            <a:ext cx="44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X s.t.: X ≠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[all attribut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6"/>
          <p:cNvSpPr/>
          <p:nvPr/>
        </p:nvSpPr>
        <p:spPr>
          <a:xfrm>
            <a:off x="6750360" y="509040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6FF9-AB2E-4D3B-92C4-0AC233D5A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3"/>
          <p:cNvSpPr/>
          <p:nvPr/>
        </p:nvSpPr>
        <p:spPr>
          <a:xfrm>
            <a:off x="6902640" y="4709880"/>
            <a:ext cx="198108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7472880" y="380880"/>
            <a:ext cx="1381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2580840" y="1828800"/>
            <a:ext cx="4386960" cy="121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 ≠ 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232920" y="17784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34720" y="6019920"/>
            <a:ext cx="849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in R we first pick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?  Or 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1209240" y="2844720"/>
            <a:ext cx="7175880" cy="2158920"/>
            <a:chOff x="1209240" y="2844720"/>
            <a:chExt cx="7175880" cy="2158920"/>
          </a:xfrm>
        </p:grpSpPr>
        <p:sp>
          <p:nvSpPr>
            <p:cNvPr id="373" name="Oval 9"/>
            <p:cNvSpPr/>
            <p:nvPr/>
          </p:nvSpPr>
          <p:spPr>
            <a:xfrm>
              <a:off x="1209240" y="3581280"/>
              <a:ext cx="3634560" cy="142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B,C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BC ≠ AB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6464160" y="3657600"/>
              <a:ext cx="1920960" cy="81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D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5" name="AutoShape 11"/>
            <p:cNvCxnSpPr>
              <a:stCxn id="369" idx="3"/>
              <a:endCxn id="373" idx="0"/>
            </p:cNvCxnSpPr>
            <p:nvPr/>
          </p:nvCxnSpPr>
          <p:spPr>
            <a:xfrm flipH="1">
              <a:off x="3025080" y="2844720"/>
              <a:ext cx="205560" cy="73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AutoShape 12"/>
            <p:cNvCxnSpPr>
              <a:stCxn id="369" idx="5"/>
              <a:endCxn id="374" idx="0"/>
            </p:cNvCxnSpPr>
            <p:nvPr/>
          </p:nvCxnSpPr>
          <p:spPr>
            <a:xfrm>
              <a:off x="6318000" y="2844720"/>
              <a:ext cx="1105560" cy="81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77" name="Group 13"/>
          <p:cNvGrpSpPr/>
          <p:nvPr/>
        </p:nvGrpSpPr>
        <p:grpSpPr>
          <a:xfrm>
            <a:off x="294840" y="4700160"/>
            <a:ext cx="5425920" cy="1198080"/>
            <a:chOff x="294840" y="4700160"/>
            <a:chExt cx="5425920" cy="1198080"/>
          </a:xfrm>
        </p:grpSpPr>
        <p:sp>
          <p:nvSpPr>
            <p:cNvPr id="378" name="Oval 14"/>
            <p:cNvSpPr/>
            <p:nvPr/>
          </p:nvSpPr>
          <p:spPr>
            <a:xfrm>
              <a:off x="294840" y="5105520"/>
              <a:ext cx="1968120" cy="79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B,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3724920" y="5062320"/>
              <a:ext cx="1995840" cy="79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,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0" name="AutoShape 16"/>
            <p:cNvCxnSpPr>
              <a:stCxn id="373" idx="3"/>
              <a:endCxn id="378" idx="0"/>
            </p:cNvCxnSpPr>
            <p:nvPr/>
          </p:nvCxnSpPr>
          <p:spPr>
            <a:xfrm flipH="1">
              <a:off x="1278720" y="4700160"/>
              <a:ext cx="46908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17"/>
            <p:cNvCxnSpPr>
              <a:stCxn id="373" idx="5"/>
              <a:endCxn id="379" idx="0"/>
            </p:cNvCxnSpPr>
            <p:nvPr/>
          </p:nvCxnSpPr>
          <p:spPr>
            <a:xfrm>
              <a:off x="4303800" y="4700160"/>
              <a:ext cx="41976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903A-769F-4B7F-9F00-2E6D2BC7E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26072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26080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95832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99248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7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8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B091-E8A0-4AFC-AB9D-ADB163F93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76" name="Rectangle 4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5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7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8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9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1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2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4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17"/>
          <p:cNvSpPr/>
          <p:nvPr/>
        </p:nvSpPr>
        <p:spPr>
          <a:xfrm>
            <a:off x="51732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60912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608400" y="5257800"/>
            <a:ext cx="28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9880" y="3809880"/>
          <a:ext cx="1524240" cy="79236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867280" y="3809880"/>
          <a:ext cx="1905120" cy="5940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800600" y="5181480"/>
          <a:ext cx="1143000" cy="7923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248520" y="5181480"/>
          <a:ext cx="380880" cy="7923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010280" y="5181480"/>
          <a:ext cx="762120" cy="79236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581280" y="5181480"/>
          <a:ext cx="762120" cy="79236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Line 141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2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3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4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45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6"/>
          <p:cNvSpPr/>
          <p:nvPr/>
        </p:nvSpPr>
        <p:spPr>
          <a:xfrm>
            <a:off x="152280" y="320040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47"/>
          <p:cNvSpPr/>
          <p:nvPr/>
        </p:nvSpPr>
        <p:spPr>
          <a:xfrm>
            <a:off x="152280" y="48769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474D-C478-4863-B31D-636C50281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o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Line 62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63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64"/>
          <p:cNvSpPr/>
          <p:nvPr/>
        </p:nvSpPr>
        <p:spPr>
          <a:xfrm>
            <a:off x="333576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14B8-4ADC-433E-892B-BFD0F3A50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Line 60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61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2"/>
          <p:cNvSpPr/>
          <p:nvPr/>
        </p:nvSpPr>
        <p:spPr>
          <a:xfrm>
            <a:off x="667152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63"/>
          <p:cNvSpPr/>
          <p:nvPr/>
        </p:nvSpPr>
        <p:spPr>
          <a:xfrm>
            <a:off x="289512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C53C-7760-40CE-A640-182B20D90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26080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193932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95832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99248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7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8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769680" y="6028560"/>
            <a:ext cx="722628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decomposition is always lossless. 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1548000" y="5334120"/>
            <a:ext cx="50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60E4-D3A6-4932-B64B-33C1CC4AE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ata is rep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date anoma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eed to change in sever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ete anoma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ay lose data when we don’t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C71E-C944-489D-87E2-FDBA691AE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09920" y="4648320"/>
            <a:ext cx="6735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    =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  = Fred moves to “Belle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Joe deletes his phone numb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7548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6680" y="2209680"/>
          <a:ext cx="7010640" cy="158436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  <a:gridCol w="1752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2"/>
          <p:cNvSpPr/>
          <p:nvPr/>
        </p:nvSpPr>
        <p:spPr>
          <a:xfrm>
            <a:off x="528480" y="4038480"/>
            <a:ext cx="80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erson may have multiple phones, but lives in only one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1B58-DCA4-423C-82FA-BA2513CCA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276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3841920"/>
          <a:ext cx="4514760" cy="109692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029200" y="3886200"/>
          <a:ext cx="3657600" cy="14637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39"/>
          <p:cNvSpPr/>
          <p:nvPr/>
        </p:nvSpPr>
        <p:spPr>
          <a:xfrm>
            <a:off x="374400" y="5014800"/>
            <a:ext cx="6052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 are g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ove Fred to “Bellevue” (how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lete all Joe’s phone numbers (how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81080" y="2057400"/>
          <a:ext cx="6248520" cy="146376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Line 67"/>
          <p:cNvSpPr/>
          <p:nvPr/>
        </p:nvSpPr>
        <p:spPr>
          <a:xfrm flipH="1">
            <a:off x="914400" y="28195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68"/>
          <p:cNvSpPr/>
          <p:nvPr/>
        </p:nvSpPr>
        <p:spPr>
          <a:xfrm>
            <a:off x="8254800" y="2867040"/>
            <a:ext cx="3117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1681-7F2F-4E6F-A6BF-7E37632A4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8-04-16T00:19:56Z</dcterms:modified>
  <cp:revision>248</cp:revision>
  <dc:subject/>
  <dc:title>Lecture 10</dc:title>
</cp:coreProperties>
</file>