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5270-1A3D-491C-9E58-69C26C02D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F82A4C-96C0-496F-BF63-0CD0F3C1B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D86E-CF04-4DCA-957D-4763EBF99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0F0-2897-405C-9A2C-7B56F5A97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BC3-98A8-4BFF-BBAA-FEEB1B82E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3A5F-885E-4671-8B2F-88C41FBCF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905-0693-43EF-A050-5574F03DD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48F-23B9-4A06-8208-C2915D553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8F7E-2946-4D73-8DAB-E080BE7B2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FAF-BCE3-4729-8398-3FFA87A5D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979F-6575-4CA8-9DD5-1B3CEBD9C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1D4C-4C46-4287-AC27-3B7F24909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C362-65D3-4F92-8DD3-A93F6DB15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161-53C3-4AFE-8ED2-473FE68B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435-7281-43CA-A05E-C788543C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8C3-CE8E-4626-85F6-BFF8A35B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8A9-2145-4F67-9550-927BD6B8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27F-4075-40B5-BA7A-23A6BE87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878-F30C-4A8D-9D8B-D1B9ED1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09F-86B6-43D1-A535-1F0FD356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76C-809C-47F3-92C2-A850452B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1CC-9CF8-49C6-9AD7-A04BCC26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986-E5C0-49D4-9455-73D7B206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24A-585A-4A85-B08A-3C4E9F4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305-596F-4C44-A7D6-2F25265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E855-442C-46A0-8938-26F007E61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09E5-B842-4217-90E2-C47A8EBB7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4095360"/>
            <a:ext cx="723888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14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A012-3814-4AEF-819A-88422AD7D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201" name="AutoShape 5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12"/>
          <p:cNvSpPr/>
          <p:nvPr/>
        </p:nvSpPr>
        <p:spPr>
          <a:xfrm>
            <a:off x="698760" y="613728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59F2-C659-440D-908B-A46D8C90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73680" y="5943600"/>
            <a:ext cx="779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3EE2-94D4-4B73-B165-F415509C9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399240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73680" y="5943600"/>
            <a:ext cx="7794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given person buys a given product from at most one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store sells to every person at most one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9D1F-7E0E-4803-A236-1471A57D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074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ow do we say that every person shops at at most one st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75120" y="5943600"/>
            <a:ext cx="537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annot.  This is the best approxim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only approxi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014720" y="3343320"/>
            <a:ext cx="1092240" cy="984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828800" y="2743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741840" y="487368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035760" y="3562200"/>
            <a:ext cx="1584360" cy="546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5106960" y="38354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4560840" y="4327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413160" y="3289320"/>
            <a:ext cx="6015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120A-E29A-4C2B-85C6-771C26589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6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7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8331-CFD5-435E-9E1C-A9EA25D6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6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3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B600-7032-46BA-9EAA-3B3E512E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7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1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206-1EAC-4462-90FA-FC74C3EAB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EAD-270A-4A08-B358-01D81957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123C-98CA-490B-B5D5-AD8AF2D99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A322-91FD-4110-B21C-47EB2FFBC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3.2, 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E97A-E74A-4853-8115-04C5A5D88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15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AutoShape 22"/>
          <p:cNvCxnSpPr>
            <a:stCxn id="323" idx="0"/>
            <a:endCxn id="338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23"/>
          <p:cNvCxnSpPr>
            <a:stCxn id="323" idx="0"/>
            <a:endCxn id="324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AutoShape 24"/>
          <p:cNvCxnSpPr>
            <a:stCxn id="323" idx="0"/>
            <a:endCxn id="325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AutoShape 25"/>
          <p:cNvCxnSpPr>
            <a:stCxn id="321" idx="0"/>
            <a:endCxn id="332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AutoShape 26"/>
          <p:cNvCxnSpPr>
            <a:stCxn id="321" idx="3"/>
            <a:endCxn id="322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4" name="Rectangle 27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36E9-6EAA-440A-BA30-08C6F13ED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1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21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AutoShape 22"/>
          <p:cNvCxnSpPr>
            <a:stCxn id="350" idx="0"/>
            <a:endCxn id="365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AutoShape 23"/>
          <p:cNvCxnSpPr>
            <a:stCxn id="350" idx="0"/>
            <a:endCxn id="351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AutoShape 24"/>
          <p:cNvCxnSpPr>
            <a:stCxn id="350" idx="0"/>
            <a:endCxn id="352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AutoShape 25"/>
          <p:cNvCxnSpPr>
            <a:stCxn id="348" idx="0"/>
            <a:endCxn id="359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AutoShape 26"/>
          <p:cNvCxnSpPr>
            <a:stCxn id="348" idx="3"/>
            <a:endCxn id="349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Line 27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D5E-CFB0-45A3-BB9A-43325D07B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5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9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0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Name,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7CF8-46D7-46A2-AD51-6920D3E3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DBD8-6CFA-4C83-BDFB-7DE431E9C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4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5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7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1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4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8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9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BC35-9ED7-4809-A627-303BBDEA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9" name="Rectangle 5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7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32" name="Rectangle 8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35" name="Rectangle 11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Line 13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8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9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0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1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22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47" name="Text Box 23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24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50" name="Text Box 26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53" name="Text Box 29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30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Text Box 31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9E6D-A07D-484B-A960-5CAF6E284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61" name="Rectangle 4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5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6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7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8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0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AutoShape 11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utoShape 12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3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4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5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6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7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18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9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20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21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22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Text Box 70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1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72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79D-873E-4906-BFAE-40AEEFDE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:   classes are disjoint (same for Java,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9" name="Text Box 4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5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6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7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8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9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0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14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9138-7C33-44B2-B38D-BE5B6DEF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O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6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10" name="Text Box 7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8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10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12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13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Oval 15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7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8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3E0F-8907-4D70-9162-86FAAC113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27" name="Text Box 6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7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9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10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11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12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3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Oval 14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6"/>
          <p:cNvSpPr/>
          <p:nvPr/>
        </p:nvSpPr>
        <p:spPr>
          <a:xfrm>
            <a:off x="3352680" y="3263760"/>
            <a:ext cx="3060720" cy="1320840"/>
          </a:xfrm>
          <a:prstGeom prst="pi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7"/>
          <p:cNvSpPr/>
          <p:nvPr/>
        </p:nvSpPr>
        <p:spPr>
          <a:xfrm>
            <a:off x="2286000" y="3530520"/>
            <a:ext cx="2654280" cy="1155960"/>
          </a:xfrm>
          <a:prstGeom prst="pi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9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531720" y="53341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DD8-DEAE-4CAF-A9C5-1DD342A47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ormalisms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3D8-BD04-4C60-A105-F9FA5C03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2442960" y="2517840"/>
            <a:ext cx="4911120" cy="1679040"/>
            <a:chOff x="2442960" y="2517840"/>
            <a:chExt cx="4911120" cy="1679040"/>
          </a:xfrm>
        </p:grpSpPr>
        <p:sp>
          <p:nvSpPr>
            <p:cNvPr id="545" name="Rectangle 4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5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6"/>
            <p:cNvSpPr/>
            <p:nvPr/>
          </p:nvSpPr>
          <p:spPr>
            <a:xfrm>
              <a:off x="5301360" y="3581280"/>
              <a:ext cx="20527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Rectangle 7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7239-7411-40F6-8E97-DFAAC680D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4"/>
          <p:cNvGrpSpPr/>
          <p:nvPr/>
        </p:nvGrpSpPr>
        <p:grpSpPr>
          <a:xfrm>
            <a:off x="1225440" y="3809880"/>
            <a:ext cx="7424280" cy="2558880"/>
            <a:chOff x="1225440" y="3809880"/>
            <a:chExt cx="7424280" cy="2558880"/>
          </a:xfrm>
        </p:grpSpPr>
        <p:sp>
          <p:nvSpPr>
            <p:cNvPr id="553" name="Rectangle 5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6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>
              <a:off x="6597000" y="3809880"/>
              <a:ext cx="20527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AutoShape 8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AutoShape 9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0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FE71-0DFA-46FA-AA3E-4B8AB4555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1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2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AutoShape 13"/>
          <p:cNvCxnSpPr>
            <a:stCxn id="567" idx="0"/>
            <a:endCxn id="565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AutoShape 14"/>
          <p:cNvCxnSpPr>
            <a:stCxn id="568" idx="0"/>
            <a:endCxn id="571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AutoShape 15"/>
          <p:cNvCxnSpPr>
            <a:stCxn id="565" idx="0"/>
            <a:endCxn id="570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AutoShape 16"/>
          <p:cNvCxnSpPr>
            <a:stCxn id="571" idx="0"/>
            <a:endCxn id="570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1DD-D592-42B8-B858-249CDB6C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0116-788F-4EF5-8D70-6E8A4A156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8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1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4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5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6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7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8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9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12600" y="3657600"/>
            <a:ext cx="30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(only primary 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D508-B8EE-455C-9176-A1FDE90FA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3"/>
          <p:cNvSpPr/>
          <p:nvPr/>
        </p:nvSpPr>
        <p:spPr>
          <a:xfrm>
            <a:off x="318492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4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320400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7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CD8-8E0D-4951-8F2F-A9332ABF7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7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0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rc 13"/>
          <p:cNvSpPr/>
          <p:nvPr/>
        </p:nvSpPr>
        <p:spPr>
          <a:xfrm>
            <a:off x="5867280" y="4800600"/>
            <a:ext cx="30492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106164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98460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5A8-1D85-4E63-AC8D-A43D24BC8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5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6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7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D81A-39CD-4A73-92BA-91D5E6C7F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0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11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13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6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8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819000" y="5943600"/>
            <a:ext cx="57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2636-3B51-4106-9BAA-1D806FC51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8BC4-1084-414F-953C-07375877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4"/>
          <p:cNvGrpSpPr/>
          <p:nvPr/>
        </p:nvGrpSpPr>
        <p:grpSpPr>
          <a:xfrm>
            <a:off x="1371600" y="1600200"/>
            <a:ext cx="6400800" cy="3581280"/>
            <a:chOff x="1371600" y="1600200"/>
            <a:chExt cx="6400800" cy="3581280"/>
          </a:xfrm>
        </p:grpSpPr>
        <p:sp>
          <p:nvSpPr>
            <p:cNvPr id="71" name="AutoShape 7"/>
            <p:cNvSpPr/>
            <p:nvPr/>
          </p:nvSpPr>
          <p:spPr>
            <a:xfrm>
              <a:off x="1371600" y="350532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3657600" y="16002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6248520" y="3657600"/>
              <a:ext cx="1523880" cy="1371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51814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H="1">
              <a:off x="2971440" y="22860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 flipV="1">
              <a:off x="21337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>
              <a:off x="2133720" y="4876920"/>
              <a:ext cx="990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 flipH="1">
              <a:off x="5638680" y="4343400"/>
              <a:ext cx="609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AutoShape 29"/>
            <p:cNvCxnSpPr>
              <a:stCxn id="73" idx="0"/>
              <a:endCxn id="68" idx="2"/>
            </p:cNvCxnSpPr>
            <p:nvPr/>
          </p:nvCxnSpPr>
          <p:spPr>
            <a:xfrm flipV="1">
              <a:off x="7010280" y="2666520"/>
              <a:ext cx="49608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80" name="Group 35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grpSp>
          <p:nvGrpSpPr>
            <p:cNvPr id="81" name="Group 33"/>
            <p:cNvGrpSpPr/>
            <p:nvPr/>
          </p:nvGrpSpPr>
          <p:grpSpPr>
            <a:xfrm>
              <a:off x="152280" y="457200"/>
              <a:ext cx="4038840" cy="1828440"/>
              <a:chOff x="152280" y="457200"/>
              <a:chExt cx="4038840" cy="1828440"/>
            </a:xfrm>
          </p:grpSpPr>
          <p:sp>
            <p:nvSpPr>
              <p:cNvPr id="82" name="Oval 12"/>
              <p:cNvSpPr/>
              <p:nvPr/>
            </p:nvSpPr>
            <p:spPr>
              <a:xfrm>
                <a:off x="11430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13"/>
              <p:cNvSpPr/>
              <p:nvPr/>
            </p:nvSpPr>
            <p:spPr>
              <a:xfrm>
                <a:off x="2743200" y="4572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teg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16"/>
              <p:cNvSpPr/>
              <p:nvPr/>
            </p:nvSpPr>
            <p:spPr>
              <a:xfrm>
                <a:off x="152280" y="1371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18"/>
              <p:cNvSpPr/>
              <p:nvPr/>
            </p:nvSpPr>
            <p:spPr>
              <a:xfrm flipH="1" flipV="1">
                <a:off x="1142640" y="198072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19"/>
              <p:cNvSpPr/>
              <p:nvPr/>
            </p:nvSpPr>
            <p:spPr>
              <a:xfrm flipV="1">
                <a:off x="1905120" y="1142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0"/>
              <p:cNvSpPr/>
              <p:nvPr/>
            </p:nvSpPr>
            <p:spPr>
              <a:xfrm flipV="1">
                <a:off x="2514600" y="1142640"/>
                <a:ext cx="7621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31"/>
            <p:cNvGrpSpPr/>
            <p:nvPr/>
          </p:nvGrpSpPr>
          <p:grpSpPr>
            <a:xfrm>
              <a:off x="1295280" y="5486400"/>
              <a:ext cx="6705720" cy="1219320"/>
              <a:chOff x="1295280" y="5486400"/>
              <a:chExt cx="6705720" cy="1219320"/>
            </a:xfrm>
          </p:grpSpPr>
          <p:sp>
            <p:nvSpPr>
              <p:cNvPr id="89" name="Oval 3"/>
              <p:cNvSpPr/>
              <p:nvPr/>
            </p:nvSpPr>
            <p:spPr>
              <a:xfrm>
                <a:off x="1295280" y="601992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4"/>
              <p:cNvSpPr/>
              <p:nvPr/>
            </p:nvSpPr>
            <p:spPr>
              <a:xfrm>
                <a:off x="388620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"/>
              <p:cNvSpPr/>
              <p:nvPr/>
            </p:nvSpPr>
            <p:spPr>
              <a:xfrm>
                <a:off x="6553080" y="59436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26"/>
              <p:cNvSpPr/>
              <p:nvPr/>
            </p:nvSpPr>
            <p:spPr>
              <a:xfrm flipH="1">
                <a:off x="2590920" y="5486400"/>
                <a:ext cx="1676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27"/>
              <p:cNvSpPr/>
              <p:nvPr/>
            </p:nvSpPr>
            <p:spPr>
              <a:xfrm>
                <a:off x="4267080" y="54864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28"/>
              <p:cNvSpPr/>
              <p:nvPr/>
            </p:nvSpPr>
            <p:spPr>
              <a:xfrm>
                <a:off x="5029200" y="5486400"/>
                <a:ext cx="1676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32"/>
            <p:cNvGrpSpPr/>
            <p:nvPr/>
          </p:nvGrpSpPr>
          <p:grpSpPr>
            <a:xfrm>
              <a:off x="7391520" y="685800"/>
              <a:ext cx="1600200" cy="2971800"/>
              <a:chOff x="7391520" y="685800"/>
              <a:chExt cx="1600200" cy="2971800"/>
            </a:xfrm>
          </p:grpSpPr>
          <p:sp>
            <p:nvSpPr>
              <p:cNvPr id="96" name="Oval 14"/>
              <p:cNvSpPr/>
              <p:nvPr/>
            </p:nvSpPr>
            <p:spPr>
              <a:xfrm>
                <a:off x="7543800" y="2971800"/>
                <a:ext cx="144792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pr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15"/>
              <p:cNvSpPr/>
              <p:nvPr/>
            </p:nvSpPr>
            <p:spPr>
              <a:xfrm>
                <a:off x="7391520" y="685800"/>
                <a:ext cx="1447560" cy="685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 flipV="1">
                <a:off x="7772400" y="129528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AutoShape 30"/>
              <p:cNvCxnSpPr>
                <a:stCxn id="68" idx="2"/>
                <a:endCxn id="96" idx="0"/>
              </p:cNvCxnSpPr>
              <p:nvPr/>
            </p:nvCxnSpPr>
            <p:spPr>
              <a:xfrm>
                <a:off x="7505280" y="2666520"/>
                <a:ext cx="762840" cy="30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7D0-342A-47B6-AC83-71F6DC535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8CA2-1ED7-493A-93B4-60698B1C6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= {(1,a),(1,b), . . ., (3,d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114" name="Text Box 5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13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8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AutoShape 19"/>
          <p:cNvSpPr/>
          <p:nvPr/>
        </p:nvSpPr>
        <p:spPr>
          <a:xfrm>
            <a:off x="3821040" y="5843520"/>
            <a:ext cx="746280" cy="67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5165640" y="5992920"/>
            <a:ext cx="108288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438280" y="6180120"/>
            <a:ext cx="1046160" cy="37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67320" y="618012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3484080" y="6180120"/>
            <a:ext cx="33660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E719-C397-4221-81A9-1442E2090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13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46" name="Oval 14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Line 16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9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52" name="Oval 20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22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55" name="Oval 23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Line 25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0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2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D796-6B66-4898-8ABD-A4E23438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5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6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29"/>
          <p:cNvCxnSpPr>
            <a:stCxn id="174" idx="0"/>
            <a:endCxn id="175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0"/>
          <p:cNvCxnSpPr>
            <a:stCxn id="175" idx="2"/>
            <a:endCxn id="179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" name="AutoShape 31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8-04-12T23:20:39Z</dcterms:modified>
  <cp:revision>406</cp:revision>
  <dc:subject/>
  <dc:title>PowerPoint Presentation</dc:title>
</cp:coreProperties>
</file>