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CBFC-C567-4B0D-B59C-5B03242645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EEF2C0-BF91-4EE9-968F-2E12FB5A94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BC29-4AF7-46DE-AA32-B25BA8E129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80D6-4965-42D1-B645-6EE18DDEE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3CED-F8AD-4FD8-A791-811E1199D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1E1A-BC88-4DBE-A695-BA41FFB2B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50C9-830B-4A99-870F-A6E591F0E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A81E-CE13-4C28-A061-4E603B2B5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3E54-9331-4F8F-AA88-C1470A4DF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640E-4E1D-4616-8937-269E478095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BF1F-D914-4D9E-A8AB-ADBA3CA7DE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49DE-2D95-4495-A90D-F4CDE6F1F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63A8-39E9-4C50-B5ED-C90BCE6D0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28C7-DC23-4EA4-B67F-1A7DB8D7D7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B398-E746-4D98-8515-61D2BDA43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0E7D-4235-47FC-9B47-7FDD93DB7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A870-2657-4080-91CC-255DDDA348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2229-0B29-4BCB-B36A-CA9B7CD82F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BEDB-5953-49C4-98D6-23104AC40C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BD8A-183D-4175-B24F-27E9F53056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E71E-D0B2-4D27-BBD5-6406DED73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CFA1-409C-40E6-A3D9-9204EE593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E3B9-93CD-4060-84E8-4C6FA325E8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46FF-29FE-4B77-8F69-48B0AEB5D6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3569-A937-43F4-BE2E-5F0CDFD5D6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C5B-A08B-44D3-A5EA-A0D3D5F7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21D-F34E-4461-85C5-76BB8CAE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784-DE84-4E90-B5B0-6218C248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5F5-562A-4D2D-BACC-8E3F11A0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32E-0896-4011-9577-B82C4CD7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F4A-34F9-4523-99DF-BF549866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FDE-30AD-4B1F-A651-CE7A1F48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CA1-252E-4F76-A05A-B8D17AFC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410-F95F-4C37-8A77-53607ACD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34C-5ECC-43F2-BDE6-DFC1D166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462-2ADC-4FE5-87AD-01BC24F1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2B2-8DDD-4BB4-88AE-94A8ECC5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59DE-FE79-406C-BF62-E7CC4F961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712E-E608-4658-9F05-957C959A9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 C#,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11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01BD-26C2-4BCC-A432-65B5DEFB5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taSet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n important class that allows you to interact with a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Set = a “mini” database (cache)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844C-7EDE-4215-813A-C091F25CF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924840" y="1676520"/>
            <a:ext cx="723384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myLocalDB = new DataSe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/* create inside a table called “books”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/* (this is shown on a following slide)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now use “books”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Table x = myLocalDB.Tables[“books”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ch (DataRow y in x.Rows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y[“title”] == “Harry Potter”) y[“price”]++;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95D3-1BA9-4A37-AAAB-4EFB47451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ng to a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or edit web.confi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iisqlsrv, user, 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a ‘nam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Sql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‘nam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SqlDataAda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 SQL query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the Fill( ) method to run query and store answers in a data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A266-0473-4F9F-BB98-98790B084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16440" y="1930320"/>
            <a:ext cx="828072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create inside a table called “books”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Connection c = new SqlConnection( . . . “name” . . .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q = “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select title, price ye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from produ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where price &lt; 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DataAdapter a = new SqlDataAdapter(q, 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myLocalDB = new DataSe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Fill(myLocalDB, “books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ng to a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596920" y="3561120"/>
            <a:ext cx="3368520" cy="1692360"/>
          </a:xfrm>
          <a:prstGeom prst="wedgeEllipseCallout">
            <a:avLst>
              <a:gd name="adj1" fmla="val -61240"/>
              <a:gd name="adj2" fmla="val -10166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= a string !!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impeda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mat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C534-C20F-4EA1-9970-A3DFF590C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2: Import sampl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7211-8297-44EA-92EB-95599AAE6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ial requi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project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a “good” databas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about this in lecture the next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85D9-259E-4B86-ACF1-454265E76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al: draw an E/R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econd file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969720" y="2819520"/>
            <a:ext cx="4649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 (   . . 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ice (   . . 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036400" y="4495680"/>
            <a:ext cx="3310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09AB-1B02-4EB7-807C-A0D0B1CCE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should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description AND look inside the starter code App_code/Provided/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classes, determine the field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1BC4-E7FD-4A25-9824-A10AF3E37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to worry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/foreign keys: note table order matte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represent all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-able or not (don’t worry too mu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not to worry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name or FirstName or PersonFirst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char(20) or char(200) or varchar(120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9BF8-1B7F-4398-89C5-B2BFE04F6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2: Import Sampl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ay need to run thi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402080" y="1752480"/>
            <a:ext cx="42786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 (   . . 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‘John’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 (   . . 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‘Sue’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036400" y="4495680"/>
            <a:ext cx="3310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63DF-0449-422C-B6D9-ED4413EFD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in C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Chapter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note that it does not talk about C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Ph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26A0-A084-4D9A-AFB2-AABEA33B0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rter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.NET (you do not need to understand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rovides a Website for accessing your online store BUT it misses the fragments of code that get the data from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iisqlsrv.cs.washington.edu/444/Phase1_Example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1334-CF00-4505-BAD7-B4617586A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have to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_Code/Phase1/Billing and Shipping/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41800" y="3429000"/>
            <a:ext cx="6101640" cy="308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partial class Customer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add your own fields, like: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int i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List&lt;invoice&gt; GetInvoices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your GetInvoices code goes here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3590-FCDB-4DE3-ACE5-7BC474FB3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64520" y="1676520"/>
            <a:ext cx="872280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your GetInvoices code goes here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s = String.Format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@“SELECT 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FROM …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WHERE x.customerId = {0} …”, i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Context store = StoreContext.curr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ds = new DataSet(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Table invoices = store.GetDataTable(s, ds, “invoices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continued on next slide….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5981040" y="1905120"/>
            <a:ext cx="2161800" cy="1172520"/>
          </a:xfrm>
          <a:prstGeom prst="wedgeEllipseCallout">
            <a:avLst>
              <a:gd name="adj1" fmla="val -61069"/>
              <a:gd name="adj2" fmla="val 109666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for {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7057800" y="3581280"/>
            <a:ext cx="2099520" cy="1172520"/>
          </a:xfrm>
          <a:prstGeom prst="wedgeEllipseCallout">
            <a:avLst>
              <a:gd name="adj1" fmla="val -98736"/>
              <a:gd name="adj2" fmla="val 133361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A49A-5A8E-48D7-B8A1-B3FC7B211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18120" y="1752480"/>
            <a:ext cx="718956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… continued from previous slide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&lt;Invoice&gt; invoiceList new List&lt;Invoice&gt; (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ch(datarow r in invoices.Rows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iceList.Add(new Invoice( r 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invoice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701600" y="4648320"/>
            <a:ext cx="3296880" cy="1172520"/>
          </a:xfrm>
          <a:prstGeom prst="wedgeEllipseCallout">
            <a:avLst>
              <a:gd name="adj1" fmla="val -52879"/>
              <a:gd name="adj2" fmla="val -6936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you ne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mplemen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5991-BE12-482F-9E73-4CF5C2669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68000" y="1676520"/>
            <a:ext cx="823968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partial class Invoice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voice(DataRow invoiceData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here goes your code, something like that: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(invoiceData);   /* may need it in several places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void init(DataRow invoiceData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iceId  = (int) invoiceData[“invoiceId”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Date = (DateTime) invoiceData[“date”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420120" y="6019920"/>
            <a:ext cx="2292120" cy="652680"/>
          </a:xfrm>
          <a:prstGeom prst="wedgeEllipseCallout">
            <a:avLst>
              <a:gd name="adj1" fmla="val 9356"/>
              <a:gd name="adj2" fmla="val -887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5218560" y="6019920"/>
            <a:ext cx="2300400" cy="652680"/>
          </a:xfrm>
          <a:prstGeom prst="wedgeEllipseCallout">
            <a:avLst>
              <a:gd name="adj1" fmla="val 20583"/>
              <a:gd name="adj2" fmla="val -11212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you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2EE7-6DC9-4038-B871-89D59BC83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Estim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1: about 9 tables or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hours 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2: try 2 tuples per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find out WHAT to modify in starte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eed to DROP TABLEs then go to Ta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ime here: anywhere from 2 to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8760-4204-4059-8BD8-FF6626C32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# - Crash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(getters/set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set: DataTable, Data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ng to a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87240" y="5943600"/>
            <a:ext cx="75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cma-international.org/activities/Languages/Introduction%20to%20Csharp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9031-BCF1-4B4A-8762-67D3F0D30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# - Highl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#   =  C++ Sytnax  +   Java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“safe” language (like Ja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embedded in Web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ccess a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, but you should see the predecessor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AE17-D34F-42FB-B7FA-FBDAE8164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1216080" y="2057400"/>
            <a:ext cx="688644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ystem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Hello 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void Main() {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ole.WriteLine("Hello world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AE0B-9443-4554-9A25-B9203F7B7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38960" y="1523880"/>
            <a:ext cx="4713120" cy="52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class Point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int 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string 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positio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{ return x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 { x = value; c = “red”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ring color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{ return c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{ c = value; x++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: Getters and Se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5148360" y="1905120"/>
            <a:ext cx="3836880" cy="39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uvw = new Po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.position = 5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.color = “green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.positio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.position * 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uvw.color == “green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8259-08DC-43CE-B26C-0CB9349C1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113840" y="18367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ters and setters with […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6880" y="1701720"/>
            <a:ext cx="5820840" cy="308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class Stuff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int x[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this[int i]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{x[2*i+1]=0; return x[2*i]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{ x[2*i] = value; x[2*i+1]=1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501080" y="4724280"/>
            <a:ext cx="39816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ff uvw = new Stuff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[12] = 5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[99] = uvw[12]*7 + 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CE02-B319-4907-8A37-9158789BA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1904040" y="2362320"/>
            <a:ext cx="511416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um Color: byt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= 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= 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 = 4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 = 0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 = Red | Green | Blu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91B9-B9E1-4891-B064-7F7DEBF45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ields defined in fil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fields defined in fi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reate file 1, you create fi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Hal Perkins</cp:lastModifiedBy>
  <dcterms:modified xsi:type="dcterms:W3CDTF">2008-04-11T02:52:57Z</dcterms:modified>
  <cp:revision>411</cp:revision>
  <dc:subject/>
  <dc:title>PowerPoint Presentation</dc:title>
</cp:coreProperties>
</file>