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8A6-B21F-4EB2-929F-AF1B61B28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4B690D-2055-446A-8708-1E6B42467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722C-15BA-4829-94A6-3737E2361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4C5D-0686-40A2-AEFC-8B1139677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3D52-3E51-40DF-A409-8D8CD8EC2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068A-B229-4368-AEC6-A6C853228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89AC-9F1B-440B-AAF6-7981202F7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A593-CC4C-44C4-82AA-E42E693F2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9130-7837-424B-86F0-EF3F69DB9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A821-E936-42E2-8E76-33FC83FA8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FDEC-E6A9-4E3E-91C8-16E66426A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8FC3-AD83-45EB-8E0D-68266BC41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LL !  Because the system doesn’t know where the customers in seattl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9A16-AABA-4F86-8683-4EB22E13C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9FD3-61BF-4AEA-8C52-AB69946C6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AEA1-DF12-4EA1-9826-769D4BF22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AA03-4C2A-4D62-9771-1B23ED03F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6D52-4918-4CED-8729-51E37BFCC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2ADC-4141-4195-AFF5-19F012CC8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B35A-3473-4067-AAB6-40B37DE9B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2A2D-C852-4E95-B062-FB934F34B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8B0B-B0C8-4C98-A62A-1DD1BFB14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B175-CC9E-4A55-A4A4-D680E98AD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33E3-4E95-4E7A-983D-76CE5C598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4ADA-5804-46E4-84F5-58E84FCB8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26F6-0A9D-4B78-A16C-5BF30E1FA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D638-A09E-4417-8030-3B9FEC62A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13A0-C0BF-40F1-8DA2-4569F950D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1AA3-C0BC-4CDF-9BB0-4017B29ED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2C90-321E-4BF0-8975-4E8557104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59EE-7D00-4443-90C3-E164F3E81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55FC-2B06-4C86-9A5C-B852207B8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9F6F-FE4B-4D53-81EE-D98A56189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D96F-2F27-4D69-A244-D9550DA0B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CC06-5122-44A2-B7DC-413BDF97D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88C1-AB40-4930-AE8C-E770AD5F2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866F-2FC5-4CC1-A574-6D7EA5DCB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7E5C-3568-4AA2-9FBD-A23B6A6DB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F4B-B8F3-4C29-B7AB-7FC13E19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808-ACE7-4E32-BE4B-7F4303D4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76C-CA90-4D9A-BDCA-B9456345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F3C-13C4-43F5-9FBB-3E3331FC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50B-7ED0-40EB-92E9-B451B50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4F5-E220-4455-A89A-71B057A8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A04-B1A5-4797-933F-685EA4AB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21D-0FF9-4BA4-A1DC-FA984833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661-30A2-494D-85EF-4E61C8E9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1FE-7111-420A-BC0A-4BA3690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529-27B6-4EF5-A97A-425A101B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DE7-8B28-43C9-B825-201B9A18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8EF9-B2A6-40D1-ACCD-07A5D2E7B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263E-3459-427C-A142-A04336586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Views,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723888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9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E34C-857E-4063-A26F-3D0695B21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About Thi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"/>
          <p:cNvSpPr/>
          <p:nvPr/>
        </p:nvSpPr>
        <p:spPr>
          <a:xfrm>
            <a:off x="4114800" y="4038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154880" y="21337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887280" y="48769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6060-3269-4229-8E12-722B154F2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"/>
          <p:cNvSpPr/>
          <p:nvPr/>
        </p:nvSpPr>
        <p:spPr>
          <a:xfrm>
            <a:off x="4114800" y="4038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154880" y="21337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229040" y="4468680"/>
            <a:ext cx="663336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Purchase x, Product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.product = y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C69D-507F-4A70-93CE-7995D3D2A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Virtual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data indepen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data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data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(view) V reveals only what the users are allowed to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4CB3-85D5-4DC1-8E8A-96980B856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28800" y="1600200"/>
          <a:ext cx="6781680" cy="228600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  <a:gridCol w="1447920"/>
                <a:gridCol w="1447920"/>
                <a:gridCol w="144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4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4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41"/>
          <p:cNvSpPr/>
          <p:nvPr/>
        </p:nvSpPr>
        <p:spPr>
          <a:xfrm>
            <a:off x="306000" y="1600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4952880"/>
          <a:ext cx="2971800" cy="1463760"/>
        </p:xfrm>
        <a:graphic>
          <a:graphicData uri="http://schemas.openxmlformats.org/drawingml/2006/table">
            <a:tbl>
              <a:tblPr/>
              <a:tblGrid>
                <a:gridCol w="990360"/>
                <a:gridCol w="83844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962520" y="4940280"/>
          <a:ext cx="2209680" cy="146376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1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2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400800" y="4952880"/>
          <a:ext cx="2133720" cy="14637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1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2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98"/>
          <p:cNvSpPr/>
          <p:nvPr/>
        </p:nvSpPr>
        <p:spPr>
          <a:xfrm>
            <a:off x="68760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9"/>
          <p:cNvSpPr/>
          <p:nvPr/>
        </p:nvSpPr>
        <p:spPr>
          <a:xfrm>
            <a:off x="3888000" y="449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0"/>
          <p:cNvSpPr/>
          <p:nvPr/>
        </p:nvSpPr>
        <p:spPr>
          <a:xfrm>
            <a:off x="6402600" y="449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01"/>
          <p:cNvSpPr/>
          <p:nvPr/>
        </p:nvSpPr>
        <p:spPr>
          <a:xfrm>
            <a:off x="4191120" y="3962520"/>
            <a:ext cx="11430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CE5B-7914-4F71-893F-8A816A01D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74040" y="2514600"/>
            <a:ext cx="841032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Resu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1.ssn, T1.name, T1.addres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T2.resume, T3.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T1,T2,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T1.ssn=T2.ssn and T2.ssn=T3.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955440" y="5775840"/>
            <a:ext cx="69469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o we use vertical partitioni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5833-4C2F-46DE-8169-B343DFEEA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53440" y="2133720"/>
            <a:ext cx="36219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Res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name = ‘Su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666160" y="4495680"/>
            <a:ext cx="451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tables T1, T2, T3 w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queried by the syst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093-6174-4F96-8C95-16F012766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me fields are large, and rarely ac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istributed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personal info at one site, customer profile at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comes from on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 comes from a differe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E56-C7BC-42DD-B323-51D88C911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2763720"/>
          <a:ext cx="4114800" cy="2649600"/>
        </p:xfrm>
        <a:graphic>
          <a:graphicData uri="http://schemas.openxmlformats.org/drawingml/2006/table">
            <a:tbl>
              <a:tblPr/>
              <a:tblGrid>
                <a:gridCol w="1054080"/>
                <a:gridCol w="851040"/>
                <a:gridCol w="1143000"/>
                <a:gridCol w="106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45"/>
          <p:cNvSpPr/>
          <p:nvPr/>
        </p:nvSpPr>
        <p:spPr>
          <a:xfrm>
            <a:off x="229320" y="18288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410080" y="2590920"/>
          <a:ext cx="3429000" cy="669960"/>
        </p:xfrm>
        <a:graphic>
          <a:graphicData uri="http://schemas.openxmlformats.org/drawingml/2006/table">
            <a:tbl>
              <a:tblPr/>
              <a:tblGrid>
                <a:gridCol w="833400"/>
                <a:gridCol w="735120"/>
                <a:gridCol w="930240"/>
                <a:gridCol w="93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63"/>
          <p:cNvSpPr/>
          <p:nvPr/>
        </p:nvSpPr>
        <p:spPr>
          <a:xfrm>
            <a:off x="5333760" y="21621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sIn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410080" y="3886200"/>
          <a:ext cx="3429000" cy="1006560"/>
        </p:xfrm>
        <a:graphic>
          <a:graphicData uri="http://schemas.openxmlformats.org/drawingml/2006/table">
            <a:tbl>
              <a:tblPr/>
              <a:tblGrid>
                <a:gridCol w="833400"/>
                <a:gridCol w="735120"/>
                <a:gridCol w="930240"/>
                <a:gridCol w="93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86"/>
          <p:cNvSpPr/>
          <p:nvPr/>
        </p:nvSpPr>
        <p:spPr>
          <a:xfrm>
            <a:off x="5324400" y="342576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sIn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410080" y="5410080"/>
          <a:ext cx="3429000" cy="100656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1050840"/>
                <a:gridCol w="93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g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re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109"/>
          <p:cNvSpPr/>
          <p:nvPr/>
        </p:nvSpPr>
        <p:spPr>
          <a:xfrm>
            <a:off x="5327640" y="4981680"/>
            <a:ext cx="24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sIn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0"/>
          <p:cNvSpPr/>
          <p:nvPr/>
        </p:nvSpPr>
        <p:spPr>
          <a:xfrm>
            <a:off x="4419720" y="40384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C671-58AD-4861-A5BB-CED6E4E8A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1960" y="2514600"/>
            <a:ext cx="55983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InHou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InSe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1015-385F-4728-8EAD-5EDA01B30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48160" y="2514600"/>
            <a:ext cx="38199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ty =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10640" y="43434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ables are inspected by the syst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508040" y="58482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2C60-DD08-4A91-834A-9D48AF00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6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872C-6492-4D9C-8A52-19CC7D7DC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58000" y="2209680"/>
            <a:ext cx="744552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LECT * FROM CustomersInHoust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WHERE city = ‘Houston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LECT * FROM CustomersInSe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city = ‘Seattl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04920" y="16160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59BA-3E29-48E1-9B6E-AD6DDA056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305360" y="2057400"/>
            <a:ext cx="38199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ty =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3124080" y="37339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46920" y="5105520"/>
            <a:ext cx="4324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sInSea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FE61-6BA9-4604-A5A5-82E637EFC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rchived applications and act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6E6A-8650-4A61-BED3-FA67C9CC1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672920" y="5257800"/>
            <a:ext cx="5484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Public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Name,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0" y="2666880"/>
          <a:ext cx="457200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57" name="AutoShape 30"/>
          <p:cNvSpPr/>
          <p:nvPr/>
        </p:nvSpPr>
        <p:spPr>
          <a:xfrm>
            <a:off x="191520" y="4706640"/>
            <a:ext cx="1774800" cy="1432800"/>
          </a:xfrm>
          <a:prstGeom prst="wedgeEllipseCallout">
            <a:avLst>
              <a:gd name="adj1" fmla="val 62083"/>
              <a:gd name="adj2" fmla="val 501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2211480" y="2009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32"/>
          <p:cNvSpPr/>
          <p:nvPr/>
        </p:nvSpPr>
        <p:spPr>
          <a:xfrm>
            <a:off x="7052400" y="1436400"/>
            <a:ext cx="1884600" cy="1432800"/>
          </a:xfrm>
          <a:prstGeom prst="wedgeEllipseCallout">
            <a:avLst>
              <a:gd name="adj1" fmla="val -71939"/>
              <a:gd name="adj2" fmla="val 935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A184-5354-4FB8-8B60-22D6BA8CC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920" y="2362320"/>
          <a:ext cx="457200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9"/>
          <p:cNvSpPr/>
          <p:nvPr/>
        </p:nvSpPr>
        <p:spPr>
          <a:xfrm>
            <a:off x="2275200" y="5029200"/>
            <a:ext cx="5667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BadCredi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Balance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0"/>
          <p:cNvSpPr/>
          <p:nvPr/>
        </p:nvSpPr>
        <p:spPr>
          <a:xfrm>
            <a:off x="306720" y="1828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1"/>
          <p:cNvSpPr/>
          <p:nvPr/>
        </p:nvSpPr>
        <p:spPr>
          <a:xfrm>
            <a:off x="5512680" y="1505520"/>
            <a:ext cx="1930320" cy="1866240"/>
          </a:xfrm>
          <a:prstGeom prst="wedgeEllipseCallout">
            <a:avLst>
              <a:gd name="adj1" fmla="val -79254"/>
              <a:gd name="adj2" fmla="val 315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only &lt;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C91F-D228-44C0-BF54-A31B4686D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6324480" y="2438280"/>
            <a:ext cx="2210040" cy="60984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516720" y="3352680"/>
            <a:ext cx="1750680" cy="1172520"/>
          </a:xfrm>
          <a:prstGeom prst="wedgeEllipseCallout">
            <a:avLst>
              <a:gd name="adj1" fmla="val -123782"/>
              <a:gd name="adj2" fmla="val 349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0D73-7DF8-47A4-9E65-C67AC7846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2268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637600" y="37339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6CA6-798F-4348-8965-3AC0B681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4800600"/>
          <a:ext cx="4191120" cy="170172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33"/>
          <p:cNvSpPr/>
          <p:nvPr/>
        </p:nvSpPr>
        <p:spPr>
          <a:xfrm>
            <a:off x="5103360" y="480060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B420-EFEE-4CE0-BE98-EAF1FC245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296000" y="548640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7E9E-0FC3-4F0A-B176-E228D9DAA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8992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6600" y="49528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726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6742080" y="4495680"/>
            <a:ext cx="2341800" cy="1692360"/>
          </a:xfrm>
          <a:prstGeom prst="wedgeEllipseCallout">
            <a:avLst>
              <a:gd name="adj1" fmla="val -93541"/>
              <a:gd name="adj2" fmla="val -96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r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8FF6-749C-4A05-8263-7B2923DC6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680120" y="3962520"/>
            <a:ext cx="51152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‘Developmen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ACB5-2237-4BD7-BA93-B54DA2EF0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029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6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7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8"/>
          <p:cNvSpPr/>
          <p:nvPr/>
        </p:nvSpPr>
        <p:spPr>
          <a:xfrm>
            <a:off x="1523880" y="1905120"/>
            <a:ext cx="373392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3A8D-ACA9-4904-ADF9-7DA0661DC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7800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78FF-F372-4BD0-A0AA-24C6637E1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876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6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7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1371600" y="3962520"/>
            <a:ext cx="373392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FFEF-453C-40AC-BA44-B5E467713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4D16-A8B9-460C-95A5-FCE5BB5A3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9464-7EAF-4F86-A217-59BB70C18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7404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4923000" y="304920"/>
            <a:ext cx="4007520" cy="1692360"/>
          </a:xfrm>
          <a:prstGeom prst="wedgeEllipseCallout">
            <a:avLst>
              <a:gd name="adj1" fmla="val -39486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9A61-60AC-4CEB-8CE8-DA353BBC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2320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A35C-963F-4439-8B45-EFE954D56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291680" y="2819520"/>
            <a:ext cx="631944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x.product = y.p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24880" y="142560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98440" y="5562720"/>
            <a:ext cx="53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(customer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941080" y="563868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t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CB24-59EE-476C-8230-5272007D4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154880" y="41911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3276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24880" y="91440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03360" y="1981080"/>
            <a:ext cx="53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(customer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92CC-606A-44D5-8254-E0F3B9CAC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5990400" y="1351440"/>
            <a:ext cx="2666880" cy="1692360"/>
          </a:xfrm>
          <a:prstGeom prst="wedgeEllipseCallout">
            <a:avLst>
              <a:gd name="adj1" fmla="val -80620"/>
              <a:gd name="adj2" fmla="val 1452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virtu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3DC0-6B25-4B06-AD8C-85E211901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Over View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45600" y="421020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067840" y="2133720"/>
            <a:ext cx="5525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.product = y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34960" y="2666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610560" y="4724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3D8B-370A-4980-A196-A31F0829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Over View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24240" y="2971800"/>
            <a:ext cx="835416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.product = y.pname) u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u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0564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ified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A146-2C90-464B-90DA-AC2903B60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Over View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3440" y="2895480"/>
            <a:ext cx="663336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Purchase x, Product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.product = y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205740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ified and rewritten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8-04-08T21:03:09Z</dcterms:modified>
  <cp:revision>348</cp:revision>
  <dc:subject/>
  <dc:title>PowerPoint Presentation</dc:title>
</cp:coreProperties>
</file>