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A42D-A03B-4EFB-822D-C64E0965A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8980AC9-A482-462B-A941-1375A3642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E119-948B-41F8-B965-39E833B2E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C676-F0C3-451D-BFDB-CF0421792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9312-55DE-45EB-9F4A-6ACF99591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5D1B-73F7-412A-920B-E64557294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1EF2-FDB4-4F1D-9555-5FBB8F15F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A1A0-C580-4BF5-9E11-8A0A213A0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525B-150B-43C3-BBE0-40222B939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6D23-5F32-45F9-A845-BC1CA0D9D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4AF3-4EA9-4946-B9C2-2D431F8D9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FF80-D683-40C0-804E-167C0DC5C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B742-FC7B-4675-9239-AF090E70D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2392-315F-47A6-95E1-B48B285E6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B13B-A8B1-4F15-86CD-6EB204842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FD1A-0D28-4BBF-AAEF-05B2DAF35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FF65-8C20-4307-B683-1D1F92491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2B2C-9423-41D0-807C-9D187F67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CC61-6E95-4829-973C-975034054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7A8D-3CD8-4FC3-AD1C-95EA414EB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6BB9-556A-487A-A30D-06099F0B6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877A-6BC1-47E0-860F-02F2B2373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8386-7851-48C2-BC7B-642E632D4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DD0C-F764-4CC2-A3AD-5A3F20083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6C16-66EB-4AD3-AA68-F8A546819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BB7D-4E6D-4C7A-9B60-5F193982C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0E18-E7F2-4E23-BEB0-6064E75D1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F03B-FE87-4840-A534-AE5A261BE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0AB9-DFD9-4182-A42E-3E070FAFE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66D9-DBBA-471F-8306-26076EDBD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DB92-78C7-45A7-A3A7-6F18EAA1F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8DB4-8F7C-4792-84E9-CA476173B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0B7-E714-4B4C-B811-90AEE74A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363-587C-4026-A3DD-616F43F6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2D1-478C-4BFC-B9EB-BD3861F4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FCE-BE1E-487B-85A4-F28A3C03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B1D-D517-46D0-AB24-1206766C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3D0-D169-418F-BADF-8877CEE2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A6C-036C-4CA9-B112-EFA533DC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915-CDC7-4CA3-8DA8-AD027768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44E-631C-4055-AEFE-ABFDFF31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7C8-1831-4788-977E-4EB4ABFA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4A0-01FF-4F64-A985-B2B2018B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3B8-176E-4F43-A7EE-E830A6C8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3984-65AA-441F-861B-FA0238595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603A-F7F9-46F6-969F-8651EA64A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4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3733920"/>
            <a:ext cx="723888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7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DCF4-1365-4E27-B724-702822761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624240" y="3505320"/>
            <a:ext cx="771408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6C36-1703-4BDB-8566-CE4393AD9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icit joins in SQL = “inner joins”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916200" y="2819520"/>
            <a:ext cx="694440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678680" y="4495680"/>
            <a:ext cx="596916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81240" y="441972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18480" y="5943600"/>
            <a:ext cx="5252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4665-8FF5-4C7D-82A6-56587E03A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955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51E1-81F8-47A5-BBA0-B8B2944D9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029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971800" y="4038480"/>
          <a:ext cx="3048120" cy="25401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56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7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89C5-B470-451C-9BC7-DB323BABB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92880" y="3352680"/>
            <a:ext cx="604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, Purc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895840" y="5943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CEF2-F937-4160-BA17-CA3E90EE4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, for each product, the total number of sales in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month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71480" y="3581280"/>
            <a:ext cx="67719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month = ‘Septemb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292040" y="5943600"/>
            <a:ext cx="66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also get the products who sold in 0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B1BB-CA0D-4F28-A5E3-27B95F9DF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lef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right tuple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27CA-FCD1-442D-A45C-1A76AEEAD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DC06-A5CB-48D5-B8CF-6D97F7E9D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7980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43964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00116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2968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2104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F2D5-FADF-4A9B-8CCF-068AF7D99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75824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9072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7DD5-1CBA-445B-BDF8-C588853E1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 (6.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6267-D485-4B17-8649-D190B5E1D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0"/>
          <p:cNvSpPr/>
          <p:nvPr/>
        </p:nvSpPr>
        <p:spPr>
          <a:xfrm>
            <a:off x="67932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1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2"/>
          <p:cNvSpPr/>
          <p:nvPr/>
        </p:nvSpPr>
        <p:spPr>
          <a:xfrm>
            <a:off x="12204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1311-A1CE-47BE-AA6A-1F00F9D82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6296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173E-C003-4677-AA89-DD3BD6E0C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8700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4191120"/>
          <a:ext cx="3505320" cy="2387520"/>
        </p:xfrm>
        <a:graphic>
          <a:graphicData uri="http://schemas.openxmlformats.org/drawingml/2006/table">
            <a:tbl>
              <a:tblPr/>
              <a:tblGrid>
                <a:gridCol w="1168560"/>
                <a:gridCol w="1168200"/>
                <a:gridCol w="116856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26"/>
          <p:cNvSpPr/>
          <p:nvPr/>
        </p:nvSpPr>
        <p:spPr>
          <a:xfrm>
            <a:off x="471996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7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BF58-F2FD-48FB-8A38-14B28ED47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1256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0756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508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53A9-8A06-402D-89E6-34EFF73E7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3752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7455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4CD8-82FC-4B18-8551-08CD22287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85440" y="1523880"/>
            <a:ext cx="758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se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improv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B7F5-0BB9-40E3-8991-7FAC0FE7F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11600" y="2082960"/>
            <a:ext cx="746064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   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-security-number   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827F-BD37-4A6E-A7A5-95FFC8839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752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979720" y="3505320"/>
            <a:ext cx="454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00240" y="28954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064520" y="579132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600920" y="41148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265560" y="2209680"/>
            <a:ext cx="205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735920" y="2209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6003000" y="21747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with care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FA44-B361-4063-B8CF-7B101D416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2200" y="19461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21640" y="2514600"/>
            <a:ext cx="807012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-security-number 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         CHAR(1) 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80880" y="609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EF1D-BFE7-46C7-8DA0-C2B3957C0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83420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6C3A-A80E-40E4-91D7-4F1550088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tique online music and book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atabase, access through a Web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real data and develop inventory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check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functionality (TB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C962-4151-40E6-BFDB-8BBB102D7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90720" y="45720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3" name="Group 20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184" name="Oval 21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26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27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8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9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Line 30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1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3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4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5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6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7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5181480" y="4114800"/>
            <a:ext cx="106704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9"/>
          <p:cNvSpPr/>
          <p:nvPr/>
        </p:nvSpPr>
        <p:spPr>
          <a:xfrm>
            <a:off x="1444680" y="5638680"/>
            <a:ext cx="56869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iscuss in the second half of th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0B79-EFF6-4164-808E-34614B7E6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3916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46FE-27C9-4A96-83F5-B3E355312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53064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97900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08A4-2D9C-48D5-8E40-EF337E6EF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28480" y="12952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86160" y="3071880"/>
            <a:ext cx="6109200" cy="1008720"/>
            <a:chOff x="686160" y="3071880"/>
            <a:chExt cx="6109200" cy="1008720"/>
          </a:xfrm>
        </p:grpSpPr>
        <p:sp>
          <p:nvSpPr>
            <p:cNvPr id="216" name="Rectangle 5"/>
            <p:cNvSpPr/>
            <p:nvPr/>
          </p:nvSpPr>
          <p:spPr>
            <a:xfrm>
              <a:off x="2514960" y="3071880"/>
              <a:ext cx="428040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 AND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686160" y="3484440"/>
              <a:ext cx="110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lps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7"/>
          <p:cNvGrpSpPr/>
          <p:nvPr/>
        </p:nvGrpSpPr>
        <p:grpSpPr>
          <a:xfrm>
            <a:off x="686160" y="5557680"/>
            <a:ext cx="4551120" cy="1008720"/>
            <a:chOff x="686160" y="5557680"/>
            <a:chExt cx="4551120" cy="1008720"/>
          </a:xfrm>
        </p:grpSpPr>
        <p:sp>
          <p:nvSpPr>
            <p:cNvPr id="219" name="Rectangle 8"/>
            <p:cNvSpPr/>
            <p:nvPr/>
          </p:nvSpPr>
          <p:spPr>
            <a:xfrm>
              <a:off x="2518920" y="5557680"/>
              <a:ext cx="271836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686160" y="586728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t not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0"/>
          <p:cNvGrpSpPr/>
          <p:nvPr/>
        </p:nvGrpSpPr>
        <p:grpSpPr>
          <a:xfrm>
            <a:off x="686520" y="2135160"/>
            <a:ext cx="5780160" cy="703800"/>
            <a:chOff x="686520" y="2135160"/>
            <a:chExt cx="5780160" cy="703800"/>
          </a:xfrm>
        </p:grpSpPr>
        <p:sp>
          <p:nvSpPr>
            <p:cNvPr id="222" name="Rectangle 11"/>
            <p:cNvSpPr/>
            <p:nvPr/>
          </p:nvSpPr>
          <p:spPr>
            <a:xfrm>
              <a:off x="2509560" y="2135160"/>
              <a:ext cx="395712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REATE INDE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oubleindex 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Person (age, ci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2"/>
            <p:cNvSpPr/>
            <p:nvPr/>
          </p:nvSpPr>
          <p:spPr>
            <a:xfrm>
              <a:off x="686520" y="2293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3"/>
          <p:cNvGrpSpPr/>
          <p:nvPr/>
        </p:nvGrpSpPr>
        <p:grpSpPr>
          <a:xfrm>
            <a:off x="685080" y="4314960"/>
            <a:ext cx="3863520" cy="1008720"/>
            <a:chOff x="685080" y="4314960"/>
            <a:chExt cx="3863520" cy="1008720"/>
          </a:xfrm>
        </p:grpSpPr>
        <p:sp>
          <p:nvSpPr>
            <p:cNvPr id="225" name="Rectangle 14"/>
            <p:cNvSpPr/>
            <p:nvPr/>
          </p:nvSpPr>
          <p:spPr>
            <a:xfrm>
              <a:off x="2517480" y="4314960"/>
              <a:ext cx="203112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685080" y="467532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even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B76E-56EE-45B9-AFF2-6389698E0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dex Selec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not build an index on every attribute ? On every pair of attributes ?  Etc.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dex selection problem is hard: balance the query cost v.s. the update cost, in a large application work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3524-2703-4A68-B96C-108A06A05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partner now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erv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Studio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.NET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B2D5-337C-4A5E-BA1C-6B2978D23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1: posted now, due April 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e the database: fake data for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hrough a simple Web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D79F-2EFD-4F4F-824C-126778E5E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we don’t have a value, we can put a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ean many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does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exists but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not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specifies for each attribute if can be null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)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SQL cope with tables that have NULL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B293-F7D3-40AA-9A8A-D26FFF2C6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 there are 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353A-CB1D-4662-A72A-8487BA48A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72560" y="3581280"/>
            <a:ext cx="58258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238520" y="37339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=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th=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45C2-F59F-45E4-86A7-B2FFD19B2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911520" y="3048120"/>
            <a:ext cx="5854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Hal Perkins</cp:lastModifiedBy>
  <dcterms:modified xsi:type="dcterms:W3CDTF">2008-04-06T02:17:35Z</dcterms:modified>
  <cp:revision>233</cp:revision>
  <dc:subject/>
  <dc:title>PowerPoint Presentation</dc:title>
</cp:coreProperties>
</file>