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62E2-2E07-49DD-BA26-D039289070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6B354D4-1C6E-45E2-AEB5-BF36C2DE3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05DF-DFE8-4118-B12B-26E3BCE807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9E73-E93C-43AC-A977-BF11C38E4F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1F40-ED4E-44AC-9D0E-A1345EFD8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F585-837C-4026-9718-05FF7DC8E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0D1D-A9D4-49EE-9C26-4E8544702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AE15-236B-4336-92B2-A411E370D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C473-CA88-491E-8D5E-97DA57C6C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E95E-875E-4590-8087-CC9ACEB01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3B0A-1A65-4794-A0C2-86A138713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5DD0-AA62-4848-B14E-56139AF70C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ECF5-E5FD-40AC-8942-461527072A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3836-4B6A-46C7-AFE4-23125C584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DB3D-86CC-42F8-8561-080CAE771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CDF0-BF80-4CDB-9E4D-D27750B5E3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EDC1-6415-4D9D-A408-E6A31AF4E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0AA0-2952-4207-AB12-13441EF4AC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F1A4-1D18-441F-8C2C-95E02A0E6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7743-4120-4897-8742-FC35FEEF2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8EFE-80AF-4C29-B339-457BC44383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0402-979E-44A3-8581-78FE2D07A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94F6-664A-4E2E-9363-F813486994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3B2A-2E04-4DFA-A3E1-4B7C433D1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389E-2D17-40D4-B8F2-44B29DFBE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B2B3-9AF1-42FF-981C-F7E980B5C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B10B-37C2-41DF-ACFB-1325BD32BF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E84F-64BD-4AD5-9F88-406576BEE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7CE4-1050-494F-A9E4-8AED7C34B8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BC5-C491-43B9-973C-F8964AB8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CA5-A89B-44EF-8225-E6261C50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F73-8521-4541-B553-9CB702A0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3424-696E-4B00-8482-F687D91C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A8C-15F1-4DCB-A6F9-B9F16543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617-C390-438A-A032-AFA89DF2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64A-BE35-4514-B6AF-14B77BD0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F99-41DD-4DFD-AA77-CEF2F039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056-D394-41F3-ADA5-E9DFDFBD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8FB-9C4B-4006-BBC0-61216173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97E-9F42-46A8-93AE-B0644E1E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46F-A72D-4C5B-BF83-FDF0E275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2F5F-2B62-4C72-BB35-D521FE67C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A749-BE27-46C2-8A10-EE9AD6268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8480" y="685440"/>
            <a:ext cx="7721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3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3733920"/>
            <a:ext cx="723888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4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B078-417D-4DAB-B191-3086C4382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536040" y="4648320"/>
            <a:ext cx="7349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981080"/>
          <a:ext cx="4038480" cy="182880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890640"/>
                <a:gridCol w="1128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562720" y="1905120"/>
          <a:ext cx="3429000" cy="180324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</a:tblGrid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S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AutoShape 79"/>
          <p:cNvSpPr/>
          <p:nvPr/>
        </p:nvSpPr>
        <p:spPr>
          <a:xfrm>
            <a:off x="44197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1A29-70C4-4C75-9596-D15CFED6F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1200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57680" y="3505320"/>
            <a:ext cx="862668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10/1/2005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8DC5-CA16-454F-B73C-00B91410D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41320" y="3048120"/>
            <a:ext cx="6156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12"/>
          <p:cNvSpPr/>
          <p:nvPr/>
        </p:nvSpPr>
        <p:spPr>
          <a:xfrm>
            <a:off x="6445800" y="1661400"/>
            <a:ext cx="20890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7CC1-2763-4A52-9D90-7110D3D67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91764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2676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3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399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381A-BBF0-481A-9F44-91DA95189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7280640" y="3276720"/>
            <a:ext cx="1399680" cy="652680"/>
          </a:xfrm>
          <a:prstGeom prst="wedgeEllipseCallout">
            <a:avLst>
              <a:gd name="adj1" fmla="val -26962"/>
              <a:gd name="adj2" fmla="val 17293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E52B-D970-4964-812E-3AD4076E2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7785360" cy="280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FROM-WHERE, apply condition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condition C2 to each group (may have aggreg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087920" y="1981080"/>
            <a:ext cx="2691000" cy="21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2C26-460E-4E07-B92A-9E9E6C7D7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SQ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around INTERSECT and EX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 v.s. sub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xamples (study at ho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4589-3924-4E43-924A-0FEAF4465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NTERSECT and EXCEP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32920" y="228600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729600" y="228600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08880" y="449568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805920" y="449568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27432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6636240" y="1143000"/>
            <a:ext cx="2540880" cy="1862280"/>
          </a:xfrm>
          <a:prstGeom prst="wedgeEllipseCallout">
            <a:avLst>
              <a:gd name="adj1" fmla="val -57490"/>
              <a:gd name="adj2" fmla="val 4325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R, S have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plicates, then c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OW 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35080" y="151560"/>
            <a:ext cx="6001920" cy="5094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 and EXCEPT: not in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2B33-9448-48A5-A241-E2E49410C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91224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28840" y="3352680"/>
            <a:ext cx="77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that 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s with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47480" y="4648320"/>
            <a:ext cx="7518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,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= Product.company and Product.price &lt;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343240" y="588492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Existential: easy  !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B9D3-EC03-4A05-B838-ECF30A66F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91224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80400" y="4495680"/>
            <a:ext cx="75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662920" y="55627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Universal: hard ! 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81480" y="3276720"/>
            <a:ext cx="76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that 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s with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348360" y="388620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22C4-1471-4B74-BF26-2957612CB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(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, examples, exampl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entire chapter 6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62FB-2E1E-4B2F-B4AE-773FD1918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3560" y="434340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87200" y="1828800"/>
            <a:ext cx="71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t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: i.e.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96960" y="2438280"/>
            <a:ext cx="658008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773280" y="4952880"/>
            <a:ext cx="715608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2D74-C80C-4A06-87D6-2D1646789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uthors who wrot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99504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7056000" y="2666880"/>
            <a:ext cx="1713960" cy="1692360"/>
          </a:xfrm>
          <a:prstGeom prst="wedgeEllipseCallout">
            <a:avLst>
              <a:gd name="adj1" fmla="val -96847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00600" y="1447920"/>
            <a:ext cx="3431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F951-9E2C-4BE3-850D-1DE0E2169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833120" y="3962520"/>
            <a:ext cx="500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6983280" y="3733920"/>
            <a:ext cx="1859400" cy="1692360"/>
          </a:xfrm>
          <a:prstGeom prst="wedgeEllipseCallout">
            <a:avLst>
              <a:gd name="adj1" fmla="val -93300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9892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034D-E3CD-4460-ADD4-12599F5BE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roup-by v.s. Nes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3429000"/>
            <a:ext cx="76107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uthors with vocabular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54440" y="43210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28960" y="1676520"/>
            <a:ext cx="3016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2C29-4FE1-46D9-8990-C5628B93E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7240" y="2187720"/>
            <a:ext cx="458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59000" y="3886200"/>
            <a:ext cx="78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stores that se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s with 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stores s.t. all their products have price &gt; 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8801-8F0A-492B-A623-B189F7F91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156960" y="130320"/>
            <a:ext cx="455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&lt; min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452600" y="4494240"/>
            <a:ext cx="5784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price &lt;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188280" y="2133720"/>
            <a:ext cx="8876880" cy="2288520"/>
            <a:chOff x="188280" y="2133720"/>
            <a:chExt cx="8876880" cy="2288520"/>
          </a:xfrm>
        </p:grpSpPr>
        <p:sp>
          <p:nvSpPr>
            <p:cNvPr id="176" name="Rectangle 5"/>
            <p:cNvSpPr/>
            <p:nvPr/>
          </p:nvSpPr>
          <p:spPr>
            <a:xfrm>
              <a:off x="3087000" y="2133720"/>
              <a:ext cx="5978160" cy="228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tore.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00 &lt;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AL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roduct.pri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tore.sid = Product.si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188280" y="2895480"/>
              <a:ext cx="273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most equivalent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AutoShape 7"/>
          <p:cNvSpPr/>
          <p:nvPr/>
        </p:nvSpPr>
        <p:spPr>
          <a:xfrm>
            <a:off x="5891760" y="699480"/>
            <a:ext cx="2279520" cy="652680"/>
          </a:xfrm>
          <a:prstGeom prst="wedgeEllipseCallout">
            <a:avLst>
              <a:gd name="adj1" fmla="val -104870"/>
              <a:gd name="adj2" fmla="val 6934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bot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858A-26A3-45D9-AEF7-E0ED653E0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86880" y="2187720"/>
            <a:ext cx="458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or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s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pname, price, s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914760" y="3886200"/>
            <a:ext cx="464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sto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its most expensiv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1E61-74F3-4BC2-A205-294570E32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127320" y="1905120"/>
            <a:ext cx="5392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max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, Store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511720" y="3962520"/>
            <a:ext cx="5866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x.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27520" y="15238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asy but doesn’t do what we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12760" y="36990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04920" y="4724280"/>
            <a:ext cx="196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na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1B12-A27E-4178-A338-59F9CE198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8920" y="2743200"/>
            <a:ext cx="5866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, max(x.p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87520" y="156528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choose some pid arbitrarily, if there are m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ighest pr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0058-ABBF-45E6-B8E4-599EEA790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187600" y="190512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908640" y="5562720"/>
            <a:ext cx="70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15240" y="19051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83280" y="365760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count, min, max, av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72A3-C2ED-4169-8AC9-18EC2D26B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14800" y="1946160"/>
            <a:ext cx="70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14880" y="2819520"/>
            <a:ext cx="3525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496040" y="274320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57560" y="434340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robably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92280" y="5029200"/>
            <a:ext cx="4912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5203-8928-427B-B391-7B3F8C533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29920" y="198108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766440" y="3352680"/>
            <a:ext cx="412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90120" y="502920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7"/>
          <p:cNvSpPr/>
          <p:nvPr/>
        </p:nvSpPr>
        <p:spPr>
          <a:xfrm>
            <a:off x="6141240" y="4024080"/>
            <a:ext cx="234144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CBA4-7611-4242-BE12-B4F656D2D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30420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0720" y="1905120"/>
          <a:ext cx="6476760" cy="2895480"/>
        </p:xfrm>
        <a:graphic>
          <a:graphicData uri="http://schemas.openxmlformats.org/drawingml/2006/table">
            <a:tbl>
              <a:tblPr/>
              <a:tblGrid>
                <a:gridCol w="1619280"/>
                <a:gridCol w="1619280"/>
                <a:gridCol w="1618920"/>
                <a:gridCol w="1619280"/>
              </a:tblGrid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48"/>
          <p:cNvSpPr/>
          <p:nvPr/>
        </p:nvSpPr>
        <p:spPr>
          <a:xfrm>
            <a:off x="461520" y="518148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9"/>
          <p:cNvSpPr/>
          <p:nvPr/>
        </p:nvSpPr>
        <p:spPr>
          <a:xfrm>
            <a:off x="502920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0"/>
          <p:cNvSpPr/>
          <p:nvPr/>
        </p:nvSpPr>
        <p:spPr>
          <a:xfrm>
            <a:off x="6629760" y="55627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 (= 20+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7D6E-0C17-4351-A3C3-56672D1D1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85480" y="164160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36040" y="3733920"/>
            <a:ext cx="7349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date &gt; ‘10/1/20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4976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53960" y="259092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otal sales after 10/1/2005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DC55-A56A-41DD-8A29-85AE08676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76920" y="2209680"/>
            <a:ext cx="843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: grouped attributes and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F89C-35BC-4690-AE40-375980F73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&amp;2. FROM-WHERE-GROUP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66680" y="2438280"/>
          <a:ext cx="6477120" cy="2894040"/>
        </p:xfrm>
        <a:graphic>
          <a:graphicData uri="http://schemas.openxmlformats.org/drawingml/2006/table">
            <a:tbl>
              <a:tblPr/>
              <a:tblGrid>
                <a:gridCol w="1619280"/>
                <a:gridCol w="1619280"/>
                <a:gridCol w="1619280"/>
                <a:gridCol w="161928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Hal Perkins</cp:lastModifiedBy>
  <dcterms:modified xsi:type="dcterms:W3CDTF">2008-04-02T22:49:45Z</dcterms:modified>
  <cp:revision>338</cp:revision>
  <dc:subject/>
  <dc:title>PowerPoint Presentation</dc:title>
</cp:coreProperties>
</file>