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1ADF-C576-45AB-8768-87B0CCA23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432253C-2DBE-4BB5-A785-EE49AE1F6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865-75B8-488B-8F6D-6EFB70FD9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B4A-E5E0-4090-87F6-829E8F967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05A-45A8-4900-BEB9-6F385FC04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ED4E-26B8-4062-9ECF-E0FD127C7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446-2552-45D9-BF29-D33185DB7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C1D0-FB91-4973-97E9-67FCA2A95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EC7D-A99A-415B-A1B5-1034AE529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BF6D-3011-4AD1-AFC8-09D42973E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655-6AE6-49BE-8028-2503CE518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71EB-E3AA-4E38-911A-A123F50A7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3B47-0786-4903-A4E4-588BC448A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D83D-5BC3-449A-9573-1CAA9797D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70A5-5B51-410E-9608-B46001C95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09D8-67F9-445A-B6CA-0F7D9734B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707-59EE-4ACC-B0E1-78FE60084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C5A3-5864-4047-8770-B991AAE10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AD7B-9EB5-4C0A-81C2-37841E2DF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B97-02E9-48DC-AE1F-5CA155CAD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1A6-BBED-440C-99CA-A8CC1BB16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9E6E-2CD9-4A2F-BDF0-96F78904B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BA72-41E5-48C2-B7A2-9DDE7A9F5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7C1D-2573-4D9A-9C05-733987CBD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5ADF-7605-4652-99D3-3EAB7E88D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A0E8-16C7-4009-8647-2669B09ED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BEF3-A2F1-4B00-B750-AF2651F03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60E-6971-4DA7-941F-C8BEE7883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BAD0-5AA1-4B7A-96AF-2CDD045BB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095F-A2DA-4DD8-8F15-627F72603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B28-C7BC-40BB-9D03-D13FF68E0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003-8B40-4AFE-89DC-DD99E6BB7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75B-9F35-43BB-BC7E-D827EC5F6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54FB-8A8C-4346-95DD-0C12CBC96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C191-9F74-44A8-AF22-081A0C0F6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A64-48B0-4DB0-BAF3-FF7348E97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B4F-9F87-47EE-BBCB-0F0ED38A8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453-AB45-4BF3-89DF-4C477ADD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6A6-5786-4C31-9ACC-25C750F0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03B-079D-45B8-970B-B90972B6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4EF-6309-4F7C-B917-3CD42516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445-8896-46D8-99AB-5E39025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120-0265-4A89-85A8-A11E77EA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A3E-9AE5-4C84-AAF8-123F19C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C6A-7215-4529-A5E2-E8E117FB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AB5-F99F-4E98-A345-7DCD60FF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C36-E313-4CD2-B2C8-170165D5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751-6992-4F20-B389-89A4731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2BE-0FD9-407E-83E6-862D6BD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2C78-2F28-4983-ADED-60787A734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5AFD-15E2-4FD0-80B6-5F0E78E43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D409-DD6D-4C53-BC8C-EA4008BE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216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301040" y="3957480"/>
            <a:ext cx="444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one or more rel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D584-F74A-46F6-9CB9-4929415A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352680" y="1981080"/>
          <a:ext cx="5410440" cy="167652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35"/>
          <p:cNvSpPr/>
          <p:nvPr/>
        </p:nvSpPr>
        <p:spPr>
          <a:xfrm>
            <a:off x="23328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7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76720" y="5257800"/>
          <a:ext cx="5410080" cy="10065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Oval 71"/>
          <p:cNvSpPr/>
          <p:nvPr/>
        </p:nvSpPr>
        <p:spPr>
          <a:xfrm>
            <a:off x="27216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0CB7-9802-466F-8BFA-E64B196D8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352680" y="1981080"/>
          <a:ext cx="5410440" cy="167652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5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7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114800" y="5257800"/>
          <a:ext cx="4057560" cy="10065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Oval 62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2B7F-0B27-4F60-9D03-26B07931E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395496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7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6"/>
          <p:cNvSpPr/>
          <p:nvPr/>
        </p:nvSpPr>
        <p:spPr>
          <a:xfrm>
            <a:off x="464328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7"/>
          <p:cNvSpPr/>
          <p:nvPr/>
        </p:nvSpPr>
        <p:spPr>
          <a:xfrm>
            <a:off x="6210360" y="1752480"/>
            <a:ext cx="2653560" cy="652680"/>
          </a:xfrm>
          <a:prstGeom prst="wedgeEllipseCallout">
            <a:avLst>
              <a:gd name="adj1" fmla="val -37972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8"/>
          <p:cNvSpPr/>
          <p:nvPr/>
        </p:nvSpPr>
        <p:spPr>
          <a:xfrm>
            <a:off x="3552840" y="6019920"/>
            <a:ext cx="2941560" cy="652680"/>
          </a:xfrm>
          <a:prstGeom prst="wedgeEllipseCallout">
            <a:avLst>
              <a:gd name="adj1" fmla="val 20055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28F0-1B0C-4C25-8F70-BB7B36E75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insensi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SELECT  Select 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: Product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: ‘Seattle’ 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’ 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” -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285-31C6-4AA9-817F-9DDCA3BC7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26640" y="1981080"/>
            <a:ext cx="55317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5ABC-82C6-45C8-8266-D927C677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932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45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324480" y="4343400"/>
          <a:ext cx="1352520" cy="16765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1905120"/>
          <a:ext cx="1352520" cy="13413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AutoShape 55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6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61F-35A5-4DB9-BDCD-5A325214F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572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3812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F36-A61F-40E7-AD11-C873ACEE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89520" y="377208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29000" y="228600"/>
          <a:ext cx="5410080" cy="167652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AutoShape 37"/>
          <p:cNvSpPr/>
          <p:nvPr/>
        </p:nvSpPr>
        <p:spPr>
          <a:xfrm>
            <a:off x="51055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83120" y="2209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38844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388440" y="541008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51814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68594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5181480" y="571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6859440" y="52578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560-726B-45C1-89B6-23DAE9351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and Foreig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4724280"/>
          <a:ext cx="6324480" cy="1828800"/>
        </p:xfrm>
        <a:graphic>
          <a:graphicData uri="http://schemas.openxmlformats.org/drawingml/2006/table">
            <a:tbl>
              <a:tblPr/>
              <a:tblGrid>
                <a:gridCol w="1638360"/>
                <a:gridCol w="1257120"/>
                <a:gridCol w="167652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36"/>
          <p:cNvSpPr/>
          <p:nvPr/>
        </p:nvSpPr>
        <p:spPr>
          <a:xfrm>
            <a:off x="305640" y="4194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1602000" y="1603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2133720"/>
          <a:ext cx="4419720" cy="193032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44792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AutoShape 107"/>
          <p:cNvSpPr/>
          <p:nvPr/>
        </p:nvSpPr>
        <p:spPr>
          <a:xfrm>
            <a:off x="196920" y="2650320"/>
            <a:ext cx="977760" cy="652680"/>
          </a:xfrm>
          <a:prstGeom prst="wedgeEllipseCallout">
            <a:avLst>
              <a:gd name="adj1" fmla="val 108444"/>
              <a:gd name="adj2" fmla="val -9988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8"/>
          <p:cNvSpPr/>
          <p:nvPr/>
        </p:nvSpPr>
        <p:spPr>
          <a:xfrm>
            <a:off x="7427880" y="4600080"/>
            <a:ext cx="1605240" cy="1172520"/>
          </a:xfrm>
          <a:prstGeom prst="wedgeEllipseCallout">
            <a:avLst>
              <a:gd name="adj1" fmla="val -111476"/>
              <a:gd name="adj2" fmla="val -2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3BBE-664E-4A0B-8BEA-EED7889E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Fri., April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ISQLSRV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today’s reading assig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you remember what it wa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0: Who’s your part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next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809A-4D27-4CFA-95AA-57A0383A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14732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2438280" y="3200400"/>
            <a:ext cx="6395040" cy="2209680"/>
            <a:chOff x="2438280" y="3200400"/>
            <a:chExt cx="6395040" cy="2209680"/>
          </a:xfrm>
        </p:grpSpPr>
        <p:sp>
          <p:nvSpPr>
            <p:cNvPr id="153" name="Oval 6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>
              <a:off x="5675040" y="3200400"/>
              <a:ext cx="3158280" cy="1692360"/>
            </a:xfrm>
            <a:prstGeom prst="wedgeEllipseCallout">
              <a:avLst>
                <a:gd name="adj1" fmla="val -77064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5829-60F0-4F15-95AC-159E5770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2133720"/>
          <a:ext cx="4114800" cy="1371600"/>
        </p:xfrm>
        <a:graphic>
          <a:graphicData uri="http://schemas.openxmlformats.org/drawingml/2006/table">
            <a:tbl>
              <a:tblPr/>
              <a:tblGrid>
                <a:gridCol w="1047960"/>
                <a:gridCol w="857160"/>
                <a:gridCol w="106668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36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105520" y="2209680"/>
          <a:ext cx="3809880" cy="109692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61" name="AutoShape 72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73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74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AutoShape 75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65" name=""/>
          <p:cNvGraphicFramePr/>
          <p:nvPr/>
        </p:nvGraphicFramePr>
        <p:xfrm>
          <a:off x="6019920" y="5257800"/>
          <a:ext cx="1904760" cy="54936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AutoShape 114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17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68" name="Oval 76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77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16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Rectangle 118"/>
          <p:cNvSpPr/>
          <p:nvPr/>
        </p:nvSpPr>
        <p:spPr>
          <a:xfrm>
            <a:off x="77400" y="4419720"/>
            <a:ext cx="5406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565-9467-4C10-95F4-EC3EC07B3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hinese companies that manufacture products both in the ‘electronic’ and ‘toy’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845640" y="4191120"/>
            <a:ext cx="71301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na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B173-B1B3-49A5-BEBB-F065BE8ED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4168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DC64-3F6B-4454-BA59-66587D0E0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2133720"/>
          <a:ext cx="4114800" cy="1371600"/>
        </p:xfrm>
        <a:graphic>
          <a:graphicData uri="http://schemas.openxmlformats.org/drawingml/2006/table">
            <a:tbl>
              <a:tblPr/>
              <a:tblGrid>
                <a:gridCol w="1047960"/>
                <a:gridCol w="857160"/>
                <a:gridCol w="106668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5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105520" y="2209680"/>
          <a:ext cx="3809880" cy="109692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88" name="AutoShape 59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AutoShape 60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AutoShape 61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62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2" name="Oval 64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77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553080" y="5181480"/>
          <a:ext cx="1270080" cy="109692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Oval 102"/>
          <p:cNvSpPr/>
          <p:nvPr/>
        </p:nvSpPr>
        <p:spPr>
          <a:xfrm>
            <a:off x="451440" y="5524200"/>
            <a:ext cx="2238120" cy="8643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"/>
          <p:cNvSpPr/>
          <p:nvPr/>
        </p:nvSpPr>
        <p:spPr>
          <a:xfrm>
            <a:off x="62136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9CA-1226-4B8B-9414-23695E1BA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btlety about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280" y="2133720"/>
          <a:ext cx="4114800" cy="1371600"/>
        </p:xfrm>
        <a:graphic>
          <a:graphicData uri="http://schemas.openxmlformats.org/drawingml/2006/table">
            <a:tbl>
              <a:tblPr/>
              <a:tblGrid>
                <a:gridCol w="1047960"/>
                <a:gridCol w="857160"/>
                <a:gridCol w="106668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35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105520" y="2209680"/>
          <a:ext cx="3809880" cy="109692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203" name="AutoShape 59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AutoShape 60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AutoShape 61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AutoShape 62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7" name="Oval 63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4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553080" y="5181480"/>
          <a:ext cx="1270080" cy="82260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" name="Oval 77"/>
          <p:cNvSpPr/>
          <p:nvPr/>
        </p:nvSpPr>
        <p:spPr>
          <a:xfrm>
            <a:off x="575640" y="5340240"/>
            <a:ext cx="2004840" cy="123048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8"/>
          <p:cNvSpPr/>
          <p:nvPr/>
        </p:nvSpPr>
        <p:spPr>
          <a:xfrm>
            <a:off x="62136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46E0-DD54-4D52-8ACF-F9FA3B897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073160" y="28195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6462360" y="23605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06000" y="1752480"/>
            <a:ext cx="50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2"/>
          <p:cNvGrpSpPr/>
          <p:nvPr/>
        </p:nvGrpSpPr>
        <p:grpSpPr>
          <a:xfrm>
            <a:off x="533520" y="4152960"/>
            <a:ext cx="8339760" cy="1191240"/>
            <a:chOff x="533520" y="4152960"/>
            <a:chExt cx="8339760" cy="1191240"/>
          </a:xfrm>
        </p:grpSpPr>
        <p:sp>
          <p:nvSpPr>
            <p:cNvPr id="218" name="Rectangle 5"/>
            <p:cNvSpPr/>
            <p:nvPr/>
          </p:nvSpPr>
          <p:spPr>
            <a:xfrm>
              <a:off x="1834560" y="4152960"/>
              <a:ext cx="70387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on.pname, Compan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, Compan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.worksfor = Compan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10"/>
            <p:cNvSpPr/>
            <p:nvPr/>
          </p:nvSpPr>
          <p:spPr>
            <a:xfrm>
              <a:off x="533520" y="4648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533520" y="5486400"/>
            <a:ext cx="6629040" cy="1191240"/>
            <a:chOff x="533520" y="5486400"/>
            <a:chExt cx="6629040" cy="1191240"/>
          </a:xfrm>
        </p:grpSpPr>
        <p:sp>
          <p:nvSpPr>
            <p:cNvPr id="221" name="Rectangle 9"/>
            <p:cNvSpPr/>
            <p:nvPr/>
          </p:nvSpPr>
          <p:spPr>
            <a:xfrm>
              <a:off x="1835280" y="5486400"/>
              <a:ext cx="5327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ISTIN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.pname, y.address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Person AS x, Company AS y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worksfor = y.c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533520" y="56865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F553-FF80-429D-8905-BE6CCA28D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5430600" cy="11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09400" y="3505320"/>
            <a:ext cx="7746120" cy="29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A4B-669E-4320-A81D-9FA03B78D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067120" y="2743200"/>
            <a:ext cx="4658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intuitiv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907560" y="5562720"/>
            <a:ext cx="6540120" cy="459720"/>
            <a:chOff x="907560" y="5562720"/>
            <a:chExt cx="6540120" cy="459720"/>
          </a:xfrm>
        </p:grpSpPr>
        <p:sp>
          <p:nvSpPr>
            <p:cNvPr id="231" name="Rectangle 7"/>
            <p:cNvSpPr/>
            <p:nvPr/>
          </p:nvSpPr>
          <p:spPr>
            <a:xfrm>
              <a:off x="907560" y="5562720"/>
              <a:ext cx="30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s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4953600" y="556272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t what if S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10"/>
          <p:cNvSpPr/>
          <p:nvPr/>
        </p:nvSpPr>
        <p:spPr>
          <a:xfrm>
            <a:off x="2912400" y="44719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compu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185B-EEB4-4713-8815-A6924221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13080" y="388620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46400" y="297180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ities where one can find companies that manufa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bought by Joe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457560" y="1600200"/>
            <a:ext cx="42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city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make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roduct, bu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678C-F916-4E09-9A64-B408C01FF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8342-1D52-4680-9F87-982B081E5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299960" y="31021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5520" y="20224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equivalent to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294920" y="586728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65E0-66FD-497F-AFB8-CFC1E350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31556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13080" y="1676520"/>
            <a:ext cx="75189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 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pname=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90480" y="4648320"/>
            <a:ext cx="640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p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03A9-EC99-4690-91AC-70985473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6572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0444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84060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81FA-2AB5-43EC-BA4E-8A3B2FB8E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DCDC-C2E5-473D-B39B-D50B4CFCA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otone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ry Q 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we add tuples to one or more of the tabl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swer to the query cannot contain fewer t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:  all SFW (select-from-where) queries are monot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: A query with ALL is not 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: we cannot rewrite an ALL query into a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D28-87A2-48CE-9B2E-F006CF7DF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29852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624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-648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7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5768-959C-43A3-A282-609D0E6D9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Very powerful ! Also much harder to optim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0501-4065-43E0-BED5-5792F4840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6072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8480" y="3200400"/>
            <a:ext cx="87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,  SQL92 (a.k.a. SQL2),  SQL99 (a.k.a. SQL3)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: watch for fun discussions in cla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9C42-8B42-4509-B4E4-24C1A45A1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827-32BC-4EAC-9A99-4AF375780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2209680"/>
          <a:ext cx="7696080" cy="355608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56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7"/>
          <p:cNvSpPr/>
          <p:nvPr/>
        </p:nvSpPr>
        <p:spPr>
          <a:xfrm>
            <a:off x="5901120" y="304920"/>
            <a:ext cx="3041280" cy="652680"/>
          </a:xfrm>
          <a:prstGeom prst="wedgeEllipseCallout">
            <a:avLst>
              <a:gd name="adj1" fmla="val 546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8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65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0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E73-A457-4DBF-A38F-B5C942144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FAA-3BE4-43AA-8332-ACBD2E72E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CHAR(20), VARCHAR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 INT, BIGINT, SMALLINT,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: MONEY, DATETIM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attribute must have an atom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ables are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DFD0-90DD-40EC-B10C-283511505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unorderd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8-04-01T21:49:56Z</dcterms:modified>
  <cp:revision>268</cp:revision>
  <dc:subject/>
  <dc:title>PowerPoint Presentation</dc:title>
</cp:coreProperties>
</file>