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14800" cy="36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86400" y="-360"/>
            <a:ext cx="4114800" cy="36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59200" y="552240"/>
            <a:ext cx="3682800" cy="27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652F21-DDE8-4926-8403-6C170DDCE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B8BC2DC-69FF-4AF3-9CBD-CDBCD398D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C76E9AA-C763-43EE-A44D-280C47D3F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17B687B-80AD-499E-B3DE-64C37EEFA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F881904-6178-4EBF-8653-B9DD08AAF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Courier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CE93C3A-67A3-44A0-B2A1-F6B57A2E8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select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from Acto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where lname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</a:t>
            </a:r>
            <a:r>
              <a:rPr b="0" sz="1200" spc="-1" strike="noStrike">
                <a:solidFill>
                  <a:srgbClr val="ff0000"/>
                </a:solidFill>
                <a:latin typeface="Courier New"/>
              </a:rPr>
              <a:t>'Hanks'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Actor.id =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mid=Movie.id and Movie.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yea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DFCD1A0-CC62-4F8F-85F7-4DEDB8A92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BE41258-1BC2-489C-97D8-AABF52BC4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1504A15-60E9-4028-BFC9-40778ADAE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CDFB6BB-3D9C-4A47-9259-270405C5B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29B3D0C-02C7-44D5-AE18-9D7C91DB0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9679323-FCE8-4E91-AA4A-D769DC7DF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46589F7-F7AB-48BC-8087-AF1AF00CF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704698C-58D4-4064-B6E5-08B8EBC28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113FC26-8D98-49D3-8EA4-A01CD87CC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ED4DF1A-3B52-446E-B8F0-E586DDC86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7141159-A93D-4DF0-9319-94D5E5640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8CC3AC1-0DD4-4349-842E-40500D4C9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L = “Data Manipula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L = “Data Defini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25A328E-E8F0-4133-8A82-DE27A5DF1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9DAB1F4-73AD-494E-90ED-72DCB1435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2239E47-FA20-4007-84B4-2BE8346E6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C184006-CD46-4C55-87D5-1FD271CA7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4A6F736-C476-4180-B9C5-91A756CA8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35203DA-D8A6-4D6A-BE39-8161FAF74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FCDFA85-3ED1-4669-B789-B914F1B2A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7F34998-16FA-487A-8FB5-438360E1E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FB9E0D9-1A95-43D0-BD3D-9D3265295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601DE7-8A85-41C8-8F86-E0CF1A9CE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7CA0616-EA85-4FB4-B9BD-898F79EA3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BDC5CFE-7E47-4A72-BD3E-AD7959A37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2FE1A93-5DF2-4A4B-A2A2-D25512E36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486400" y="6937200"/>
            <a:ext cx="4114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406A5D2-D082-4C34-BCD6-FFE19EBAC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59200" y="552600"/>
            <a:ext cx="3682800" cy="2762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66840" y="3498840"/>
            <a:ext cx="7067520" cy="32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3CB-2345-419F-B067-31909848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E42-39CF-4B43-9210-4EED7AA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571-1841-441A-B2CA-621EA1E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E03-3113-4AA8-9E36-95C0886D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ABD-F493-429B-8B85-EEAE990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01A-A916-4D13-82C7-B0E0FAE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DDA-1E76-4961-AEDC-F34D172D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14B-51BA-4C25-94CF-68055B1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C8A-9CF1-4E49-B1E1-FC4993D4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FC0-9DA2-4D80-8298-B188749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5A3-4AD2-4654-BDA3-06FBD9F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246-237C-49A9-9EE8-7B2693B5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AAD-D016-4A81-97B4-E6346E334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B0D-A170-45D1-92FB-3FD3A2C15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31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F4F0-B782-484A-8B3A-A5657974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/C++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 (IBM), SQL Server (MS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BD46-D728-4650-9CDF-8714BB9DE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BMS Market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6, www.gartn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47% market share, $7.2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: 21% market share with $3.2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: 17% market with $2.6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CC6-7CBB-47F2-AF7D-3675FEE8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291-30EC-4E38-B0C4-138098FCE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D640-3C94-4B17-B4A2-30E930DDE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5FFC-FB12-4111-A2BE-300218C56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17B-A6FB-4A99-A7BE-B0EA384CD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092-821C-48E4-86D4-8D55D2BB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754880" y="1552320"/>
            <a:ext cx="4139280" cy="1172520"/>
          </a:xfrm>
          <a:prstGeom prst="wedgeEllipseCallout">
            <a:avLst>
              <a:gd name="adj1" fmla="val -100375"/>
              <a:gd name="adj2" fmla="val 6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 (grep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 are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5325480" y="2999880"/>
            <a:ext cx="2970000" cy="1172520"/>
          </a:xfrm>
          <a:prstGeom prst="wedgeEllipseCallout">
            <a:avLst>
              <a:gd name="adj1" fmla="val -91314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9854-E2E9-459A-AA54-1BB19DB3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5B6-A1DF-4E7F-9195-C6A3F924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918600" y="2820240"/>
            <a:ext cx="4812120" cy="496440"/>
          </a:xfrm>
          <a:prstGeom prst="wedgeRoundRectCallout">
            <a:avLst>
              <a:gd name="adj1" fmla="val -35773"/>
              <a:gd name="adj2" fmla="val 139129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s; inconsistent read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7924680" y="4115880"/>
            <a:ext cx="891000" cy="496440"/>
          </a:xfrm>
          <a:prstGeom prst="wedgeRoundRectCallout">
            <a:avLst>
              <a:gd name="adj1" fmla="val -101611"/>
              <a:gd name="adj2" fmla="val -4856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55160" y="5747040"/>
            <a:ext cx="3429000" cy="891000"/>
          </a:xfrm>
          <a:prstGeom prst="wedgeRoundRectCallout">
            <a:avLst>
              <a:gd name="adj1" fmla="val -38884"/>
              <a:gd name="adj2" fmla="val -91675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ulti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07E3-5687-482E-9516-9DD2C1DE4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Hal Per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E 548, perkins at 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Mon 4-4:30+, Wed 4:30-5:00+, CSE006 lab + dropins +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ei-hun Elizabeth Tseng, lachesis at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ckary Allred, jaerys at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 t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B15-EC7E-4998-AEDA-C4C51162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, #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, #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22576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B86-9659-4A26-AD36-CEA12302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5876640" y="2085480"/>
            <a:ext cx="2703600" cy="1172520"/>
          </a:xfrm>
          <a:prstGeom prst="wedgeEllipseCallout">
            <a:avLst>
              <a:gd name="adj1" fmla="val -111453"/>
              <a:gd name="adj2" fmla="val 31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831640" y="3793320"/>
            <a:ext cx="1811520" cy="652680"/>
          </a:xfrm>
          <a:prstGeom prst="wedgeEllipseCallout">
            <a:avLst>
              <a:gd name="adj1" fmla="val -91601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[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322960" y="4935240"/>
            <a:ext cx="3656160" cy="1172520"/>
          </a:xfrm>
          <a:prstGeom prst="wedgeEllipseCallout">
            <a:avLst>
              <a:gd name="adj1" fmla="val -94842"/>
              <a:gd name="adj2" fmla="val -12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/attribut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B76B-24EE-4458-B64E-B35BD8C7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2703960" y="5105520"/>
            <a:ext cx="3041280" cy="1692360"/>
          </a:xfrm>
          <a:prstGeom prst="wedgeEllipseCallout">
            <a:avLst>
              <a:gd name="adj1" fmla="val -29148"/>
              <a:gd name="adj2" fmla="val -56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3581280" y="2742840"/>
            <a:ext cx="2819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657600" y="38862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3809880" y="4572000"/>
            <a:ext cx="2895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118040" y="3429000"/>
            <a:ext cx="2125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BC, JD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0" descr="C:\Documents and Settings\perkins\Local Settings\Temporary Internet Files\Content.IE5\0OHVP7JK\MCj04114760000[1].wmf"/>
          <p:cNvPicPr/>
          <p:nvPr/>
        </p:nvPicPr>
        <p:blipFill>
          <a:blip r:embed="rId1"/>
          <a:stretch/>
        </p:blipFill>
        <p:spPr>
          <a:xfrm>
            <a:off x="6400800" y="2133720"/>
            <a:ext cx="1366920" cy="101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C:\Documents and Settings\perkins\Local Settings\Temporary Internet Files\Content.IE5\0L62EO6B\MPj04223000000[1].jpg"/>
          <p:cNvPicPr/>
          <p:nvPr/>
        </p:nvPicPr>
        <p:blipFill>
          <a:blip r:embed="rId2"/>
          <a:stretch/>
        </p:blipFill>
        <p:spPr>
          <a:xfrm>
            <a:off x="640080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C:\Documents and Settings\perkins\Local Settings\Temporary Internet Files\Content.IE5\QYEAXM5I\MPj04225540000[1].jpg"/>
          <p:cNvPicPr/>
          <p:nvPr/>
        </p:nvPicPr>
        <p:blipFill>
          <a:blip r:embed="rId3"/>
          <a:stretch/>
        </p:blipFill>
        <p:spPr>
          <a:xfrm>
            <a:off x="670572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C:\Documents and Settings\perkins\Local Settings\Temporary Internet Files\Content.IE5\0L62EO6B\MCj04242240000[1].wmf"/>
          <p:cNvPicPr/>
          <p:nvPr/>
        </p:nvPicPr>
        <p:blipFill>
          <a:blip r:embed="rId4"/>
          <a:stretch/>
        </p:blipFill>
        <p:spPr>
          <a:xfrm>
            <a:off x="2209680" y="3341520"/>
            <a:ext cx="91152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CE28-DF49-4873-8356-6E9502F49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61" name="AutoShape 56"/>
          <p:cNvSpPr/>
          <p:nvPr/>
        </p:nvSpPr>
        <p:spPr>
          <a:xfrm>
            <a:off x="6837120" y="1365840"/>
            <a:ext cx="20955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7"/>
          <p:cNvSpPr/>
          <p:nvPr/>
        </p:nvSpPr>
        <p:spPr>
          <a:xfrm>
            <a:off x="76320" y="533412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8"/>
          <p:cNvSpPr/>
          <p:nvPr/>
        </p:nvSpPr>
        <p:spPr>
          <a:xfrm>
            <a:off x="231480" y="5541840"/>
            <a:ext cx="2012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9"/>
          <p:cNvSpPr/>
          <p:nvPr/>
        </p:nvSpPr>
        <p:spPr>
          <a:xfrm>
            <a:off x="230760" y="6151680"/>
            <a:ext cx="38422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nam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0"/>
          <p:cNvSpPr/>
          <p:nvPr/>
        </p:nvSpPr>
        <p:spPr>
          <a:xfrm>
            <a:off x="2599200" y="5541840"/>
            <a:ext cx="34704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ws_titl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1"/>
          <p:cNvSpPr/>
          <p:nvPr/>
        </p:nvSpPr>
        <p:spPr>
          <a:xfrm>
            <a:off x="4344840" y="6151680"/>
            <a:ext cx="1724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2"/>
          <p:cNvSpPr/>
          <p:nvPr/>
        </p:nvSpPr>
        <p:spPr>
          <a:xfrm>
            <a:off x="6703920" y="6106320"/>
            <a:ext cx="22161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B55-E356-4F9D-965A-D5F05C0D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708240" y="2210760"/>
            <a:ext cx="1628280" cy="496440"/>
          </a:xfrm>
          <a:prstGeom prst="wedgeRoundRectCallout">
            <a:avLst>
              <a:gd name="adj1" fmla="val -130013"/>
              <a:gd name="adj2" fmla="val 87314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6707520" y="3160080"/>
            <a:ext cx="1572120" cy="496440"/>
          </a:xfrm>
          <a:prstGeom prst="wedgeRoundRectCallout">
            <a:avLst>
              <a:gd name="adj1" fmla="val -127472"/>
              <a:gd name="adj2" fmla="val 15287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931800" y="4115160"/>
            <a:ext cx="1880280" cy="891000"/>
          </a:xfrm>
          <a:prstGeom prst="wedgeRoundRectCallout">
            <a:avLst>
              <a:gd name="adj1" fmla="val -96476"/>
              <a:gd name="adj2" fmla="val -17611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2970360" y="5792040"/>
            <a:ext cx="3030480" cy="496440"/>
          </a:xfrm>
          <a:prstGeom prst="wedgeRoundRectCallout">
            <a:avLst>
              <a:gd name="adj1" fmla="val -54203"/>
              <a:gd name="adj2" fmla="val -16543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, Revoke,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C8D0-8AE2-40B6-9D05-69AE04E6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- TENTATIVE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31: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7: Views, Constraints, SQL in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14: Database Design: E/R, 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21: XML/XPath/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28: Midterm,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5: Transactions, recovery,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19: Database storage, indexes, query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28:  Physical operators,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 on web site – updated as we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3E9-9911-4D3B-B139-A6E8C93C4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 (TENTATI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mework 3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ject        2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dterm     1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          2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angibles:   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 days: Up to 4 total per quarter, at most 2 on any particular assignment/project phase.  Otherwi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 late assignment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E677-8A43-4B28-8D04-4F71241FB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 for Fri, Sept.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 (link on the course we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one-time assignment, no grading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ctive and lots of fun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558-BCEC-4E3F-8596-A90C279C0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this Friday!  (Don’t panic – page with your name/picture/etc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1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April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t is posted already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ceptual design: E/R diagrams, Normal For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April 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3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XML/Xque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May 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work 4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ansactions: concurrency control and recove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May 2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3C30-795B-4669-BC47-1521C2CE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tique Online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3059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rtner details; due middle of next we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sign a Database Schema, Build Related Data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April 1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2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data, Web Inventory Data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May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3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heckout 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May 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4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atabase Tunin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ue Friday, May 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1B9-55FA-4260-A755-273022D61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b site: www.cs.washington.edu/44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tures available here (usually the morning before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work posted here (HW0 &amp; HW1 are posted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description is also here (Project phases 0 and 1 are posted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scussion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linked from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watch,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iling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automatically sub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ly for announcements from course staff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D9B-2FBC-4369-AFCA-9B101DF2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erver, C#,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provide starter code in C#,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ort data is in SQL/XML o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echnologies: MySQL, postgres, PH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upport or encouraged.  Talk to instructor if you think you have a compelling reason for even considering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gious commitment to LAMP is not a compelling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4C5-BA8E-407A-86BC-6AD369341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SQL Server – To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Name = IISQLSR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n = your UW CSE login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word = 2008#cse4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your password on first login (must be “secure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ails on the course w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play with IMDB, start thinking about HW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til Next Ti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on to SQL server – let us k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you ha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partner for the project (all quar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homewor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reading about SQL online and in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9BC-4995-430B-941F-962EA6FCC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614E-6189-440B-AA72-D1CA47DC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hapters are good.  Some are not as great (functional dependencie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41F-1931-4EB9-B07E-83C7D5319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at the Engineering Library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ser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alms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A788-8657-4D7B-AA41-E0886FE2E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through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s 0 &amp; 1, Project phases 0 &amp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C3A1-1BD3-42AD-86B1-E7CB227A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52D1-5349-4D72-AF8B-91745C0D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5302-B48F-4DF2-A378-B1254973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Hal Perkins</cp:lastModifiedBy>
  <cp:lastPrinted>1998-09-26T21:35:18Z</cp:lastPrinted>
  <dcterms:modified xsi:type="dcterms:W3CDTF">2008-03-31T03:35:08Z</dcterms:modified>
  <cp:revision>548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